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211-5169-46BE-A09F-8B666760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CDF-1DC8-4C63-B23A-6C43FE50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CCF-D762-411F-98A3-EA5BB06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26-022C-4C31-8A57-1DF29AEB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01F-035C-49C4-94C4-47293164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190-1698-4F7C-A633-E88A2048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4F0-CE8F-48E7-9747-CADC365B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635-BD12-4191-80A7-4F66D767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0CE-7AEE-46FE-9ED4-DBC0E6D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023-FB5E-45EB-922E-81E0E3F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C62-A71B-4670-A0A1-F436E13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4EF-9490-4927-B3C1-CD179BA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6B0-96F7-4BB1-AC94-4BBB808B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e la calidad de las relaciones laborales afectar la calidad del produ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rueger y Mas analizan esta pregunta para el caso particular de los neumáticos Bridgestone/Firestone que presentaron fallas importantes e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los encuentran que los neumáticos provenientes de una planta que había tenido conflictos laborales al momento de producción están sobre-representados en el número de neumáticos que presenta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62360" cy="6343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27640" y="333360"/>
            <a:ext cx="2592360" cy="64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s: Standard errors in parentheses. Standard deviations of dependent variable in bracket s. Dependent variable corresponds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idents per year of production, plant of production and calendar year of failure. Incidents in the NHTSA data set (columns 4-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 Janu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. Proportion Original Equipment denotes the proportion of tires produced in the cell that were original equipment for For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ury, or Mazda vehicles. Proportion ATX denotes the proportion of tires produced in the cell that were ATX tires. To adjust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omplete reporting in the NHTSA data set, missing values were imputed by assigning values from other observations with comp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, conditional on available data. Ten imputed data sets were generated. Reported estimates were obtained by averaging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s derived from each imputed data set. Standard errors were calculated by taking the square root of the sum of the ave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epresents the scaling parameter for the conditional variance in the negative binomial model. The conditional varia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egative binomial model equals the conditional variance of the Poisson model when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als zero. Starred values of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dic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we can reject the null hypothesis that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quals zero at a .05 level with the likelihood ratio te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23736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720720"/>
            <a:ext cx="64087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512720"/>
            <a:ext cx="669780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1133640"/>
            <a:ext cx="662616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715000" cy="1342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5720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92360" y="4076640"/>
            <a:ext cx="55339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14480"/>
            <a:ext cx="58197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47800" y="204840"/>
            <a:ext cx="5648400" cy="64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98900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ia preliminar de sobre-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56272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0"/>
            <a:ext cx="2592360" cy="70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 Robust standard errors in parentheses. Standard deviations of dependent variable in brackets. Dependent variable corresp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cidents per year of production, plant of production and calendar year of failure. Incidents in the NHTSA data set (columns 4-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000. Proportion Original Equipment denotes the proportion of tires produced in the cell that were original equipmen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d, Mercury, or Mazda vehicles. Proportion ATX denotes the proportion of tires produced in the cell that were ATX tires. To 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complete reporting in the NHTSA data set, missing values were imputed by assigning values from other observation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data, conditional on available data. Ten imputed data sets were generated. Reported estimates were obtained by aver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stimates derived from each imputed data set. Standard errors were calculated by taking the square root of the sum of the 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76240" y="1523880"/>
            <a:ext cx="5591520" cy="381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263700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27664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299736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53:05Z</dcterms:created>
  <dc:creator>Gonzalo Reyes</dc:creator>
  <dc:description/>
  <dc:language>en-US</dc:language>
  <cp:lastModifiedBy>Gonzalo Reyes</cp:lastModifiedBy>
  <dcterms:modified xsi:type="dcterms:W3CDTF">2005-11-08T19:17:25Z</dcterms:modified>
  <cp:revision>4</cp:revision>
  <dc:subject/>
  <dc:title>¿Puede la calidad de las relaciones laborales afectar la calidad del producto ?</dc:title>
</cp:coreProperties>
</file>