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F39-CAE1-4239-88C7-7210C345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B1D-5561-43A5-A37E-460BEF76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100-CA32-436A-A0BB-FE69466C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AD40-EA8F-45AC-BBED-F59143AF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E11-85AD-4DA7-8F03-C98D9F5D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E71-08E4-4162-AC85-5D74992E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AAC-AD22-470A-AEBF-D08943D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18F-8F47-4511-83D8-FB93586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BA6-584C-478D-8B5D-77C9FF6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9A8-1F87-43B3-A4B7-F46335F2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A7D-00B3-41CD-AE4A-103E48F4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B5C-7C85-43A5-9698-E110E85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450-CEBF-49CD-BD54-81983960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de la calidad de las relaciones laborales afectar la calidad del produ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Krueger y Mas analizan esta pregunta para el caso particular de los neumáticos Bridgestone/Firestone que presentaron fallas importantes e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los encuentran que los neumáticos provenientes de una planta que había tenido conflictos laborales al momento de producción están sobre-representados en el número de neumáticos que presenta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62360" cy="6343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227640" y="333360"/>
            <a:ext cx="2592360" cy="64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s: Standard errors in parentheses. Standard deviations of dependent variable in bracket s. Dependent variable corresponds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idents per year of production, plant of production and calendar year of failure. Incidents in the NHTSA data set (columns 4-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 Janu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. Proportion Original Equipment denotes the proportion of tires produced in the cell that were original equipment for Ford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rcury, or Mazda vehicles. Proportion ATX denotes the proportion of tires produced in the cell that were ATX tires. To adjust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omplete reporting in the NHTSA data set, missing values were imputed by assigning values from other observations with compl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, conditional on available data. Ten imputed data sets were generated. Reported estimates were obtained by averaging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s derived from each imputed data set. Standard errors were calculated by taking the square root of the sum of the ave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epresents the scaling parameter for the conditional variance in the negative binomial model. The conditional varia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negative binomial model equals the conditional variance of the Poisson model when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als zero. Starred values of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ndic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we can reject the null hypothesis that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quals zero at a .05 level with the likelihood ratio te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23736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720720"/>
            <a:ext cx="64087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512720"/>
            <a:ext cx="669780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1133640"/>
            <a:ext cx="662616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715000" cy="1342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55720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92360" y="4076640"/>
            <a:ext cx="55339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14480"/>
            <a:ext cx="58197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47800" y="204840"/>
            <a:ext cx="5648400" cy="6448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989000"/>
            <a:ext cx="17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ia preliminar de sobre-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5562720" cy="662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56360" y="0"/>
            <a:ext cx="2592360" cy="70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 Robust standard errors in parentheses. Standard deviations of dependent variable in brackets. Dependent variable corresp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cidents per year of production, plant of production and calendar year of failure. Incidents in the NHTSA data set (columns 4-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spond to reporting periods prior to August 2000, for failures occurring between January 1991 and December 1999. Incident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estone Claims data set (columns 1-3) occurred between January 1991 and December 1999 and claims were made 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nuary 2000. Proportion Original Equipment denotes the proportion of tires produced in the cell that were original equipmen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d, Mercury, or Mazda vehicles. Proportion ATX denotes the proportion of tires produced in the cell that were ATX tires. To 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complete reporting in the NHTSA data set, missing values were imputed by assigning values from other observation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data, conditional on available data. Ten imputed data sets were generated. Reported estimates were obtained by aver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stimates derived from each imputed data set. Standard errors were calculated by taking the square root of the sum of the ave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variance across data sets and the variance of the estimates across the ten imputed data sets (to account for variability du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utation). Other summary statistics reported for columns 4-6 are the average of the estimates across the imputed data s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76240" y="1523880"/>
            <a:ext cx="5591520" cy="381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263700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227664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2997360"/>
            <a:ext cx="3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53:05Z</dcterms:created>
  <dc:creator>Gonzalo Reyes</dc:creator>
  <dc:description/>
  <dc:language>en-US</dc:language>
  <cp:lastModifiedBy>Gonzalo Reyes</cp:lastModifiedBy>
  <dcterms:modified xsi:type="dcterms:W3CDTF">2005-11-08T19:17:25Z</dcterms:modified>
  <cp:revision>4</cp:revision>
  <dc:subject/>
  <dc:title>¿Puede la calidad de las relaciones laborales afectar la calidad del producto ?</dc:title>
</cp:coreProperties>
</file>