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30a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"/>
          <p:cNvSpPr/>
          <p:nvPr/>
        </p:nvSpPr>
        <p:spPr>
          <a:xfrm>
            <a:off x="971640" y="6521400"/>
            <a:ext cx="70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Lucida Sans"/>
              </a:rPr>
              <a:t>IN72K – Tecnologías de información y rediseño de 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826920" y="1916280"/>
            <a:ext cx="74901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Lucida Sans"/>
              </a:rPr>
              <a:t>IN72k</a:t>
            </a:r>
            <a:br>
              <a:rPr sz="72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Tecnologías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información</a:t>
            </a:r>
            <a:r>
              <a:rPr b="0" lang="en-US" sz="2500" spc="-1" strike="noStrike">
                <a:solidFill>
                  <a:srgbClr val="000000"/>
                </a:solidFill>
                <a:latin typeface="Lucida Sans"/>
              </a:rPr>
              <a:t> y rediseño de </a:t>
            </a: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procesos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000000"/>
                </a:solidFill>
                <a:latin typeface="Lucida Sans"/>
              </a:rPr>
              <a:t>Auxiliar 1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0" y="6165360"/>
            <a:ext cx="9072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"/>
              </a:rPr>
              <a:t>09 de Noviembre de 2005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"/>
          <p:cNvSpPr/>
          <p:nvPr/>
        </p:nvSpPr>
        <p:spPr>
          <a:xfrm>
            <a:off x="5076720" y="5157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Prof. Aux.: Matías Pulido S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"/>
              </a:rPr>
              <a:t>mpulido@dii.uchile.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4680" y="2938320"/>
            <a:ext cx="94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4360" y="765000"/>
          <a:ext cx="83844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765000"/>
                    <a:ext cx="8384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836640"/>
          <a:ext cx="4454640" cy="914400"/>
        </p:xfrm>
        <a:graphic>
          <a:graphicData uri="http://schemas.openxmlformats.org/drawingml/2006/table">
            <a:tbl>
              <a:tblPr/>
              <a:tblGrid>
                <a:gridCol w="944640"/>
                <a:gridCol w="3510000"/>
              </a:tblGrid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NewsGoth Lt BT"/>
                          <a:ea typeface="Times New Roman"/>
                        </a:rPr>
                        <a:t>FACULTAD DE CIENCIAS FÍSICAS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O 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íster en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ón de </a:t>
                      </a: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Plone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MS basado en zope, servidor web orientado a obje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mbos programados en lenguaje pytho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osee un poderoso y flexible sistema workflow basado en object states y user rol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Object stat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Existen 4: visible, pendiente, publicado y privad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Determina accesibilidad al objeto para los distintos tipos de clien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Determina a que estados puede transicionar el objet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Plone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User role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Existen 4: anónimo, member, owner, reviewer y manag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Anónimo: Navegante corriente de la web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Member: Puede crear contenido en su carpeta la cual será revisada por los reviewer para su publicación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Reviewer: Deciden si publicar o rechazar el contenido propuesto por los usuarios. Las propuestas llegan automáticamente a su cuenta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Owner: Permite a los members ser dueños de los que publican permitiendo editar, subir o hacer privado los contenidos creado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Manager: Tienen acceso a todos los object states. Además pueden manejar todos los contenidos y designar user rol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Ocupando Plone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brir archivo plone debug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brir Plone controller y presionar start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4000" y="3068640"/>
            <a:ext cx="45910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Ocupando Plone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orts: Permite especificar los puertos a través de los cuales se van a recibir las conexiones entran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124000" y="3068640"/>
            <a:ext cx="45720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00000" y="1638360"/>
            <a:ext cx="7344000" cy="521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Ocupando Plone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Usuari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oseen carpetas personales donde pueden crear y almacenar contenid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Interacción con site personalizable (e-mail, editor de contenidos corporativo, ayuda, look, etc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dición web de documen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Nombre, título, descripción, body text (estructurado, html, texto plano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Upload de documentos personal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etadatos (propiedades sobre documentos)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Permisos de discusión, palabras clave, fecha de publicación y expiración, formato MIME, lenguaje, derechos y contribuyent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Usuari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ublicación de documen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Documentos son creados pero no son visibles a otros usuarios si no son publicado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eleccionar state tab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e puede asignar fecha de publicación, expiración, comentarios y cambiar estad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Documentos quedan pendientes a espera de la aprobación de administrador quien puede editarlo, cambiarle plazos, publicarlo o rechazarl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Usuario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Objetos publicados pueden admitir discusión por parte de otros usuarios (se debe activar la opción en propiedades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xisten dos opciones de búsqueda de objeto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Búsqueda simp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Búsqueda avanzada (title, key words, description, review state, creation date, content type and author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Plone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Es grati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Requiere servidores desde 500 GHZ y y 64 ram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lientes solo necesitan web browser sin importar ubicación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Es customizable según necesidades corporativas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Ultimu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424720" cy="525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Agenda 09 Noviembre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Tecnologías de coordin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lone y Ultimu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as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odelamiento matemático de workflow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Ultimu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ontiene distintos módulos que apoyan la implementació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ervidor workflow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Diseñador de proces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odelador de proces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nstructo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Diseñador de organigrama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ódulo de documentació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Módulo de repor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Interfaz usuario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Ultimu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87280" y="1625760"/>
            <a:ext cx="6193080" cy="52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pperplate30ab"/>
              </a:rPr>
              <a:t>Caso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rechos Reservados ©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"/>
              </a:rPr>
              <a:t>Breve rep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stado del arte en Workflow: Bajo esfuerzo en programación óptima de recursos y ejecucion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olución: Problema de optimización en hipergrafo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aracterización del problema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Hipernodos o vértices v representan evento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Hiperarcos representan qué hacer frente a evento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Vector de pesos sobre hiperarcos representan recursos (ejemplo: costos o tiempos de ejecución)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Hiper-rutas representan alternativas de ejecució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Problema de optimización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Encontrar ejecución óptima en término de recurso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Breve Rep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458200" cy="27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a ruta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Lucida Sans"/>
              </a:rPr>
              <a:t>st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de largo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"/>
              </a:rPr>
              <a:t>q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en un hipergrafo G = (V,E) es una secuencia de nodos e hiperarco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Una F-hiperut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Lucida Sans"/>
              </a:rPr>
              <a:t>st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es un hipergrafo minimal G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 =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, 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"/>
              </a:rPr>
              <a:t>), tal qu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619280" y="2421000"/>
                <a:ext cx="66038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752480" y="4076640"/>
                <a:ext cx="5911920" cy="21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⊆</m:t>
                        </m:r>
                        <m:r>
                          <m:t xml:space="preserve">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/>
                          <m: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Π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⊆</m:t>
                        </m:r>
                        <m:r>
                          <m:t xml:space="preserve">V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sta conectado a </m:t>
                        </m:r>
                        <m:r>
                          <m:rPr>
                            <m:lit/>
                            <m:nor/>
                          </m:rPr>
                          <m:t xml:space="preserve">s </m:t>
                        </m:r>
                        <m:r>
                          <m:rPr>
                            <m:lit/>
                            <m:nor/>
                          </m:rPr>
                          <m:t xml:space="preserve">por medi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de una ruta simple acíclic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Breve Rep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51000" y="1981080"/>
            <a:ext cx="6642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"/>
              </a:rPr>
              <a:t>Breve Repaso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0" y="2781360"/>
                <a:ext cx="3851280" cy="29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a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y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rPr>
                            <m:lit/>
                            <m:nor/>
                          </m:rPr>
                          <m:t xml:space="preserve">each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&gt;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[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03360" y="5877000"/>
            <a:ext cx="79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FS(i) es el conjunto de los hiperarcos que salen del n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880" y="17175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lgoritmo para resolver el proble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Optimización caso sin restricciones (Enfoque Backw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348000" y="3284640"/>
                <a:ext cx="57960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pperplate30ab"/>
              </a:rPr>
              <a:t>Tecnologías de coordinación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rechos Reservados ©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pperplate30ab"/>
              </a:rPr>
              <a:t>Tecnologías de coordinación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8000" y="1981080"/>
          <a:ext cx="8856720" cy="4308480"/>
        </p:xfrm>
        <a:graphic>
          <a:graphicData uri="http://schemas.openxmlformats.org/drawingml/2006/table">
            <a:tbl>
              <a:tblPr/>
              <a:tblGrid>
                <a:gridCol w="4464000"/>
                <a:gridCol w="4392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Groupw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Workf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cnología que permite compartir por parte de usuarios en red, una base de datos de documentos a través de un kar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lectróni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Tecnología similar al Groupwar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que permite hacer fluir 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ocumentos, en for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utomática, entre usuarios 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comparten una aplic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lujo manual de doc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lujo automátic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signació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signación autom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o hay reg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Reglas se programan: Roles, Ruta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rogramació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Programació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pperplate30ab"/>
              </a:rPr>
              <a:t>Valor de un workflow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utomatización de procesos de coordinació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Eliminación de tiempos muerto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eguimien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Control de gestión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ntrol de métricas: Alarma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Gestión: QUÉ hace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Asignación clara de responsabilidad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pperplate30ab"/>
              </a:rPr>
              <a:t>Costo de un workflow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roblemas de incompatibilida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Inversión en implementación (SW, Capacitación, Adaptación, etc.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Inversión tecnológica (equipo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Problemas de adaptación (situaciones imprevistas, rigidez estructural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Resistencia cultur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pperplate30ab"/>
              </a:rPr>
              <a:t>Plone y Ultimus</a:t>
            </a:r>
            <a:endParaRPr b="0" lang="en-US" sz="44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"/>
              </a:rPr>
              <a:t>Derechos Reservados ©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PLONE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CM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Qué es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MS (Content managment syste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Permite manejar contenid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Dos distinciones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Web base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Lucida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Non web based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pperplate30ab"/>
              </a:rPr>
              <a:t>Web based CMS</a:t>
            </a:r>
            <a:endParaRPr b="0" lang="en-US" sz="3200" spc="-1" strike="noStrike">
              <a:solidFill>
                <a:srgbClr val="000000"/>
              </a:solidFill>
              <a:latin typeface="Copperplate30a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Diferencias con herramientas de diseño web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No requiere de lenguaje de programación ni de software necesario en el momento de programar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nsistencia en el formato corporativ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Control de workflow más efectivo, seguro y con mejores estándares de calidad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Distintas versiones de documentos automáticamente guardadas para mejor auditorí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9:24:10Z</dcterms:created>
  <dc:creator>Laura Bergells</dc:creator>
  <dc:description>Visit www.maniactive.com for Free PowerPoint Templates.</dc:description>
  <dc:language>en-US</dc:language>
  <cp:lastModifiedBy>Matías</cp:lastModifiedBy>
  <dcterms:modified xsi:type="dcterms:W3CDTF">2005-11-09T05:54:40Z</dcterms:modified>
  <cp:revision>371</cp:revision>
  <dc:subject/>
  <dc:title>Lead Follow-Up: Hot, Warm &amp; Cold  CRM Conference,  October 2001 </dc:title>
</cp:coreProperties>
</file>