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1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02 de Noviembre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Localizacione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endo las localizaciones definimos la estructura estática d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localización representa un lugar fijo en donde las entidades realizan alguna actividad: caja, mesón, maquina, 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stán caracterizados principalmente por un icono, un nombre y una capacida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calización especial: Cola. Las entidades esperan y se mueven en la col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les puede asignar contadores, etiquetas, sitios, luz de estado, 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Entidade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entidad es un elemento que fluye por la malla realizando actividades y modificando las variables d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jemplos: clientes, vehículos, produc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stán caracterizados principalmente por un icono, un nombre y una velocida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Proces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endo los procesos definimos las distintas rutas lógicas que pueden seguir las entidades a través del sistema y las actividades que van realizando en ell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procesos están caracterizados por una entidad que realiza la actividad, un localización donde la realiza y el conjunto de operaciones que definen el proceso. Adicionalmente se debe especificar una localización de destino  a la que se dirige la entidad al terminar el procesamiento y las acciones que realiza en dicho movimien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 los procesos debe programarse la gran parte de la lógica d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Lógic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84720" y="4076640"/>
          <a:ext cx="205740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4076640"/>
                    <a:ext cx="20574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6156360" y="2133720"/>
            <a:ext cx="1762200" cy="2468520"/>
            <a:chOff x="6156360" y="2133720"/>
            <a:chExt cx="1762200" cy="2468520"/>
          </a:xfrm>
        </p:grpSpPr>
        <p:graphicFrame>
          <p:nvGraphicFramePr>
            <p:cNvPr id="77" name=""/>
            <p:cNvGraphicFramePr/>
            <p:nvPr/>
          </p:nvGraphicFramePr>
          <p:xfrm>
            <a:off x="6156360" y="2133720"/>
            <a:ext cx="1762200" cy="11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56360" y="2133720"/>
                      <a:ext cx="1762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7237440" y="4314960"/>
              <a:ext cx="287280" cy="287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6877080" y="3212640"/>
              <a:ext cx="50328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47640" y="2852640"/>
            <a:ext cx="5688360" cy="3103560"/>
            <a:chOff x="1547640" y="2852640"/>
            <a:chExt cx="5688360" cy="3103560"/>
          </a:xfrm>
        </p:grpSpPr>
        <p:graphicFrame>
          <p:nvGraphicFramePr>
            <p:cNvPr id="82" name=""/>
            <p:cNvGraphicFramePr/>
            <p:nvPr/>
          </p:nvGraphicFramePr>
          <p:xfrm>
            <a:off x="1547640" y="2852640"/>
            <a:ext cx="2951280" cy="3103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47640" y="2852640"/>
                      <a:ext cx="2951280" cy="31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 flipH="1" flipV="1">
              <a:off x="4427280" y="3428640"/>
              <a:ext cx="2592360" cy="86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8360" y="4314960"/>
              <a:ext cx="287640" cy="287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Llegad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n las localizaciones y procesos hemos definido una malla lógica a través de la cual las entidades pueden circular. Con las llegadas definimos como esta malla se ve alimentada con entidad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llegada queda definida por el tipo de entidad que llega, la localización a donde lo hace, la cantidad que llega cada vez y la frecuencia en que llegan. Adicionalmente se debe especificar un instante (en tiempo de simulación) en que ocurrirá el primer arrib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Uso de Obje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 general, como en cualquier problema de modelación no existen recetas generales para modelar un sistema: solo se cuenta con un conjunto de piezas y es labor del modelador disponerlas en la manera adecuada para describir la lógica d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ualquier receta que pueda entregarse es solo referenci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Receta Gener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r las localizaciones en donde puede ocurrir alguna activida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r las posibles entidades que pueden circular por 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r las rutas que puede seguir cada entidad, programando la lógica asociada a cada localizacion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r el régimen de llegadas de las entidades a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Ejemplo 1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11280" y="1773360"/>
          <a:ext cx="5616720" cy="46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773360"/>
                    <a:ext cx="561672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Recurs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 recurso es un objeto con una capacidad finita del cual las entidades que fluyen por el sistema pueden hacer uso para realizar una activida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 recurso puede asignarse y moverse dinámicamente en tiempo de simulación. Estas características entregan gran flexibilidad en la capacidad de modelamien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 recurso queda definido por un icono, un nombre y una cantidad de recurso. Adicionalmente se pueden agregar tiempos de falla y asignarle una ruta de recurso (path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Rut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sí como las entidades se mueven siguiendo las rutas definidas por los procesos, los recursos se pueden mover de acuerdo a un tipo particular de red de rut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 recurso se moverá por una red de ruta según las entidades lo requiera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red de ruta de recurso suele comunicar un conjunto de localizaciones donde el recurso puede ser requer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red de ruta queda definido por un nombre, un conjunto de segmentos de red y las localizaciones a las que comunic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Agenda 02 Noviembr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pacity plan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rvi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 real Call Cen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lución al ca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Variables globales y de entidad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 aplicación provee un conjunto de variablesy funciones predefinidas de las cuales podemos hacer uso. Adicionalmente, podemos definir nuestras propias variabl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"/>
              </a:rPr>
              <a:t>Globale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: almacenan un valor relevante para todo 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"/>
              </a:rPr>
              <a:t>Entidad: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almacena un valor para cada entidad en 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valor de estas variables puede verse dinámicamente y al final del tiempo de simul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Análisis de resultad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or cada simulación podemos obtener observaciones y gráficos de las variables de desempeño que nos parezcan relevantes (largos de cola, tiempos de espera, clientes perdidos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32360" y="2216160"/>
          <a:ext cx="29750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216160"/>
                    <a:ext cx="2975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94440" y="2541600"/>
          <a:ext cx="2952720" cy="216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94440" y="2541600"/>
                    <a:ext cx="295272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64000" y="2901960"/>
          <a:ext cx="3168720" cy="23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2901960"/>
                    <a:ext cx="31687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626080" y="3260880"/>
          <a:ext cx="3267000" cy="24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26080" y="3260880"/>
                    <a:ext cx="326700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Caso Call Center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 Call Center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4437000"/>
                <a:ext cx="46814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Cμ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1773360"/>
                <a:ext cx="4537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  <m:r>
                          <m:t xml:space="preserve">!</m:t>
                        </m:r>
                        <m:r>
                          <m:t xml:space="preserve">C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Cμ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19280" y="3573360"/>
                <a:ext cx="1368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λ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7640" y="2009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pperplate30ab"/>
              </a:rPr>
              <a:t>Caso Call Center</a:t>
            </a:r>
            <a:endParaRPr b="0" lang="en-US" sz="36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2) Modelo de colas no es po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odelo alternativo: Cadenas de Markov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Difíc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3) Utilizando Service Model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efinir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Localizaciones (telefonistas, cola espera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Entities (clien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Atributes (tiempos de llegada y atención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Arrivals (llegadas de clien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rocessing (leyes que rigen la espera y duración de atención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Variables global (contadores para estimar métrica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pperplate30ab"/>
              </a:rPr>
              <a:t>Caso Call Center</a:t>
            </a:r>
            <a:endParaRPr b="0" lang="en-US" sz="36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4537080" cy="2238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4537080" cy="2238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3068640"/>
            <a:ext cx="4643280" cy="2300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1413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Variación de la tasa de llegada en función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pperplate30ab"/>
              </a:rPr>
              <a:t>Caso Call Center</a:t>
            </a:r>
            <a:endParaRPr b="0" lang="en-US" sz="36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5) Suponiend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2 bloques de alta demanda, cada uno de dos hor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Al comienzo de cada uno no hay personas en el sistem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Y ocupando el modelo de simulación de la parte 3)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Lucida San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ivel de servicio 65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Lucida San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ivel de servicio 6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Lucida San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ivel de servicio 66% (con 16 telefonista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Lucida San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os tipos de entidades, modificar dinámica de espera en processing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lanificación de capacidad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Planificación de la capacidad es el proceso de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predecir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cuándo los niveles de servicio serán violados como función de la evolución de la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carga de trabajo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, así como la determinación de la forma más efectiva de demorar dicha satur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71640" y="4149720"/>
          <a:ext cx="431964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4149720"/>
                    <a:ext cx="4319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086520" y="5950080"/>
            <a:ext cx="15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úmer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5157720"/>
            <a:ext cx="13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ivel de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Importanci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segura coherencia entre estrategia y operacion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focada en el client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spaldo a decisiones estratégicas, tácticas y operacional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Herramienta útil para evaluar alternativas en </a:t>
            </a:r>
            <a:r>
              <a:rPr b="0" i="1" lang="es-ES" sz="2400" spc="-1" strike="noStrike">
                <a:solidFill>
                  <a:srgbClr val="000000"/>
                </a:solidFill>
                <a:latin typeface="Lucida Sans"/>
              </a:rPr>
              <a:t>rediseño de procesos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01760" y="1981080"/>
            <a:ext cx="6540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Enfoques de predicción de desempeñ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uál ocupa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es posible ocupar modelos analític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sar modelos analítico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un primer análi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problemas sencillo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reducir escenarios a sim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sar simulació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problemas complicado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situaciones dinámica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Service Model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rvice Model nos proporciona un conjunto de objetos de uso frecuente que podemos usar para describir la lógica del sistem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dicionalmente, cuenta con un lenguaje de programación propietario sencillo para definir acciones especific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n estos elementos debemos definir una malla con la lógica de funcionamiento del sistema, por la cual fluirán entidades realizando distintas actividad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l simular hacemos un experimento probabilistico en el que las entidades realizan las actividades definidas y nos entregan una observación de las variables relevantes del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pperplate30ab"/>
              </a:rPr>
              <a:t>Service model: Obje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caliza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tida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utas para los recurs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rocesos o activida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legad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Horari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Variables glob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rregl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acr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ubrutin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iclos de Llegad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ción de fun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finición de distribu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dministrador de semill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atías</cp:lastModifiedBy>
  <dcterms:modified xsi:type="dcterms:W3CDTF">2005-11-02T18:17:12Z</dcterms:modified>
  <cp:revision>322</cp:revision>
  <dc:subject/>
  <dc:title>Lead Follow-Up: Hot, Warm &amp; Cold  CRM Conference,  October 2001 </dc:title>
</cp:coreProperties>
</file>