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F1921-B1B2-47D8-9985-FC7E0189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E209B-5CBC-4B23-AF1B-ABC4B895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B13FF-DC4D-411F-B624-4CC811D7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04F1D-372B-4BF0-AADE-A9D86389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BE952-7BE3-462F-84BB-398FABAF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7DA3A-6ACB-4F97-B96F-A690EFD8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D6EFF-3C24-43D3-BA9E-692DB291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DA85A-8DBE-40D0-BC4C-707896AE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DB642-22FA-4446-BAD7-5BC2EA07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3ABF1-9ECD-4CC6-B9FE-416035BE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23143-F83E-4DAF-BF51-7539BE7B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1EF35-42BE-4B0A-A50D-12883ECC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72K, Tecnologías de Información y Rediseño de Procesos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D002-960C-4DC8-9643-2725D6400A7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odelamiento 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38120" y="1885680"/>
            <a:ext cx="4876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trola la ejecución concurrente de transa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jecuta: envía la operación al Administrador de dato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chaza: no permite realizar una operación (abort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mora: demora la operación colocandola en una cola de ejecución hasta que sea convenient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91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Regla de asign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el grupo formado busco el máximo de las VN de los sitios (VN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n el SC de dichos sitios reviso la condición          + 1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Nº sitios con VN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 =&gt; hago up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o =&gt; no hay up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132000" y="3633840"/>
                <a:ext cx="1008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"/>
          <p:cNvSpPr/>
          <p:nvPr/>
        </p:nvSpPr>
        <p:spPr>
          <a:xfrm>
            <a:off x="898560" y="1916280"/>
            <a:ext cx="52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 9           9             9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5            5            5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3880" y="303696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10         10          10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3            3            3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60800" y="3022560"/>
            <a:ext cx="0" cy="110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70680" y="306396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lega una actualización al sit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05040" y="424980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11         11          10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2            2            3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071960" y="43322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081840" y="427680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lega una actualización al sit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9560" y="4290840"/>
            <a:ext cx="0" cy="1051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0400" y="550548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 CDE se juntan ¿pueden realizar un upd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yor Disponi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44520" y="2036520"/>
            <a:ext cx="861048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plicar datos genera un problema adicional de coordinación y re-actual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isten tecnologías (ejm. Oracle) que permite es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ctual tendencia es descentralizar las actividades (locales) con un mínimo de multi-coordin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920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sistemas distribuidos son una realidad, y serán la forma de trabajo en el futu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xiste tecnología que los apoya, pero es necesario evaluar cual de ellas es la más adecuada en cada ca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tendencia es a la delegación de funciones localmente con algún grado de multi-coordin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ecuper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278240" y="1898280"/>
            <a:ext cx="46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le por asegurar que la base de datos tiene los efectos de las transacciones que han ejecutado commit, y ninguno de los efectos de las abortada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diseñado para resistir las fallas y recuperar los efectos existentes en la memoria voláti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71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Fallas Típ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oftware o procesamiento que causan que la base de datos sea detenida y reinici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lmacenamiento que hacen imposible recuperar los datos desde el almacena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municaciones que abortan transacciones pero no el funcionamiento de DB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cepto de 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866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 LOG es una secuencia de registros que documentan todos los eventos en los datos relevantes para la recupe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actualización es regist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término de transacción (A o 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ciones especiales (checkpoint) para facilitar la recuper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l LOG contie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start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commit/abort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istro de Check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u propósito es limitar la cantidad de registros del LOG que debe ser revisada en una etapa de reestablecimien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registro de checkpoint conti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D´s de todas las transacciones activas al tiempo del check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irección de las más recientes registros de todas las transacciones acti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957240" y="1844640"/>
            <a:ext cx="6783480" cy="3646440"/>
            <a:chOff x="957240" y="1844640"/>
            <a:chExt cx="6783480" cy="3646440"/>
          </a:xfrm>
        </p:grpSpPr>
        <p:sp>
          <p:nvSpPr>
            <p:cNvPr id="797" name=""/>
            <p:cNvSpPr/>
            <p:nvPr/>
          </p:nvSpPr>
          <p:spPr>
            <a:xfrm flipH="1">
              <a:off x="2226960" y="2390760"/>
              <a:ext cx="12600" cy="309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29360" y="2392560"/>
              <a:ext cx="12960" cy="309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57240" y="3005280"/>
              <a:ext cx="9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22600" y="3441600"/>
              <a:ext cx="31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13040" y="4124520"/>
              <a:ext cx="5554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14960" y="4643640"/>
              <a:ext cx="28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79960" y="5311800"/>
              <a:ext cx="26607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31040" y="258120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25080" y="31003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25200" y="374184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39360" y="428796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04600" y="49435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63520" y="184464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66280" y="188604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19560" y="1752480"/>
            <a:ext cx="434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le por asegurar que la base de datos tiene los efectos de las transacciones que han ejecutado commit, y ninguno de los efectos de las abortada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diseñado para resistir las fallas y recuperar los efectos existente en la memoria voláti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71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lgoritmo UNDO / RE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55640" y="2003400"/>
            <a:ext cx="792000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ocalice el último checkpoi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doList = Ø, UndoList = {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transacciones activas desde el checkpoint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Buscar hacia del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(start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esta en el log ENTO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doList = UndoList U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(commit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esta el log ENTO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doList = UndoList \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edoList = RedoList U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vuélvase deshaciendo UndoLi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vance rehaciendo RedoLi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0040" y="2058840"/>
            <a:ext cx="8454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L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Ø, U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tar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Ø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tar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Ø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ommi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ommi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L: todas las transacciones que terminaron entre CP y la fal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L: Todas las transacciones que no terminaron antes de la fall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68440" y="2031480"/>
            <a:ext cx="83865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os mecanismos de recuperación de falla implementan algoritmos similares, pero más sofistic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una serie de mecanismos que mezclan el tema del backup y la recuperación de fall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Bibliograf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8280" y="2085480"/>
            <a:ext cx="84963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Bernstein, P., Hadzilacos, V. y Goodman, N., Concurrency Control and Recovery in databases Systems, Addison Wesley, 1987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19560" y="1752480"/>
            <a:ext cx="434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almacenamiento eficiente para datos muy solicit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de tamaño reduci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a ubicado entre la memoria volátil y la est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34387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Modelamiento Conceptual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763200"/>
            <a:ext cx="7540560" cy="609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51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bjetiv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ar el negocio (reglas, información y restricciones) desde el punto de vista de los datos relevantes a las decisiones del sistema de administr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pecificar los requerimientos de información (datos a almacenar por el sistema en su parte computacional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701280"/>
            <a:ext cx="7392960" cy="725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Entidad-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4440" y="1989000"/>
            <a:ext cx="8378640" cy="4608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tidad y Entidad 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na entidad es un 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objeto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(sin métodos) que es distinguible de otros. Una Entidad Set es un conjunto de entidades (i.e., cosas de las cuales el SIA deberá mantener información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l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na relación (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link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 es un mapeo de restricciones que expresa el número de entidades a la cual otra entidad puede estar asociada vía una relación (i.e., asociación lógica entre entidad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6360" y="821880"/>
            <a:ext cx="7999200" cy="698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Conceptual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menclatura (Martin</a:t>
            </a:r>
            <a:r>
              <a:rPr b="0" lang="es-ES_tradnl" sz="3000" spc="-1" strike="noStrike" baseline="30000">
                <a:solidFill>
                  <a:srgbClr val="000000"/>
                </a:solidFill>
                <a:latin typeface="Verdana"/>
              </a:rPr>
              <a:t>(*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tidades: un rectángulo con su nombre y atribut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924360" y="3068640"/>
            <a:ext cx="2303280" cy="2514600"/>
            <a:chOff x="3924360" y="3068640"/>
            <a:chExt cx="2303280" cy="2514600"/>
          </a:xfrm>
        </p:grpSpPr>
        <p:sp>
          <p:nvSpPr>
            <p:cNvPr id="167" name=""/>
            <p:cNvSpPr/>
            <p:nvPr/>
          </p:nvSpPr>
          <p:spPr>
            <a:xfrm>
              <a:off x="3924360" y="3068640"/>
              <a:ext cx="2303280" cy="25146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24360" y="3678480"/>
              <a:ext cx="2303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86240" y="3235320"/>
              <a:ext cx="12884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Nombre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47120" y="3692520"/>
              <a:ext cx="1383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atributos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1160" y="4973760"/>
              <a:ext cx="1383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atributos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5661000"/>
            <a:ext cx="82296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*) adoptada ya que el PowerDesigner - DataArquitecture usa esta  no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6360" y="701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ipos de Ent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43920" cy="4543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u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on aquellas cuya existencia no depende esencialmente del tiem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 bien del activo inmoviliz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a cuenta del plan de cuentas de la empre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on aquellos hechos que al suceder modifican los valores de sus atributos y/o los de las entidades su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a salida de bodeg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 depósito a una cuenta corr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fecha es siempre un atribut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6360" y="701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s Ent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do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únicos (para las entidades sujet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uestos (para las entidades evento) o únicos si se utiliza el número de folio del formulario que se utiliz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tributos gener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mpos codificados o decodific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9720" cy="771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aracterísticas de las Rela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5280" cy="4119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entidades están asociadas o relacionadas lógicamente (miden la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rdinalidad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ienen una naturalez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tenenci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empor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pa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 parentes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den poseer Atribut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s una Base de Dat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stemas de Información y Bases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stemas Administradores de Bases de Datos (SABD o DBM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l campo de las bases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mparación con el proceso por arch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Paradigma de base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iveles de automatizació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plicacion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2720" y="763200"/>
            <a:ext cx="750888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din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947880" y="1773360"/>
            <a:ext cx="7800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dinalidad es el máximo número de ocurrencias de una entidad (objeto) para una sola ocurrencia de la entidad (objeto) relacio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89760" y="3230640"/>
            <a:ext cx="4132440" cy="2700720"/>
            <a:chOff x="2489760" y="3230640"/>
            <a:chExt cx="4132440" cy="2700720"/>
          </a:xfrm>
        </p:grpSpPr>
        <p:grpSp>
          <p:nvGrpSpPr>
            <p:cNvPr id="182" name=""/>
            <p:cNvGrpSpPr/>
            <p:nvPr/>
          </p:nvGrpSpPr>
          <p:grpSpPr>
            <a:xfrm>
              <a:off x="2495880" y="3230640"/>
              <a:ext cx="3952080" cy="438480"/>
              <a:chOff x="2495880" y="3230640"/>
              <a:chExt cx="3952080" cy="43848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495880" y="3257280"/>
                <a:ext cx="3952080" cy="411840"/>
                <a:chOff x="2495880" y="3257280"/>
                <a:chExt cx="3952080" cy="4118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495880" y="3257280"/>
                  <a:ext cx="1133280" cy="41184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14680" y="3257280"/>
                  <a:ext cx="1133280" cy="41184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32760" y="3462120"/>
                  <a:ext cx="167796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42400" y="3369600"/>
                  <a:ext cx="622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028880"/>
                      <a:tab algn="l" pos="2057400"/>
                      <a:tab algn="l" pos="3086280"/>
                      <a:tab algn="l" pos="4114800"/>
                      <a:tab algn="l" pos="5143680"/>
                      <a:tab algn="l" pos="6172200"/>
                      <a:tab algn="l" pos="7201080"/>
                      <a:tab algn="l" pos="8229600"/>
                      <a:tab algn="l" pos="9258480"/>
                      <a:tab algn="l" pos="102870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Entidad 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461560" y="3369600"/>
                  <a:ext cx="61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028880"/>
                      <a:tab algn="l" pos="2057400"/>
                      <a:tab algn="l" pos="3086280"/>
                      <a:tab algn="l" pos="4114800"/>
                      <a:tab algn="l" pos="5143680"/>
                      <a:tab algn="l" pos="6172200"/>
                      <a:tab algn="l" pos="7201080"/>
                      <a:tab algn="l" pos="8229600"/>
                      <a:tab algn="l" pos="9258480"/>
                      <a:tab algn="l" pos="102870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Entidad 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4091040" y="3230640"/>
                <a:ext cx="541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Re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489760" y="4048560"/>
              <a:ext cx="22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I.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939040" y="3919680"/>
              <a:ext cx="1374120" cy="228240"/>
              <a:chOff x="2939040" y="3919680"/>
              <a:chExt cx="1374120" cy="228240"/>
            </a:xfrm>
          </p:grpSpPr>
          <p:sp>
            <p:nvSpPr>
              <p:cNvPr id="192" name=""/>
              <p:cNvSpPr/>
              <p:nvPr/>
            </p:nvSpPr>
            <p:spPr>
              <a:xfrm>
                <a:off x="2939040" y="4033440"/>
                <a:ext cx="137412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002840" y="3919680"/>
                <a:ext cx="306720" cy="11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22560" y="3963960"/>
                <a:ext cx="1440" cy="141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02840" y="4033440"/>
                <a:ext cx="306720" cy="114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943360" y="4399920"/>
              <a:ext cx="291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                                 con muc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43360" y="4673520"/>
              <a:ext cx="31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obligatoria                                         una ocur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0120" y="51231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II.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39040" y="5110560"/>
              <a:ext cx="1374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002840" y="4996080"/>
              <a:ext cx="306720" cy="114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2840" y="5110560"/>
              <a:ext cx="306720" cy="114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97440" y="5039280"/>
              <a:ext cx="142920" cy="142920"/>
            </a:xfrm>
            <a:prstGeom prst="ellipse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83600" y="5039280"/>
              <a:ext cx="142200" cy="142920"/>
            </a:xfrm>
            <a:prstGeom prst="ellipse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1200" y="547344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90480" y="5473440"/>
              <a:ext cx="1431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n cero, una o muc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39400" y="5748480"/>
              <a:ext cx="86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 ningu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9760" y="5748480"/>
              <a:ext cx="93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976200" y="5521680"/>
              <a:ext cx="1004400" cy="65520"/>
              <a:chOff x="3976200" y="5521680"/>
              <a:chExt cx="1004400" cy="65520"/>
            </a:xfrm>
          </p:grpSpPr>
          <p:sp>
            <p:nvSpPr>
              <p:cNvPr id="209" name=""/>
              <p:cNvSpPr/>
              <p:nvPr/>
            </p:nvSpPr>
            <p:spPr>
              <a:xfrm>
                <a:off x="3976200" y="5553360"/>
                <a:ext cx="944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16880" y="552168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976200" y="5812560"/>
              <a:ext cx="1004400" cy="65880"/>
              <a:chOff x="3976200" y="5812560"/>
              <a:chExt cx="1004400" cy="65880"/>
            </a:xfrm>
          </p:grpSpPr>
          <p:sp>
            <p:nvSpPr>
              <p:cNvPr id="212" name=""/>
              <p:cNvSpPr/>
              <p:nvPr/>
            </p:nvSpPr>
            <p:spPr>
              <a:xfrm flipH="1">
                <a:off x="4036680" y="5846400"/>
                <a:ext cx="943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76200" y="5812560"/>
                <a:ext cx="64080" cy="6588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0"/>
                    </a:moveTo>
                    <a:lnTo>
                      <a:pt x="0" y="37"/>
                    </a:lnTo>
                    <a:lnTo>
                      <a:pt x="71" y="7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976200" y="4444920"/>
              <a:ext cx="1004400" cy="65520"/>
              <a:chOff x="3976200" y="4444920"/>
              <a:chExt cx="1004400" cy="65520"/>
            </a:xfrm>
          </p:grpSpPr>
          <p:sp>
            <p:nvSpPr>
              <p:cNvPr id="215" name=""/>
              <p:cNvSpPr/>
              <p:nvPr/>
            </p:nvSpPr>
            <p:spPr>
              <a:xfrm>
                <a:off x="3976200" y="4475160"/>
                <a:ext cx="944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916880" y="44449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976200" y="4735800"/>
              <a:ext cx="1004400" cy="63720"/>
              <a:chOff x="3976200" y="4735800"/>
              <a:chExt cx="1004400" cy="63720"/>
            </a:xfrm>
          </p:grpSpPr>
          <p:sp>
            <p:nvSpPr>
              <p:cNvPr id="218" name=""/>
              <p:cNvSpPr/>
              <p:nvPr/>
            </p:nvSpPr>
            <p:spPr>
              <a:xfrm flipH="1">
                <a:off x="4036680" y="4767840"/>
                <a:ext cx="943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76200" y="4735800"/>
                <a:ext cx="64080" cy="6372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0"/>
                    </a:moveTo>
                    <a:lnTo>
                      <a:pt x="0" y="38"/>
                    </a:lnTo>
                    <a:lnTo>
                      <a:pt x="71" y="7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011840" y="3962520"/>
              <a:ext cx="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6360" y="880920"/>
            <a:ext cx="7999200" cy="64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Guía de Identific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112680" rIns="112680" tIns="51840" bIns="51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SUSTANTIV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son candidatos para definir entidades (nombre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VERB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son los candidatos para definir relaciones (accione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ee de izquierda a derecha, arriba 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21440" cy="1263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Fuentes de Información para Captar Elementos del Modelo de Datos Concept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53200" cy="4343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CISIONES Y A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UNCIONES, ACTIVIDADES Y TAREAS DEL S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ORMULAR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ede el mismo ser una entidad ev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refiere a entidades sujeto y ev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4489560" y="3382920"/>
            <a:ext cx="164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9640" cy="1243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: análisis de actividades dentro de las fun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a función puede tener muchas actividades (decisiones, acciones, etc.) que se refieren a entidades del modelo de datos conceptua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j 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LECCIONAR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GUIMIENTO DE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ORDENES DE COMP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BRANZA DE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FACTURA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MOROS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791480" cy="1133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nformación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56480" cy="468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DIMIENTOS ADMINISTRATIV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iene eventos e información út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OCU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etras y otros mercantiles, informes, normas, políticas y reglamentos, contrat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ALIDAS Y ENTRADAS DEL SIA (Ej: Requerimien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RCHIVOS EXISTENTES (manuales computacional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6360" y="880920"/>
            <a:ext cx="7999200" cy="64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ntidades Déb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684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aquellas entidades que no son posibles de ser identificadas por sí mism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dependientes de otra entidad, y por eso su nombre de déb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: corridas de un experimento y experi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171960" y="5057640"/>
            <a:ext cx="39528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6360" y="942840"/>
            <a:ext cx="7999200" cy="578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elación de Especializ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6680" y="1885680"/>
            <a:ext cx="545796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especialización es la especificación adicional de atributos desde una entidad super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erencia es la acción por la cual, los atributos de una entidad superior son traspasados a sus entidades inferior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6686640" y="2057400"/>
            <a:ext cx="128592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29480" y="4543560"/>
            <a:ext cx="1371600" cy="15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4543560"/>
            <a:ext cx="1371600" cy="15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86640" y="2486160"/>
            <a:ext cx="128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29480" y="488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488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29360" y="3772080"/>
            <a:ext cx="514440" cy="342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286760" y="342864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429240" y="4029120"/>
            <a:ext cx="85752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86760" y="4029120"/>
            <a:ext cx="111420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6160" y="3755880"/>
            <a:ext cx="5634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4520" y="763560"/>
            <a:ext cx="7464240" cy="633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 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8760" y="1971360"/>
            <a:ext cx="8486640" cy="3838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) De existencia que indican cuándo debe existir la relación, dada la existencia de una ocurrencia involucrada en la rel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b) De medición (o caracterización) que miden cuanto significa la relación entre cada combinación de ocurrencias de las entidades (cada par (i,j), trío (i,j,k)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94920" y="4005000"/>
            <a:ext cx="3745080" cy="2430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 existenc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xiste una factura debe estar relacionada a un cl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xiste un cliente no es necesario que tenga una factu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576360" y="821880"/>
            <a:ext cx="7999200" cy="698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 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4859280" y="3933720"/>
            <a:ext cx="3457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 medi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echa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ersona que la recibi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ándo prometió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556000" y="2923920"/>
            <a:ext cx="165564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932360" y="3068640"/>
            <a:ext cx="122400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90600" y="1989000"/>
            <a:ext cx="6953400" cy="1800000"/>
            <a:chOff x="1290600" y="1989000"/>
            <a:chExt cx="6953400" cy="1800000"/>
          </a:xfrm>
        </p:grpSpPr>
        <p:sp>
          <p:nvSpPr>
            <p:cNvPr id="254" name=""/>
            <p:cNvSpPr/>
            <p:nvPr/>
          </p:nvSpPr>
          <p:spPr>
            <a:xfrm>
              <a:off x="1290600" y="1989000"/>
              <a:ext cx="1197000" cy="165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47000" y="1989000"/>
              <a:ext cx="1197000" cy="180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02280" y="2250720"/>
              <a:ext cx="723960" cy="73836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0" y="2619000"/>
              <a:ext cx="210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6280" y="1989000"/>
              <a:ext cx="100836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ac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4960" y="1989000"/>
              <a:ext cx="10004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1360" y="2468160"/>
              <a:ext cx="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47960" y="2479320"/>
              <a:ext cx="249480" cy="281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457360" y="2636640"/>
              <a:ext cx="432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457000" y="2492280"/>
              <a:ext cx="35892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457000" y="263664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05000" y="242064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6080" y="242064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05360" y="263664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248440" y="2795760"/>
            <a:ext cx="1241280" cy="1854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2795760"/>
            <a:ext cx="1243080" cy="1854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01920" y="4890960"/>
            <a:ext cx="76536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7080" y="1919160"/>
            <a:ext cx="76824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ctr">
            <a:noAutofit/>
          </a:bodyPr>
          <a:p>
            <a:pPr algn="ctr"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01920" y="3444840"/>
            <a:ext cx="765360" cy="8622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2898720"/>
            <a:ext cx="111456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44120" y="2860560"/>
            <a:ext cx="1267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98680" y="4637160"/>
            <a:ext cx="879480" cy="609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59080" y="4713120"/>
            <a:ext cx="108432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398680" y="2350800"/>
            <a:ext cx="879480" cy="533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27480" y="2351160"/>
            <a:ext cx="101592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61880" y="1779480"/>
            <a:ext cx="867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71480" y="5078520"/>
            <a:ext cx="478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30280" y="3875040"/>
            <a:ext cx="87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159080" y="3875040"/>
            <a:ext cx="1084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04880" y="3706920"/>
            <a:ext cx="4453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88560" y="3089160"/>
            <a:ext cx="192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ontrol de Gest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23560" y="4460760"/>
            <a:ext cx="1312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404640"/>
            <a:ext cx="770580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Entidades y Rel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gún nivel de decisión que apo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81880" y="1773360"/>
            <a:ext cx="223812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" sz="19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Capacida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máxima de producción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81880" y="3546360"/>
            <a:ext cx="22381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1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Producción acumulada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81880" y="4917960"/>
            <a:ext cx="2166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" sz="1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Cantidad a producir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16000" y="325908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325908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5596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stemas de Administración de Bases de Datos (SAB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s computacionales encargados de almacenar, recuperar, y modificar inform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san interfaces al usuario para realizar en las operaciones anteriores eficientem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pos de Administradores de Bases de D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lacional (ej., Oracle, Informix, Progress, Sybase, SQL Server, Ingress, Acces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a a Objetos (ej., Object Store)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a a Restricciones (ej., Ccub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Diseño Conceptu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tivo: generar un modelo de datos que permita almacenar los datos sin innecesaria redundancia y fácil acceso a ell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so 1: Todo en un sola entidad (ejemplo alumno – curs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so 2. Todos los atributos son entidades separables (ejemplo nombre – apellido – curso, y las relaciones son los sujeto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ómo sabemos cuál es la mejor manera de representar los datos identificad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 de Dato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vitar Probl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nformación Repeti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nhabilidad de Repres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Pérdida de Inform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mayoría de estos problemas pueden ser resueltos en al modelo conceptual canónico de datos (Entidad- Rel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erios en el 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133720"/>
            <a:ext cx="2438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457200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4495680"/>
            <a:ext cx="1904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971440" y="3048120"/>
            <a:ext cx="1219320" cy="1447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3048120"/>
            <a:ext cx="152388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2920" y="2438280"/>
            <a:ext cx="0" cy="304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5120" y="2209680"/>
            <a:ext cx="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2743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n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43828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end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2800" y="373392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n pérdid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709560"/>
            <a:ext cx="80010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: Información Repeti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uponga una entidad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anco = (nombre_sucursal, activos, ciudad, #créditos, cliente, cant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Se desea agregar un crédito a una sucursal y cliente exist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petir información NO es deseable, ya que requiere espacio, presenta problemas al actualizar (hay que repetirl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4290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72440" y="357336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 repetir nombre_sucursal, activos y ciu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2360" y="343080"/>
            <a:ext cx="82803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Ejemplo: Inhabilidad de Representación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a representación basada en Banco NO permite representar una SUCURSAL directam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Una alternativa es introducir valores NULL, pero son difíciles de manej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¿Qué significa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¿Cómo los uso para extraer informac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6000" y="785880"/>
            <a:ext cx="798516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: Pérdida de Inform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3757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El diseño basado en BANCO es malo, y nos gustaría descomponerlo para mejorar su calida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in embargo un diseño descuidado puede generar problem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uponga que BANCO es descompuesto 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ucursal = (nombre_sucursal, activos, ciud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rédito = (nombre_sucursal, #crédito, cliente, cantid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antidad = (cantidad, clien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Préstamo = (nombre_sucursal, #crédito, cantida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No se puede reconstruir Crédito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 conceptual canónico (MDCC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4000" y="3141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modelo está normalizado (en 5</a:t>
            </a:r>
            <a:r>
              <a:rPr b="0" lang="es-ES_tradnl" sz="3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forma normal)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 hay datos redundantes,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preservan las dependencias de los da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177336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La forma canónica del modelo de datos conceptual es aquella en q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821880"/>
            <a:ext cx="80010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Normalización (según Cod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77440" y="2099880"/>
            <a:ext cx="845820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 un proceso reversible mediante el cual los datos de un modelo de datos se ponen en la forma más simple e independ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ermite que, si la estructura física para los datos que se implemente esta normalizada, siempre será posible satisfacer cualquier requerimiento sobre los d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MDC       1FN        2FN       3FN        4FN       5FN      MDC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Veremos sólo las tres primera formas normales que son las más frecuen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7588080" y="5072040"/>
            <a:ext cx="541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15880" y="5072040"/>
            <a:ext cx="54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30480" y="5072040"/>
            <a:ext cx="54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9800" y="5072040"/>
            <a:ext cx="693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9120" y="5072040"/>
            <a:ext cx="542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11520" y="5072040"/>
            <a:ext cx="541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777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29920" y="1873080"/>
            <a:ext cx="5961240" cy="118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Un modelo de datos está en primera forma normal si no tiene atributos repeti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08040" y="1844640"/>
            <a:ext cx="1648800" cy="4290480"/>
            <a:chOff x="608040" y="1844640"/>
            <a:chExt cx="1648800" cy="4290480"/>
          </a:xfrm>
        </p:grpSpPr>
        <p:sp>
          <p:nvSpPr>
            <p:cNvPr id="331" name=""/>
            <p:cNvSpPr/>
            <p:nvPr/>
          </p:nvSpPr>
          <p:spPr>
            <a:xfrm>
              <a:off x="608040" y="1844640"/>
              <a:ext cx="1603440" cy="424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280" y="1844640"/>
              <a:ext cx="1573560" cy="42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LE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RUT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     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NOMB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DIRECC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41080" y="500544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no esta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Historia de las DB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650880" y="3241800"/>
            <a:ext cx="12952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248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46160" y="423216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3160" y="27082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13000" y="27082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60560" y="3241800"/>
            <a:ext cx="129564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216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56200" y="423216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13200" y="27082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2268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0600" y="3241800"/>
            <a:ext cx="12952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2200" y="3699000"/>
            <a:ext cx="53316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65880" y="423216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22880" y="27082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3236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3960" y="3241800"/>
            <a:ext cx="129564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99600" y="423216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56600" y="27082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6608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0880" y="46134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0560" y="46134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0600" y="46134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3960" y="46134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622680" y="377460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22680" y="37749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0600" y="37749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868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3960" y="377496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1836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8520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332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192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2888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626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1280" y="3850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62360" y="4002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72400" y="4002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992280" y="3987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574200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345600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87536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00640" y="3317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10320" y="3317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102200">
            <a:off x="7455600" y="40298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20240" y="5222160"/>
            <a:ext cx="73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960’s                       1970’s                         1980’s                     1990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9440" y="785880"/>
            <a:ext cx="7912080" cy="59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1844640"/>
            <a:ext cx="1603440" cy="408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7280" y="1878120"/>
            <a:ext cx="13978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L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UT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IRE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 - - - - - -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 - - - - -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39640" y="538308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no esta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12120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97400" y="3011400"/>
            <a:ext cx="2819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7640" y="308772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975200" y="2916360"/>
            <a:ext cx="1440" cy="21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81800" y="2838600"/>
            <a:ext cx="503280" cy="365040"/>
          </a:xfrm>
          <a:custGeom>
            <a:avLst/>
            <a:gdLst/>
            <a:ahLst/>
            <a:rect l="l" t="t" r="r" b="b"/>
            <a:pathLst>
              <a:path w="317" h="230">
                <a:moveTo>
                  <a:pt x="317" y="230"/>
                </a:moveTo>
                <a:lnTo>
                  <a:pt x="0" y="109"/>
                </a:lnTo>
                <a:lnTo>
                  <a:pt x="317" y="0"/>
                </a:lnTo>
                <a:lnTo>
                  <a:pt x="317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46800" y="2954160"/>
            <a:ext cx="135000" cy="1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70040"/>
            <a:ext cx="1428480" cy="115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98120" y="2608200"/>
            <a:ext cx="86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2876400"/>
            <a:ext cx="14284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4840" y="2897280"/>
            <a:ext cx="39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54120" y="314640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3400" y="3395520"/>
            <a:ext cx="79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32720" y="2359080"/>
            <a:ext cx="2163600" cy="232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31400" y="2397240"/>
            <a:ext cx="81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2665440"/>
            <a:ext cx="216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9400" y="2685960"/>
            <a:ext cx="30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09400" y="2935440"/>
            <a:ext cx="53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07600" y="31845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_cutoa_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5440" y="343368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echa_vcto_cuota_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07600" y="36831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_cuota_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05440" y="393228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echa_vcto_cuata_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87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2988360" y="5799240"/>
            <a:ext cx="27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está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289548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54560" y="2135160"/>
            <a:ext cx="1981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9040" y="218916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60640" y="2068560"/>
            <a:ext cx="180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19760" y="2014560"/>
            <a:ext cx="352440" cy="255600"/>
          </a:xfrm>
          <a:custGeom>
            <a:avLst/>
            <a:gdLst/>
            <a:ahLst/>
            <a:rect l="l" t="t" r="r" b="b"/>
            <a:pathLst>
              <a:path w="222" h="161">
                <a:moveTo>
                  <a:pt x="222" y="161"/>
                </a:moveTo>
                <a:lnTo>
                  <a:pt x="0" y="76"/>
                </a:lnTo>
                <a:lnTo>
                  <a:pt x="222" y="0"/>
                </a:lnTo>
                <a:lnTo>
                  <a:pt x="222" y="1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24360" y="2095560"/>
            <a:ext cx="95400" cy="9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6880" y="1825560"/>
            <a:ext cx="1005120" cy="80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09800" y="1852560"/>
            <a:ext cx="63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2041560"/>
            <a:ext cx="1005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21600" y="20541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20160" y="223056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21600" y="2405160"/>
            <a:ext cx="58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95800" y="1676520"/>
            <a:ext cx="1519200" cy="163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28880" y="1703520"/>
            <a:ext cx="60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95800" y="1892160"/>
            <a:ext cx="1519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49440" y="19065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48000" y="2081160"/>
            <a:ext cx="39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47280" y="225756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_cutoa_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47280" y="2432160"/>
            <a:ext cx="1254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fecha_vcto_cuota_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47280" y="260820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_cuota_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47280" y="2782800"/>
            <a:ext cx="1254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fecha_vcto_cuata_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1840" y="4748040"/>
            <a:ext cx="24303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98200" y="483084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pos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11800" y="4645080"/>
            <a:ext cx="144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45120" y="4562640"/>
            <a:ext cx="546120" cy="37296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344" y="235"/>
                </a:moveTo>
                <a:lnTo>
                  <a:pt x="0" y="117"/>
                </a:lnTo>
                <a:lnTo>
                  <a:pt x="344" y="0"/>
                </a:lnTo>
                <a:lnTo>
                  <a:pt x="344" y="2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45120" y="4645080"/>
            <a:ext cx="180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49600" y="4624560"/>
            <a:ext cx="230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51760" y="470700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378160" y="4521240"/>
            <a:ext cx="1440" cy="226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10000" y="4438800"/>
            <a:ext cx="544320" cy="392040"/>
          </a:xfrm>
          <a:custGeom>
            <a:avLst/>
            <a:gdLst/>
            <a:ahLst/>
            <a:rect l="l" t="t" r="r" b="b"/>
            <a:pathLst>
              <a:path w="343" h="247">
                <a:moveTo>
                  <a:pt x="343" y="247"/>
                </a:moveTo>
                <a:lnTo>
                  <a:pt x="0" y="117"/>
                </a:lnTo>
                <a:lnTo>
                  <a:pt x="343" y="0"/>
                </a:lnTo>
                <a:lnTo>
                  <a:pt x="343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2400" y="4562640"/>
            <a:ext cx="14760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232160"/>
            <a:ext cx="1550880" cy="12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3120" y="427356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4562640"/>
            <a:ext cx="155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7040" y="45831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760" y="48531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600" y="512136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81440" y="4273560"/>
            <a:ext cx="1258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08520" y="4314960"/>
            <a:ext cx="86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81440" y="4603680"/>
            <a:ext cx="1258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64960" y="462456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66040" y="4894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18360" y="4191120"/>
            <a:ext cx="2347920" cy="12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156440" y="42321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u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18360" y="4521240"/>
            <a:ext cx="2347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2600" y="45417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Num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2600" y="4809960"/>
            <a:ext cx="121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o_Cu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440" y="507996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echa_Ven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87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modelo está en segunda forma normal si no tiene relaciones M:N (muchos es a much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3419640" y="4367160"/>
            <a:ext cx="134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19640" y="4519440"/>
            <a:ext cx="1346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060960" y="4366800"/>
            <a:ext cx="1350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60960" y="4519440"/>
            <a:ext cx="13500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4320" y="3459240"/>
            <a:ext cx="1634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43320" y="4151160"/>
            <a:ext cx="722520" cy="6606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19640" y="451944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76640" y="451944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040" y="434340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i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68360" y="3789360"/>
            <a:ext cx="1201680" cy="1440000"/>
            <a:chOff x="2268360" y="3789360"/>
            <a:chExt cx="1201680" cy="1440000"/>
          </a:xfrm>
        </p:grpSpPr>
        <p:sp>
          <p:nvSpPr>
            <p:cNvPr id="421" name=""/>
            <p:cNvSpPr/>
            <p:nvPr/>
          </p:nvSpPr>
          <p:spPr>
            <a:xfrm>
              <a:off x="2346480" y="3795840"/>
              <a:ext cx="1062000" cy="143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68360" y="3789360"/>
              <a:ext cx="1201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0000" y="414972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07120" y="3789360"/>
            <a:ext cx="1078920" cy="1362240"/>
            <a:chOff x="6207120" y="3789360"/>
            <a:chExt cx="1078920" cy="1362240"/>
          </a:xfrm>
        </p:grpSpPr>
        <p:sp>
          <p:nvSpPr>
            <p:cNvPr id="425" name=""/>
            <p:cNvSpPr/>
            <p:nvPr/>
          </p:nvSpPr>
          <p:spPr>
            <a:xfrm>
              <a:off x="6207120" y="3789360"/>
              <a:ext cx="1062000" cy="1362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41320" y="3798720"/>
              <a:ext cx="1044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MATE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27640" y="4286160"/>
              <a:ext cx="10083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564000" y="4437000"/>
            <a:ext cx="14436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0360" y="4437000"/>
            <a:ext cx="14436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763560"/>
            <a:ext cx="800100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539640" y="5157720"/>
            <a:ext cx="8352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reguemos una nueva entidad (NUB) de la cual habrá una ocurrencia por cada ocurrencia de la relación o sea  una ocurrencia por cada par (i,j) que esté efectivamente relaci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238640" cy="322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821880"/>
            <a:ext cx="80010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867280" y="1988640"/>
            <a:ext cx="295272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representación requiere de una nueva entidad (NU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utilizar como entidad déb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2771640" y="5805360"/>
            <a:ext cx="66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9280" y="4797360"/>
            <a:ext cx="5544720" cy="1047600"/>
            <a:chOff x="179280" y="4797360"/>
            <a:chExt cx="5544720" cy="1047600"/>
          </a:xfrm>
        </p:grpSpPr>
        <p:sp>
          <p:nvSpPr>
            <p:cNvPr id="437" name=""/>
            <p:cNvSpPr/>
            <p:nvPr/>
          </p:nvSpPr>
          <p:spPr>
            <a:xfrm flipH="1">
              <a:off x="3114000" y="5270400"/>
              <a:ext cx="157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00160" y="532908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por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92360" y="5203800"/>
              <a:ext cx="144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46120" y="5213160"/>
              <a:ext cx="96480" cy="100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7520" y="5284800"/>
              <a:ext cx="2009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38280" y="5343480"/>
              <a:ext cx="18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u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170720" y="5212800"/>
              <a:ext cx="144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19400" y="5241960"/>
              <a:ext cx="94680" cy="87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9280" y="4825800"/>
              <a:ext cx="815040" cy="101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0280" y="485460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9280" y="5056200"/>
              <a:ext cx="815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80680" y="4911480"/>
              <a:ext cx="909720" cy="67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28560" y="494028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eficie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0680" y="5141880"/>
              <a:ext cx="909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69120" y="4797360"/>
              <a:ext cx="1154880" cy="1047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49040" y="4825800"/>
              <a:ext cx="91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teria_Pri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9120" y="5027400"/>
              <a:ext cx="1154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44440" y="5217840"/>
              <a:ext cx="20196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144440" y="5289120"/>
              <a:ext cx="135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86920" y="52178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242240" y="5217840"/>
              <a:ext cx="13500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42600" y="5289480"/>
              <a:ext cx="135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34760" y="52178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262080" y="2276640"/>
            <a:ext cx="5030640" cy="14778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627280" y="3716280"/>
            <a:ext cx="720720" cy="936720"/>
          </a:xfrm>
          <a:prstGeom prst="downArrow">
            <a:avLst>
              <a:gd name="adj1" fmla="val 50000"/>
              <a:gd name="adj2" fmla="val 324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3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77300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NUB puede asociarse al elemento de una matriz de orden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, en que n corresponde al número de entidades que participan en la rel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 esta forma, el NUB tendrá tantos padres (e índices en los atributos) como entidades participen en la rel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j: C</a:t>
            </a:r>
            <a:r>
              <a:rPr b="0" i="1" lang="es-ES_tradnl" sz="2600" spc="-1" strike="noStrike" baseline="-25000">
                <a:solidFill>
                  <a:srgbClr val="000000"/>
                </a:solidFill>
                <a:latin typeface="Verdana"/>
              </a:rPr>
              <a:t>ijk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:  cantidad del product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do para ser producido en la máquina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 j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en el períod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79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24800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está en tercera forma normal si no tiene transitividades (dependencias funcionales), o sea, no tienen atributos que estén determinados linealmente por otr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156360" y="2060640"/>
            <a:ext cx="1623240" cy="2260440"/>
            <a:chOff x="6156360" y="2060640"/>
            <a:chExt cx="1623240" cy="2260440"/>
          </a:xfrm>
        </p:grpSpPr>
        <p:sp>
          <p:nvSpPr>
            <p:cNvPr id="467" name=""/>
            <p:cNvSpPr/>
            <p:nvPr/>
          </p:nvSpPr>
          <p:spPr>
            <a:xfrm>
              <a:off x="6156360" y="2060640"/>
              <a:ext cx="1603440" cy="2260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73360" y="2100240"/>
              <a:ext cx="15062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R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S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Dep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Ger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435640" y="5013360"/>
            <a:ext cx="3452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e modelo no está en 3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7804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>
            <a:off x="2732400" y="3789360"/>
            <a:ext cx="482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e modelo no está en 3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512720" y="1916280"/>
            <a:ext cx="7139160" cy="1692000"/>
            <a:chOff x="1512720" y="1916280"/>
            <a:chExt cx="7139160" cy="1692000"/>
          </a:xfrm>
        </p:grpSpPr>
        <p:sp>
          <p:nvSpPr>
            <p:cNvPr id="473" name=""/>
            <p:cNvSpPr/>
            <p:nvPr/>
          </p:nvSpPr>
          <p:spPr>
            <a:xfrm>
              <a:off x="3338280" y="2842920"/>
              <a:ext cx="3792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92920" y="2936520"/>
              <a:ext cx="41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tie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157640" y="2705040"/>
              <a:ext cx="144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92680" y="2635200"/>
              <a:ext cx="631800" cy="416880"/>
            </a:xfrm>
            <a:custGeom>
              <a:avLst/>
              <a:gdLst/>
              <a:ahLst/>
              <a:rect l="l" t="t" r="r" b="b"/>
              <a:pathLst>
                <a:path w="398" h="263">
                  <a:moveTo>
                    <a:pt x="398" y="263"/>
                  </a:moveTo>
                  <a:lnTo>
                    <a:pt x="0" y="131"/>
                  </a:lnTo>
                  <a:lnTo>
                    <a:pt x="398" y="0"/>
                  </a:lnTo>
                  <a:lnTo>
                    <a:pt x="398" y="26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92680" y="2705040"/>
              <a:ext cx="180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12720" y="1916280"/>
              <a:ext cx="2317680" cy="169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70440" y="196200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12720" y="2287440"/>
              <a:ext cx="2317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7040" y="2309760"/>
              <a:ext cx="116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eccion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08120" y="2611080"/>
              <a:ext cx="174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cion_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07760" y="2912760"/>
              <a:ext cx="180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amento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7040" y="3214440"/>
              <a:ext cx="12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erencia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19920" y="2147760"/>
              <a:ext cx="1731960" cy="139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68320" y="2193840"/>
              <a:ext cx="102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19920" y="2519280"/>
              <a:ext cx="1731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25412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R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13880" y="284292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14600" y="314460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136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az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un departamento hay una o más se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una gerencia hay uno o más depart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se puede modelar est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2360" y="763560"/>
            <a:ext cx="755028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2752200" y="5589720"/>
            <a:ext cx="402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e modelo si está en 3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58920" y="1752480"/>
            <a:ext cx="550836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te modelo si está en 3F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l modelo da cuenta de la jerarquía en la organiz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68360" y="1773360"/>
            <a:ext cx="8210520" cy="3855960"/>
            <a:chOff x="468360" y="1773360"/>
            <a:chExt cx="8210520" cy="3855960"/>
          </a:xfrm>
        </p:grpSpPr>
        <p:sp>
          <p:nvSpPr>
            <p:cNvPr id="496" name=""/>
            <p:cNvSpPr/>
            <p:nvPr/>
          </p:nvSpPr>
          <p:spPr>
            <a:xfrm>
              <a:off x="1547640" y="2390760"/>
              <a:ext cx="1800" cy="28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65760" y="345132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os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50800" y="2930400"/>
              <a:ext cx="193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4840" y="4299120"/>
              <a:ext cx="345960" cy="520560"/>
            </a:xfrm>
            <a:custGeom>
              <a:avLst/>
              <a:gdLst/>
              <a:ahLst/>
              <a:rect l="l" t="t" r="r" b="b"/>
              <a:pathLst>
                <a:path w="218" h="328">
                  <a:moveTo>
                    <a:pt x="0" y="328"/>
                  </a:moveTo>
                  <a:lnTo>
                    <a:pt x="109" y="0"/>
                  </a:lnTo>
                  <a:lnTo>
                    <a:pt x="218" y="328"/>
                  </a:lnTo>
                  <a:lnTo>
                    <a:pt x="0" y="3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88960" y="41641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5440" y="4973760"/>
              <a:ext cx="2004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90880" y="505152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m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24160" y="4876560"/>
              <a:ext cx="1800" cy="21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41920" y="4800600"/>
              <a:ext cx="519120" cy="365040"/>
            </a:xfrm>
            <a:custGeom>
              <a:avLst/>
              <a:gdLst/>
              <a:ahLst/>
              <a:rect l="l" t="t" r="r" b="b"/>
              <a:pathLst>
                <a:path w="327" h="230">
                  <a:moveTo>
                    <a:pt x="327" y="230"/>
                  </a:moveTo>
                  <a:lnTo>
                    <a:pt x="0" y="109"/>
                  </a:lnTo>
                  <a:lnTo>
                    <a:pt x="327" y="0"/>
                  </a:lnTo>
                  <a:lnTo>
                    <a:pt x="327" y="2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06920" y="49165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56240" y="5030640"/>
              <a:ext cx="1870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6080" y="510840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i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230880" y="4935600"/>
              <a:ext cx="1800" cy="2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81840" y="4857840"/>
              <a:ext cx="520560" cy="366480"/>
            </a:xfrm>
            <a:custGeom>
              <a:avLst/>
              <a:gdLst/>
              <a:ahLst/>
              <a:rect l="l" t="t" r="r" b="b"/>
              <a:pathLst>
                <a:path w="328" h="231">
                  <a:moveTo>
                    <a:pt x="328" y="231"/>
                  </a:moveTo>
                  <a:lnTo>
                    <a:pt x="0" y="109"/>
                  </a:lnTo>
                  <a:lnTo>
                    <a:pt x="328" y="0"/>
                  </a:lnTo>
                  <a:lnTo>
                    <a:pt x="328" y="23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81840" y="4935600"/>
              <a:ext cx="1440" cy="2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91040" y="4530600"/>
              <a:ext cx="1870200" cy="905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91440" y="4568760"/>
              <a:ext cx="68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Secc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91040" y="4838760"/>
              <a:ext cx="1870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67360" y="4857840"/>
              <a:ext cx="97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Seccion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67360" y="5108400"/>
              <a:ext cx="146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Seccion_Nomb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51840" y="4471920"/>
              <a:ext cx="1427040" cy="11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74680" y="4510080"/>
              <a:ext cx="86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51840" y="4781520"/>
              <a:ext cx="1427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29960" y="4800600"/>
              <a:ext cx="39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R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240" y="5051520"/>
              <a:ext cx="68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28520" y="530064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8360" y="4568760"/>
              <a:ext cx="2485800" cy="906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05840" y="4606920"/>
              <a:ext cx="121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8360" y="4876920"/>
              <a:ext cx="248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3960" y="4896000"/>
              <a:ext cx="151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Departamento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3960" y="5146560"/>
              <a:ext cx="200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_Depart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4280" y="1773360"/>
              <a:ext cx="1965240" cy="906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94040" y="1811520"/>
              <a:ext cx="77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Gerenc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4280" y="2081160"/>
              <a:ext cx="1965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8440" y="2100240"/>
              <a:ext cx="1075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Gerencia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8440" y="2351160"/>
              <a:ext cx="156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_Gerenc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Transaccione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Jerárquico: primer modelo de BD, IMS es la más popula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de Redes: definido por C. Bachman, IDMS fue el producto comerci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Relacional: Funcional Diseño de Codd popularizado por Date (RDB, Oracle, Sybase, Informix 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Entidad – Relación: Concepción de Chen, muy usado aplicable a diversos modelos ( j,r,rel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Semántico: inicialmente de R. Quillian usado sólo en investiga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Binario: Instrumentado por Stonebraker basado en el modelo de Codd (Ingre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Orientado a Objetos: popular al representar la tendencia actual (Ilustra, O2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Mutlirelacional: extensión al relacional con inversión tot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versos modelos de SAB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066920" y="1928880"/>
            <a:ext cx="445932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ntrola la ejecución concurrente de transaccion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jecuta: envía la operación al administrador de da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echaza: no permite realizar una operación (abor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Demora: demora la operación colocándola en una cola de ejecución hasta que sea convenien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91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cesamiento de Transac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ado que cada transacción debe ser procesada cómo si no existieran otras transacciones concurrentes, se requi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piedades ACID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Atomicidad: todo o nada en los efectos de una transa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onsistencia: Debe ser un cambio correcto de estado en la base de datos (no violar restricciones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Isolation: Cada transacción debe ver el estado correcto, aún si transacciones concurrentes están actualizando dichos dat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Durabilidad: Cuando una transacción commit todos sus efectos deben ser preservados, aun si hay una fa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Verdana"/>
              </a:rPr>
              <a:t>Transaccione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50880" y="209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a transacción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es un orden parcial, denotado por &lt;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on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{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,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}U{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lquier operación p є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distinta de t = {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o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, entonces p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,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entonces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ó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92200" y="1851120"/>
            <a:ext cx="527508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324000" y="1797120"/>
            <a:ext cx="295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posit(item x, int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re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x, t + 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5920" y="3240000"/>
            <a:ext cx="3224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fer(item x, item y, int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 = re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(f &lt;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x, f-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re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y, t+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"/>
          <p:cNvSpPr/>
          <p:nvPr/>
        </p:nvSpPr>
        <p:spPr>
          <a:xfrm>
            <a:off x="2741760" y="2360520"/>
            <a:ext cx="45748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b] -&gt; w1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d]-&gt; w1[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48200" y="2730600"/>
            <a:ext cx="31428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879800" y="3206880"/>
            <a:ext cx="3556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20960" y="4351320"/>
            <a:ext cx="4575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w1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24120" y="4599000"/>
            <a:ext cx="46512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60920" y="5130720"/>
            <a:ext cx="34128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12680" y="2532240"/>
            <a:ext cx="63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54720" y="4738680"/>
            <a:ext cx="58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Historia Comple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0040" y="201780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completa H sobre T={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…,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 es un orden parcial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don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H = U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cualquier par de operaciones conflictivas p, q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є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H p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 o q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os operaciones p, q son conflictivas si ambas operan sobre el mismo dato, y a lo menos una de ellas es un wr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41440" y="1773360"/>
            <a:ext cx="770256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H sobre T = {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 contiene todas las operaciones en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preserva todos los ordenes de las transacciones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...,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os los conflictos entre transacciones son orden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168800" y="2486160"/>
          <a:ext cx="3941640" cy="19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68800" y="2486160"/>
                    <a:ext cx="39416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blemas de Concurr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3440" y="2095200"/>
            <a:ext cx="88027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1. Actualizaciones Perdidas (Lost updates) – Depósito hecho por T</a:t>
            </a:r>
            <a:r>
              <a:rPr b="0" lang="es-CL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se pier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2. Lectura Sucia (Dirty Reads)- Cantidad deducida de x por T</a:t>
            </a:r>
            <a:r>
              <a:rPr b="0" lang="es-CL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desapare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1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1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2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2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ias Equival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78000" y="1773360"/>
            <a:ext cx="856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Dos historias H y H’ son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 equivalente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) s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on definidas sobre el mismo conjunto de transacciones y tienen el mismo conjunto de operaciones, 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todo par de operaciones conflictivas 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y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tal que a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H (or H’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’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Una historia es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si es equivalente a alguna historia serial H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35956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storias seriales sobre T = {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050920" y="2382840"/>
          <a:ext cx="568008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2382840"/>
                    <a:ext cx="568008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404640"/>
            <a:ext cx="74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ases de Datos Relacionales (RDBM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773360"/>
            <a:ext cx="8355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DBM´s nacieron en 1970 por el trabajo de E.F. Co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n madurado sobre los últimos 25 años, y aún son popula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miten trabajo concurrente (muchos usuarios en lí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BMS han sido diseñadas para aplicaciones de negocios (transaccion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ta eficiencia en el procesamiento transaccional (OL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ntienen restricciones de integridad (simples), preservando la consistencia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án basadas en relaciones (tablas) como estructuras de almacenamiento, y en un modelo para el diseño (Entidad – rel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28120" y="1935000"/>
            <a:ext cx="842652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a H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a 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&l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 no se cumple en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 no se cumple en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916360" y="3716280"/>
          <a:ext cx="453852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716280"/>
                    <a:ext cx="453852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34552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a H’ es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serializable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a que es equivalente a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076480" y="2781360"/>
          <a:ext cx="609588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6480" y="2781360"/>
                    <a:ext cx="609588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Grafo de Serial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819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- El 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grafo de serialización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G(H) de una historia H, es una grafo dirigido con nodos correspondientes a las transacciones con commit en H y arcos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al que p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y p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iene conflicto con q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jemplo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1. SG(H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3851280" y="4508640"/>
          <a:ext cx="25909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508640"/>
                    <a:ext cx="2590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f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G(H’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G(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y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y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340000" y="2276640"/>
          <a:ext cx="3200400" cy="61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276640"/>
                    <a:ext cx="32004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2987640" y="4437000"/>
          <a:ext cx="2590920" cy="157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437000"/>
                    <a:ext cx="2590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f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26680" y="1990440"/>
            <a:ext cx="84279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7120" indent="-53712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G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=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H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realmente viola la consistenci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lee una versión original de 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no lee valores y escribe un valor de 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lee x de 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y escribe un valor final de y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¿Qué sucede en el caso 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6227640" y="1557360"/>
          <a:ext cx="2286000" cy="18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557360"/>
                    <a:ext cx="22860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eorema de Seria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2127240"/>
            <a:ext cx="83455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Verdana"/>
              </a:rPr>
              <a:t>Teorema de Seriabilidad- </a:t>
            </a: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Una historia H es serializable si y sólo si SG(H) es acíclic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437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ecanismos que permite procesar las transacciones en un orden que garantice la seriabi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e mecanismo trabaja sobre el concepto de LOCKs (solicitud de acceso a los dat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ara ello requiere que una transacción sea Bien Form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7450200" y="237960"/>
            <a:ext cx="136980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un lock de lectura para el elemento x entregado a la transacción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lock de escritura para x entregado a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bera un lock de lectura sobre x mantenido por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 libera un lock de escritura sobre x mantenido por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ti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556160" y="4581360"/>
          <a:ext cx="2103480" cy="1552320"/>
        </p:xfrm>
        <a:graphic>
          <a:graphicData uri="http://schemas.openxmlformats.org/drawingml/2006/table">
            <a:tbl>
              <a:tblPr/>
              <a:tblGrid>
                <a:gridCol w="702000"/>
                <a:gridCol w="699840"/>
                <a:gridCol w="70164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Una transacción es Bien Formada si lockea un ítem en forma apropiada antes de accesarlo, y no lo lockea si el ítem tiene un lock que es conflictivo con el de la transacción, y lo deslockea una vez terminada su ope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- Una transacción es de dos fases (Two Phase) s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ene una fase de crecimiento, en la cual todos los locks necesarios son adquiridos, 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fase de decrecimiento, durante la cual todos los locks son liber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rquitectura de Funcionamien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tocolo Básico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389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toco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1. Antes de ejecutar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,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debe ser adquirido en representación de T</a:t>
            </a:r>
            <a:r>
              <a:rPr b="0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. Si otra transacción T</a:t>
            </a:r>
            <a:r>
              <a:rPr b="0" lang="es-ES" sz="2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tiene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q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conflictivo con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entonces la operación es demorada hasta que un lock pueda ser asign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. El programador no puede liberar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hasta que se reconozca que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ha sido complet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Una transacción no puede adquirir un nuevo lock después de haber liberado alguno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Teorema: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que tiene transacciones bien formadas y que sean de dos fases entonces es serializ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erificar que sea bien formada y que cumple con las dos fases tiene que ver con el protoco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erfil general en la forma de adquirir los loc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763800" y="5013000"/>
            <a:ext cx="2116440" cy="792360"/>
            <a:chOff x="3763800" y="5013000"/>
            <a:chExt cx="2116440" cy="792360"/>
          </a:xfrm>
        </p:grpSpPr>
        <p:sp>
          <p:nvSpPr>
            <p:cNvPr id="607" name=""/>
            <p:cNvSpPr/>
            <p:nvPr/>
          </p:nvSpPr>
          <p:spPr>
            <a:xfrm flipV="1">
              <a:off x="3763800" y="5778360"/>
              <a:ext cx="211644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914640" y="5013000"/>
              <a:ext cx="777960" cy="77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92600" y="5013360"/>
              <a:ext cx="9968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blemas con 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36600" y="2099880"/>
            <a:ext cx="8618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PL puede generar 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deadlock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, es decir, una situación donde dos o más transacciones esperan en un loop por los locks de otr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jemplo H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x]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x]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oluciones al DeadLoc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535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rdenar los ítems de la base de datos linealmente y requerir que la transacción tome sus locks en ese orden (FIF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sar Time-Ou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sar grafos Waits-for (WFG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dos son las transa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 arco existe de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a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si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espera por un lock de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 de WF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1000" y="2085480"/>
            <a:ext cx="86040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H: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x]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leccionar una víctima y romper el ciclo, en este caso puede ser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1905480" y="3138480"/>
            <a:ext cx="541800" cy="57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58400" y="3149640"/>
            <a:ext cx="541800" cy="57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6" idx="0"/>
            <a:endCxn id="617" idx="0"/>
          </p:cNvCxnSpPr>
          <p:nvPr/>
        </p:nvCxnSpPr>
        <p:spPr>
          <a:xfrm flipH="1" rot="16200000">
            <a:off x="3097080" y="2257920"/>
            <a:ext cx="11880" cy="1853280"/>
          </a:xfrm>
          <a:prstGeom prst="curvedConnector5">
            <a:avLst>
              <a:gd name="adj1" fmla="val -2056250"/>
              <a:gd name="adj2" fmla="val 49990"/>
              <a:gd name="adj3" fmla="val -20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7" idx="4"/>
            <a:endCxn id="616" idx="4"/>
          </p:cNvCxnSpPr>
          <p:nvPr/>
        </p:nvCxnSpPr>
        <p:spPr>
          <a:xfrm flipV="1" rot="16200000">
            <a:off x="3096720" y="2748600"/>
            <a:ext cx="11880" cy="1853280"/>
          </a:xfrm>
          <a:prstGeom prst="curvedConnector5">
            <a:avLst>
              <a:gd name="adj1" fmla="val -2056250"/>
              <a:gd name="adj2" fmla="val 49990"/>
              <a:gd name="adj3" fmla="val -20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77640" y="2003400"/>
            <a:ext cx="857700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Transacción T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lee-x-desde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 H s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;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;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H, 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=&gt;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jemplo H =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y] 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a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c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lee-y-desd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10920" y="1881360"/>
            <a:ext cx="7993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Una historia H 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cobr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RC) si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e-desd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(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) y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H =&gt;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- H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ro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o precede a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 H, así H no es R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Una historia H evita abortos en cascada (ACA) si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) =&gt;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851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- Una historia H es </a:t>
            </a:r>
            <a:r>
              <a:rPr b="0" i="1" lang="es-CL" sz="3400" spc="-1" strike="noStrike">
                <a:solidFill>
                  <a:srgbClr val="000000"/>
                </a:solidFill>
                <a:latin typeface="Verdana"/>
              </a:rPr>
              <a:t>estricta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(ST) si w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 o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[x] (i </a:t>
            </a:r>
            <a:r>
              <a:rPr b="0" lang="es-CL" sz="3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j) implica una de las siguientes alternativa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; 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aciones d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04280" y="1990800"/>
            <a:ext cx="85503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2PL Conserv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1. Cuando una transacción parte predeclara el conjuntos de elementos que leerá o escribirá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2. Una transacción debe adquirir todos sus locks antes de ejecutar sus operaciones. Si todos los locks no son adquiridos, debe liberar los que adquirió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3. Deadlock son evitados, debido a los locks son mantenidos mientras los us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4. Problemas de inanición de las transacciones que requieren muchos lock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834240" y="1636560"/>
            <a:ext cx="1663560" cy="928440"/>
            <a:chOff x="6834240" y="1636560"/>
            <a:chExt cx="1663560" cy="928440"/>
          </a:xfrm>
        </p:grpSpPr>
        <p:sp>
          <p:nvSpPr>
            <p:cNvPr id="629" name=""/>
            <p:cNvSpPr/>
            <p:nvPr/>
          </p:nvSpPr>
          <p:spPr>
            <a:xfrm>
              <a:off x="6834240" y="2550960"/>
              <a:ext cx="166356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02520" y="1663560"/>
              <a:ext cx="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15120" y="1636560"/>
              <a:ext cx="1050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aciones d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90600" y="1990440"/>
            <a:ext cx="8564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PL Estri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1. Libera los locks sólo después que la transacción realizó el commi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2. Se aseguran historias estrictas en la ejecución de este protocolo (historias recobrables y evitan abortos en cascada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3. Problemas de desempeño y no evita deadloc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943680" y="1719360"/>
            <a:ext cx="1501920" cy="846000"/>
            <a:chOff x="6943680" y="1719360"/>
            <a:chExt cx="1501920" cy="846000"/>
          </a:xfrm>
        </p:grpSpPr>
        <p:sp>
          <p:nvSpPr>
            <p:cNvPr id="635" name=""/>
            <p:cNvSpPr/>
            <p:nvPr/>
          </p:nvSpPr>
          <p:spPr>
            <a:xfrm>
              <a:off x="6943680" y="256536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216920" y="1719360"/>
              <a:ext cx="75060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81920" y="1719360"/>
              <a:ext cx="0" cy="8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9000" y="1885680"/>
            <a:ext cx="5486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ermite interactuar con el usuario mediante un lenguaje simple (SQL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QL (Standard Query Languaje) provee una sintaxis similar al inglés para acceder la base de da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QL básicos son SELECT, FROM, WHERE instru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0920" y="2362320"/>
            <a:ext cx="32004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ransacciones Distribuid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ases de Datos Distribui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496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a colección de db cuya distribución es trasparente a los usuarios, tal que ellos lo utilizan como sistemas loc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016280" y="3213000"/>
            <a:ext cx="7500600" cy="2974320"/>
            <a:chOff x="1016280" y="3213000"/>
            <a:chExt cx="7500600" cy="2974320"/>
          </a:xfrm>
        </p:grpSpPr>
        <p:sp>
          <p:nvSpPr>
            <p:cNvPr id="646" name=""/>
            <p:cNvSpPr/>
            <p:nvPr/>
          </p:nvSpPr>
          <p:spPr>
            <a:xfrm>
              <a:off x="160020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460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4852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152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86000" y="328932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1680" y="328932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057040" y="374652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6880" y="382284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43200" y="3746520"/>
              <a:ext cx="3505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19520" y="3594240"/>
              <a:ext cx="4724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6552720" y="3822840"/>
              <a:ext cx="381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62920" y="382284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124080" y="3594240"/>
              <a:ext cx="3657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7560" y="5727600"/>
              <a:ext cx="26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istemas autóno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2285640" y="5270400"/>
              <a:ext cx="1066680" cy="533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3124080" y="5194080"/>
              <a:ext cx="53352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867280" y="5194080"/>
              <a:ext cx="60984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6248520" y="5270040"/>
              <a:ext cx="137160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92200" y="321300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su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971440" y="3441600"/>
              <a:ext cx="1066680" cy="7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62720" y="3441600"/>
              <a:ext cx="1066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16280" y="451800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2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45920" y="451476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2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mas a Consider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87080" y="2044440"/>
            <a:ext cx="84675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iseño de bases de datos distribui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cesamiento de queries distribui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trol de transacciones distribui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gridad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umento de la disponibilidad frente Fallas (locales y link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ntrol de Transacciones Distribui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72680" y="2058840"/>
            <a:ext cx="848196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tocolos de coordinación que mantienen consistencia frente a fallas (2PC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eneran alto overhead en la operación de los sistemas locales debido a sus locks distribui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097000" y="3368520"/>
            <a:ext cx="5257800" cy="1295280"/>
            <a:chOff x="2097000" y="3368520"/>
            <a:chExt cx="5257800" cy="1295280"/>
          </a:xfrm>
        </p:grpSpPr>
        <p:sp>
          <p:nvSpPr>
            <p:cNvPr id="674" name=""/>
            <p:cNvSpPr/>
            <p:nvPr/>
          </p:nvSpPr>
          <p:spPr>
            <a:xfrm>
              <a:off x="2097000" y="3749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97600" y="4206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25800" y="4194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135840" y="35208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2706480" y="413028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383000" y="390204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35640" y="4435200"/>
              <a:ext cx="2209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87720" y="3368520"/>
              <a:ext cx="214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crementar el sueldo en un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tocolo Two Phase Comm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998640" y="2173320"/>
          <a:ext cx="7848360" cy="3944880"/>
        </p:xfrm>
        <a:graphic>
          <a:graphicData uri="http://schemas.openxmlformats.org/drawingml/2006/table">
            <a:tbl>
              <a:tblPr/>
              <a:tblGrid>
                <a:gridCol w="4259160"/>
                <a:gridCol w="3589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usuario inicia una transacción en el sitio C. El sitio C envía el trabajo respectivo a cada sit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 el trabajo en envía un re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el usuario envía el commit, C envía un mensaje Prepararse a Commit a los sit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un participante es capaz de realizar el commit, envía a C un voto SI. Si no puede, envía un voto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todos los votos fueron SI, se prepara un commit y envía un mensaje commit a todos. Si al menos un voto fue NO, envía el mensaje ABORT y se aborta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se recibe un commit, se realiza el commit de la transacción y se envía un ACK. Si recibe un ABORT, lo realiza y envía un AC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ués de recibir todos los ACK´s, realiza el término de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1848600" y="17845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ord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13480" y="1754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tocolo Two Phase Comm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998640" y="2173320"/>
          <a:ext cx="7848360" cy="3944880"/>
        </p:xfrm>
        <a:graphic>
          <a:graphicData uri="http://schemas.openxmlformats.org/drawingml/2006/table">
            <a:tbl>
              <a:tblPr/>
              <a:tblGrid>
                <a:gridCol w="4259160"/>
                <a:gridCol w="3589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usuario inicia una transacción en el sitio C. El sitio C envía el trabajo respectivo a cada sit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 el trabajo en envía un re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el usuario envía el commit, C envía un mensaje Prepararse a Commit a los sit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un participante es capaz de realizar el commit, envía a C un voto SI. Si no puede, envía un voto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todos los votos fueron SI, se prepara un commit y envía un mensaje commit a todos. Si al menos un voto fue NO, envía el mensaje ABORT y se aborta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se recibe un commit, se realiza el commit de la transacción y se envía un ACK. Si recibe un ABORT, lo realiza y envía un AC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ués de recibir todos los ACK´s, realiza el término de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"/>
          <p:cNvSpPr/>
          <p:nvPr/>
        </p:nvSpPr>
        <p:spPr>
          <a:xfrm>
            <a:off x="1848600" y="17845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ord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13480" y="1754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4360" y="4005360"/>
            <a:ext cx="272880" cy="1336680"/>
          </a:xfrm>
          <a:custGeom>
            <a:avLst/>
            <a:gdLst>
              <a:gd name="textAreaLeft" fmla="*/ 174240 w 272880"/>
              <a:gd name="textAreaRight" fmla="*/ 272880 w 272880"/>
              <a:gd name="textAreaTop" fmla="*/ 34560 h 1336680"/>
              <a:gd name="textAreaBottom" fmla="*/ 1302120 h 133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6200000">
            <a:off x="-1071000" y="4514760"/>
            <a:ext cx="30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entana de Incertidu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53720" y="568080"/>
            <a:ext cx="7792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sider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55480" y="2058840"/>
            <a:ext cx="839952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Ventana de incertidumbre se produce cuando un participante vota SI a commit y no ha recibido el mensaje de comm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coordinador no tiene incertidumbre, ya que decide instantaneamente si C o A cuando vo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Es necesario el último round de mensaj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blemas del 2P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9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lto overhead en las transacciones locales debidos a los locks que mantie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posible que se generen deadlock distribuidos (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Beeri and Obermarck, A resource class independent deadlock detection algorithm, VLDB 1981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y dependiente de las fallas de los sitios, mientras más fallas es necesario re enviar las transacciones a todos los sit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Bases de Dato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eplicad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yor Disponi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46040" y="2044440"/>
            <a:ext cx="85089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llas reducen la posibilidad de realizar operaciones distribuid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rategia de replicar datos permite obtener una alta disponibilidad frente a fall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373480" y="4005360"/>
            <a:ext cx="5943600" cy="2057400"/>
            <a:chOff x="2373480" y="4005360"/>
            <a:chExt cx="5943600" cy="2057400"/>
          </a:xfrm>
        </p:grpSpPr>
        <p:sp>
          <p:nvSpPr>
            <p:cNvPr id="704" name=""/>
            <p:cNvSpPr/>
            <p:nvPr/>
          </p:nvSpPr>
          <p:spPr>
            <a:xfrm>
              <a:off x="2373480" y="4462560"/>
              <a:ext cx="7617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02280" y="5529600"/>
              <a:ext cx="5331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78640" y="5529600"/>
              <a:ext cx="838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k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83360" y="4462560"/>
              <a:ext cx="83808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kg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R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63840" y="4005360"/>
              <a:ext cx="243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crementar el sueldo en un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3058920" y="484380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888080" y="491940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8080" y="58341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78440" y="5605560"/>
              <a:ext cx="304920" cy="45720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Algoritmos de Control de Réplic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ermiten mantener la consistencia entre las diferentes réplicas exis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xisten dos tipo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Optimis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el sistema debe estar disponible siempre, si hay problemas, ellos se resuelven cuando se conecten nuevamente los sit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Pesimis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la consistencia de los datos se debe garantizar, aun cuando no exista disponibilidad en algunos cas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R Pesimi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7240" y="2057400"/>
            <a:ext cx="8537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Hay de dos tip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áticos: Sitio primario, Mayoría de Votos, Quorum Consensu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inámicos: Token, Votos Dinámic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itio Prim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8280" y="2099880"/>
            <a:ext cx="5535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sitio A siempre es usado de referente, es decir, cualquier sitio debe tener acceso a A para realizar cambios en los da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 el sitio A no está disponible, el sistema completo tiene disponibilidad C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"/>
          <p:cNvSpPr/>
          <p:nvPr/>
        </p:nvSpPr>
        <p:spPr>
          <a:xfrm>
            <a:off x="66700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 C   D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04680" y="44067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B  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35040" y="44067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716880" y="3463920"/>
            <a:ext cx="66816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399440" y="3478320"/>
            <a:ext cx="72396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55911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ada sitio recibe un vo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ndo se separan, el grupo que tiene la mayoría (n/2+1) votos puede realizar la actual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Nota: entre dos actualizaciones sucesivas, siempre hay un sitio en comú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"/>
          <p:cNvSpPr/>
          <p:nvPr/>
        </p:nvSpPr>
        <p:spPr>
          <a:xfrm>
            <a:off x="6022800" y="21016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B    C    D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60080" y="29894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C              D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8080" y="39988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 B   C   D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252480" y="529596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E          C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291000" y="2523960"/>
            <a:ext cx="65556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46920" y="2511360"/>
            <a:ext cx="9144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5964120" y="3357720"/>
            <a:ext cx="300240" cy="62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278400" y="3370320"/>
            <a:ext cx="85896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178400" y="3330720"/>
            <a:ext cx="7779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969320" y="3359160"/>
            <a:ext cx="39672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923080" y="4367160"/>
            <a:ext cx="560160" cy="9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6620040" y="4340160"/>
            <a:ext cx="59976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932160" y="4340160"/>
            <a:ext cx="146052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19800" y="4352760"/>
            <a:ext cx="804960" cy="9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78000" y="2031840"/>
            <a:ext cx="850896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uede existir el caso de una falla y cero disponibilidad (condición estática de regla de actualiz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ndo hay cero disponibilidad y se vuelve a la posibilidad de actualizar, ¿quién (sitio) tiene la última vers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olución: se asigna un VN (version number) y cada vez que se realiza un update VN se incrementa en 1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"/>
          <p:cNvSpPr/>
          <p:nvPr/>
        </p:nvSpPr>
        <p:spPr>
          <a:xfrm>
            <a:off x="822240" y="184464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B    C    D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9520" y="27320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C              D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7520" y="374184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 B   C   D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3560" y="502452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B         E           C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090440" y="2266920"/>
            <a:ext cx="65592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46360" y="2254320"/>
            <a:ext cx="9144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63560" y="3100320"/>
            <a:ext cx="30024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77840" y="3112920"/>
            <a:ext cx="858960" cy="6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978200" y="3073320"/>
            <a:ext cx="77760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68760" y="3102120"/>
            <a:ext cx="396720" cy="70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655200" y="4110120"/>
            <a:ext cx="6660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1228680" y="4110120"/>
            <a:ext cx="44928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51200" y="4083120"/>
            <a:ext cx="1241280" cy="10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19240" y="4095720"/>
            <a:ext cx="804960" cy="9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95520" y="571824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C   D               B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2560" y="5349960"/>
            <a:ext cx="13644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186920" y="5376960"/>
            <a:ext cx="187020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82680" y="5364000"/>
            <a:ext cx="120168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87640" y="5349960"/>
            <a:ext cx="120168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417480" y="1893600"/>
            <a:ext cx="5149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cuándo es posible realizar un updat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cuál es la VN en cada cas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Quorum Consens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0040" y="2003400"/>
            <a:ext cx="84549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una generalización del método de mayor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le asignan votos a cada sitio con la condición que la suma sea imp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i los sitios reunidos tienen la mitad más un voto, entonces realizan el upd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realiza cuando la disponibilidad de los sitios es difer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46040" y="201780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rrige el problema de casos de cero disponibilidad del modelo estát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dos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VN (version number) corresponde a la versión de actu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 (sites cardinality) corresponde al número de sitios necesarios para realizar la actu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21:57:31Z</dcterms:created>
  <dc:creator>CCC</dc:creator>
  <dc:description/>
  <dc:language>en-US</dc:language>
  <cp:lastModifiedBy>Samuel</cp:lastModifiedBy>
  <dcterms:modified xsi:type="dcterms:W3CDTF">2005-09-19T16:32:29Z</dcterms:modified>
  <cp:revision>75</cp:revision>
  <dc:subject/>
  <dc:title>Architecture Design </dc:title>
</cp:coreProperties>
</file>