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74.xml.rels" ContentType="application/vnd.openxmlformats-package.relationships+xml"/>
  <Override PartName="/ppt/slides/_rels/slide104.xml.rels" ContentType="application/vnd.openxmlformats-package.relationships+xml"/>
  <Override PartName="/ppt/slides/_rels/slide103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110.xml.rels" ContentType="application/vnd.openxmlformats-package.relationships+xml"/>
  <Override PartName="/ppt/slides/_rels/slide80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13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52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92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76.xml.rels" ContentType="application/vnd.openxmlformats-package.relationships+xml"/>
  <Override PartName="/ppt/slides/_rels/slide106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9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113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11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969C5D-DDBA-40BF-B698-9881E7CC4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27B40B-118A-4054-8819-6B1E5C29D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98D418-2325-43AE-B194-5F5D24524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4CA11D-1698-4750-B2E3-D224CD50A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702B14-3D92-4CD7-831D-0C68B10F1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193217-CA78-488B-97E0-DD1BD3FA9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47240E-DF30-4C3C-98E3-0817E8763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CEF432-63B7-458A-B02D-E7575FBB9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F9B782-A2D7-46AC-AFC5-EFEB28D5C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8CB833-4E31-4D98-8618-49A45A1FB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71A630-4A8F-4DFA-80C0-6C4E1673B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89B767-B56A-4C97-9727-4685E159B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539280" y="6244920"/>
            <a:ext cx="7993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IN72K, Tecnologías de Información y Rediseño de Procesos                                   Primavera 20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48968-C558-48D8-8808-C2FE6D78C44E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80773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Verdana"/>
              </a:rPr>
              <a:t>Modelamiento en Bases de Dato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258560" y="3933720"/>
            <a:ext cx="7010280" cy="217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Magíster en Gestión de Operacion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Departamento de Ingeniería Industria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Universidad de Chil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Derechos Reservados ©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Samuel Vara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DBMS Arquitectura ...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038120" y="1885680"/>
            <a:ext cx="487692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Controla la ejecución concurrente de transaccione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57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Verdana"/>
              </a:rPr>
              <a:t>Ejecuta: envía la operación al Administrador de datos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57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Verdana"/>
              </a:rPr>
              <a:t>Rechaza: no permite realizar una operación (abort)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57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Verdana"/>
              </a:rPr>
              <a:t>Demora: demora la operación colocandola en una cola de ejecución hasta que sea conveniente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380880" y="2057400"/>
            <a:ext cx="3591000" cy="32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Verdana"/>
              </a:rPr>
              <a:t>Voto Dinámic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77504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Regla de asignació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En el grupo formado busco el máximo de las VN de los sitios (VN*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Con el SC de dichos sitios reviso la condición          + 1 </a:t>
            </a:r>
            <a:r>
              <a:rPr b="0" lang="es-ES" sz="26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 Nº sitios con VN*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2500" spc="-1" strike="noStrike">
                <a:solidFill>
                  <a:srgbClr val="000000"/>
                </a:solidFill>
                <a:latin typeface="Verdana"/>
              </a:rPr>
              <a:t>Si =&gt; hago updat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2500" spc="-1" strike="noStrike">
                <a:solidFill>
                  <a:srgbClr val="000000"/>
                </a:solidFill>
                <a:latin typeface="Verdana"/>
              </a:rPr>
              <a:t>No =&gt; no hay updat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9" name=""/>
              <p:cNvSpPr txBox="1"/>
              <p:nvPr/>
            </p:nvSpPr>
            <p:spPr>
              <a:xfrm>
                <a:off x="3132000" y="3633840"/>
                <a:ext cx="1008360" cy="44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⌊"/>
                        <m:endChr m:val="⌋"/>
                      </m:dPr>
                      <m:e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SC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Verdana"/>
              </a:rPr>
              <a:t>Voto Dinámic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1" name=""/>
          <p:cNvSpPr/>
          <p:nvPr/>
        </p:nvSpPr>
        <p:spPr>
          <a:xfrm>
            <a:off x="898560" y="1916280"/>
            <a:ext cx="5253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A           B            C           D              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VN     9           9             9           9              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SC     5            5            5           5              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893880" y="3036960"/>
            <a:ext cx="5252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A           B            C           D              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VN    10         10          10           9              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SC     3            3            3           5              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4060800" y="3022560"/>
            <a:ext cx="0" cy="11048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6070680" y="3063960"/>
            <a:ext cx="257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Llega una actualización al sitio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905040" y="4249800"/>
            <a:ext cx="5252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A           B            C           D              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VN    11         11          10           9              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SC     2            2            3           5              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4071960" y="433224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6081840" y="4276800"/>
            <a:ext cx="257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Llega una actualización al sitio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3049560" y="4290840"/>
            <a:ext cx="0" cy="1051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500400" y="5505480"/>
            <a:ext cx="502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Si CDE se juntan ¿pueden realizar un update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Mayor Disponibilid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344520" y="2036520"/>
            <a:ext cx="8610480" cy="40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Replicar datos genera un problema adicional de coordinación y re-actualización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Existen tecnologías (ejm. Oracle) que permite esto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Actual tendencia es descentralizar las actividades (locales) con un mínimo de multi-coordinación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Conclusion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684360" y="1844280"/>
            <a:ext cx="7920000" cy="40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Los sistemas distribuidos son una realidad, y serán la forma de trabajo en el futuro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Existe tecnología que los apoya, pero es necesario evaluar cual de ellas es la más adecuada en cada caso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La tendencia es a la delegación de funciones localmente con algún grado de multi-coordinació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80773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Verdana"/>
              </a:rPr>
              <a:t>Recuperación</a:t>
            </a:r>
            <a:br>
              <a:rPr sz="3600"/>
            </a:br>
            <a:r>
              <a:rPr b="0" lang="es-ES" sz="3600" spc="-1" strike="noStrike">
                <a:solidFill>
                  <a:srgbClr val="000000"/>
                </a:solidFill>
                <a:latin typeface="Verdana"/>
              </a:rPr>
              <a:t>en Bases de Dato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1258560" y="3933720"/>
            <a:ext cx="7010280" cy="217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Magíster en Gestión de Operacion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Departamento de Ingeniería Industria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Universidad de Chil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Derechos Reservados ©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Samuel Vara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DBMS Arquitectura ...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278240" y="1898280"/>
            <a:ext cx="46864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7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Verdana"/>
              </a:rPr>
              <a:t>Responsable por asegurar que la base de datos tiene los efectos de las transacciones que han ejecutado commit, y ninguno de los efectos de las abortadas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7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Verdana"/>
              </a:rPr>
              <a:t>Es diseñado para resistir las fallas y recuperar los efectos existentes en la memoria volátil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88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3971880" cy="35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Verdana"/>
              </a:rPr>
              <a:t>Fallas Típica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508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Software o procesamiento que causan que la base de datos sea detenida y reiniciada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Almacenamiento que hacen imposible recuperar los datos desde el almacenamient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Comunicaciones que abortan transacciones pero no el funcionamiento de DBMS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Verdana"/>
              </a:rPr>
              <a:t>Concepto de LOG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610920" y="1844280"/>
            <a:ext cx="808668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Un LOG es una secuencia de registros que documentan todos los eventos en los datos relevantes para la recuperación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Cada actualización es registrad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Cada término de transacción (A o C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Notaciones especiales (checkpoint) para facilitar la recuperació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El LOG contien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(start, T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(T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, x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Verdana"/>
              </a:rPr>
              <a:t>j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, v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, v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(commit/abort, T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Verdana"/>
              </a:rPr>
              <a:t>Registro de CheckPoin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0728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Su propósito es limitar la cantidad de registros del LOG que debe ser revisada en una etapa de reestablecimiento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Un registro de checkpoint contien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ID´s de todas las transacciones activas al tiempo del checkpoi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Dirección de las más recientes registros de todas las transacciones activa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Verdana"/>
              </a:rPr>
              <a:t>Ejempl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796" name=""/>
          <p:cNvGrpSpPr/>
          <p:nvPr/>
        </p:nvGrpSpPr>
        <p:grpSpPr>
          <a:xfrm>
            <a:off x="957240" y="1844640"/>
            <a:ext cx="6783480" cy="3646440"/>
            <a:chOff x="957240" y="1844640"/>
            <a:chExt cx="6783480" cy="3646440"/>
          </a:xfrm>
        </p:grpSpPr>
        <p:sp>
          <p:nvSpPr>
            <p:cNvPr id="797" name=""/>
            <p:cNvSpPr/>
            <p:nvPr/>
          </p:nvSpPr>
          <p:spPr>
            <a:xfrm flipH="1">
              <a:off x="2226960" y="2390760"/>
              <a:ext cx="12600" cy="3098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 flipH="1">
              <a:off x="7029360" y="2392560"/>
              <a:ext cx="12960" cy="3098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957240" y="3005280"/>
              <a:ext cx="97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1722600" y="3441600"/>
              <a:ext cx="3179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1913040" y="4124520"/>
              <a:ext cx="5554800" cy="1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3414960" y="4643640"/>
              <a:ext cx="2865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5079960" y="5311800"/>
              <a:ext cx="2660760" cy="1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31040" y="2581200"/>
              <a:ext cx="43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ahoma"/>
                </a:rPr>
                <a:t>T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3025080" y="3100320"/>
              <a:ext cx="43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ahoma"/>
                </a:rPr>
                <a:t>T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25200" y="3741840"/>
              <a:ext cx="43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ahoma"/>
                </a:rPr>
                <a:t>T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5139360" y="4287960"/>
              <a:ext cx="43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ahoma"/>
                </a:rPr>
                <a:t>T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6204600" y="4943520"/>
              <a:ext cx="43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ahoma"/>
                </a:rPr>
                <a:t>T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2063520" y="1844640"/>
              <a:ext cx="37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ahoma"/>
                </a:rPr>
                <a:t>t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6866280" y="1886040"/>
              <a:ext cx="34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ahoma"/>
                </a:rPr>
                <a:t>t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DBMS Arquitectura ...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219560" y="1752480"/>
            <a:ext cx="43480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7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Verdana"/>
              </a:rPr>
              <a:t>Responsable por asegurar que la base de datos tiene los efectos de las transacciones que han ejecutado commit, y ninguno de los efectos de las abortadas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7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Verdana"/>
              </a:rPr>
              <a:t>Es diseñado para resistir las fallas y recuperar los efectos existente en la memoria volátil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3971880" cy="35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Verdana"/>
              </a:rPr>
              <a:t>Algoritmo UNDO / RED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755640" y="2003400"/>
            <a:ext cx="7920000" cy="40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Localice el último checkpoin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RedoList = Ø, UndoList = {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todas las transacciones activas desde el checkpoint</a:t>
            </a: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Buscar hacia delant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SI (start T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) esta en el log ENTONC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08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UndoList = UndoList U {T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SI (commit T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) esta el log ENTONC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08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UndoList = UndoList \ {T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08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RedoList = RedoList U {T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Devuélvase deshaciendo UndoLis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Avance rehaciendo RedoLis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Verdana"/>
              </a:rPr>
              <a:t>Ejempl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500040" y="2058840"/>
            <a:ext cx="8454960" cy="437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RL =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Ø, UL = {T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, T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(start T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Verdana"/>
              </a:rPr>
              <a:t>4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)  RL = Ø, UL ={T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, T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, T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Verdana"/>
              </a:rPr>
              <a:t>4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(start T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Verdana"/>
              </a:rPr>
              <a:t>5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)  RL = Ø, UL ={T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, T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, T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Verdana"/>
              </a:rPr>
              <a:t>4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(commit T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)  RL = {T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}, UL ={T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, T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Verdana"/>
              </a:rPr>
              <a:t>4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, T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Verdana"/>
              </a:rPr>
              <a:t>5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(commit T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Verdana"/>
              </a:rPr>
              <a:t>4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)  RL = {T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, T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Verdana"/>
              </a:rPr>
              <a:t>4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}, UL ={T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, T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Verdana"/>
              </a:rPr>
              <a:t>5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RL: todas las transacciones que terminaron entre CP y la fall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UL: Todas las transacciones que no terminaron antes de la falla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Verdana"/>
              </a:rPr>
              <a:t>Comentari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568440" y="2031480"/>
            <a:ext cx="8386560" cy="41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Los mecanismos de recuperación de falla implementan algoritmos similares, pero más sofisticados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Existen una serie de mecanismos que mezclan el tema del backup y la recuperación de fallas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Verdana"/>
              </a:rPr>
              <a:t>Bibliografí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458280" y="2085480"/>
            <a:ext cx="8496360" cy="40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Bernstein, P., Hadzilacos, V. y Goodman, N., Concurrency Control and Recovery in databases Systems, Addison Wesley, 1987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DBMS Arquitectura ...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219560" y="1752480"/>
            <a:ext cx="43480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Un almacenamiento eficiente para datos muy solicitados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Es de tamaño reducido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Esta ubicado entre la memoria volátil y la estable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609480" y="2438280"/>
            <a:ext cx="3438720" cy="30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80773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Verdana"/>
              </a:rPr>
              <a:t>Bases de Datos</a:t>
            </a:r>
            <a:br>
              <a:rPr sz="3600"/>
            </a:br>
            <a:r>
              <a:rPr b="0" lang="es-MX" sz="3600" spc="-1" strike="noStrike">
                <a:solidFill>
                  <a:srgbClr val="000000"/>
                </a:solidFill>
                <a:latin typeface="Verdana"/>
              </a:rPr>
              <a:t>Modelamiento Conceptual de Dato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258560" y="3933720"/>
            <a:ext cx="7010280" cy="217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Magíster en Gestión de Operacion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Departamento de Ingeniería Industria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Universidad de Chil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Derechos Reservados ©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Samuel Vara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12720" y="763200"/>
            <a:ext cx="7540560" cy="60948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Modelo de Dat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11280" y="1773000"/>
            <a:ext cx="8208720" cy="435132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000000"/>
                </a:solidFill>
                <a:latin typeface="Verdana"/>
              </a:rPr>
              <a:t>Objetivos: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Modelar el negocio (reglas, información y restricciones) desde el punto de vista de los datos relevantes a las decisiones del sistema de administración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Especificar los requerimientos de información (datos a almacenar por el sistema en su parte computacional)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12720" y="701280"/>
            <a:ext cx="7392960" cy="7254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Modelo Entidad-Relació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14440" y="1989000"/>
            <a:ext cx="8378640" cy="460872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Entidad y Entidad Se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s-ES_tradnl" sz="2100" spc="-1" strike="noStrike">
                <a:solidFill>
                  <a:srgbClr val="000000"/>
                </a:solidFill>
                <a:latin typeface="Verdana"/>
              </a:rPr>
              <a:t>Una entidad es un </a:t>
            </a:r>
            <a:r>
              <a:rPr b="0" i="1" lang="es-ES_tradnl" sz="2100" spc="-1" strike="noStrike">
                <a:solidFill>
                  <a:srgbClr val="000000"/>
                </a:solidFill>
                <a:latin typeface="Verdana"/>
              </a:rPr>
              <a:t>objeto</a:t>
            </a:r>
            <a:r>
              <a:rPr b="0" lang="es-ES_tradnl" sz="2100" spc="-1" strike="noStrike">
                <a:solidFill>
                  <a:srgbClr val="000000"/>
                </a:solidFill>
                <a:latin typeface="Verdana"/>
              </a:rPr>
              <a:t> (sin métodos) que es distinguible de otros. Una Entidad Set es un conjunto de entidades (i.e., cosas de las cuales el SIA deberá mantener información)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Relación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s-ES_tradnl" sz="2100" spc="-1" strike="noStrike">
                <a:solidFill>
                  <a:srgbClr val="000000"/>
                </a:solidFill>
                <a:latin typeface="Verdana"/>
              </a:rPr>
              <a:t>Una relación (</a:t>
            </a:r>
            <a:r>
              <a:rPr b="0" i="1" lang="es-ES_tradnl" sz="2100" spc="-1" strike="noStrike">
                <a:solidFill>
                  <a:srgbClr val="000000"/>
                </a:solidFill>
                <a:latin typeface="Verdana"/>
              </a:rPr>
              <a:t>link</a:t>
            </a:r>
            <a:r>
              <a:rPr b="0" lang="es-ES_tradnl" sz="2100" spc="-1" strike="noStrike">
                <a:solidFill>
                  <a:srgbClr val="000000"/>
                </a:solidFill>
                <a:latin typeface="Verdana"/>
              </a:rPr>
              <a:t>) es un mapeo de restricciones que expresa el número de entidades a la cual otra entidad puede estar asociada vía una relación (i.e., asociación lógica entre entidades)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76360" y="821880"/>
            <a:ext cx="7999200" cy="6987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Modelo Conceptual de Dat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8002800" cy="426744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Nomenclatura (Martin</a:t>
            </a:r>
            <a:r>
              <a:rPr b="0" lang="es-ES_tradnl" sz="3000" spc="-1" strike="noStrike" baseline="30000">
                <a:solidFill>
                  <a:srgbClr val="000000"/>
                </a:solidFill>
                <a:latin typeface="Verdana"/>
              </a:rPr>
              <a:t>(*)</a:t>
            </a: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)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Entidades: un rectángulo con su nombre y atributo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3924360" y="3068640"/>
            <a:ext cx="2303280" cy="2514600"/>
            <a:chOff x="3924360" y="3068640"/>
            <a:chExt cx="2303280" cy="2514600"/>
          </a:xfrm>
        </p:grpSpPr>
        <p:sp>
          <p:nvSpPr>
            <p:cNvPr id="167" name=""/>
            <p:cNvSpPr/>
            <p:nvPr/>
          </p:nvSpPr>
          <p:spPr>
            <a:xfrm>
              <a:off x="3924360" y="3068640"/>
              <a:ext cx="2303280" cy="2514600"/>
            </a:xfrm>
            <a:prstGeom prst="rect">
              <a:avLst/>
            </a:prstGeom>
            <a:noFill/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924360" y="3678480"/>
              <a:ext cx="230328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386240" y="3235320"/>
              <a:ext cx="1288440" cy="37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5320" rIns="85320" tIns="42840" bIns="42840" anchor="t">
              <a:spAutoFit/>
            </a:bodyPr>
            <a:p>
              <a:pPr>
                <a:tabLst>
                  <a:tab algn="l" pos="0"/>
                  <a:tab algn="l" pos="853920"/>
                  <a:tab algn="l" pos="1708200"/>
                  <a:tab algn="l" pos="2562120"/>
                  <a:tab algn="l" pos="3416400"/>
                  <a:tab algn="l" pos="4270320"/>
                  <a:tab algn="l" pos="5124600"/>
                  <a:tab algn="l" pos="5978520"/>
                  <a:tab algn="l" pos="6832440"/>
                  <a:tab algn="l" pos="7686720"/>
                  <a:tab algn="l" pos="8540640"/>
                  <a:tab algn="l" pos="9394920"/>
                  <a:tab algn="l" pos="10248840"/>
                </a:tabLst>
              </a:pPr>
              <a:r>
                <a:rPr b="1" lang="es-ES_tradnl" sz="1900" spc="-1" strike="noStrike">
                  <a:solidFill>
                    <a:srgbClr val="000000"/>
                  </a:solidFill>
                  <a:latin typeface="Times New Roman"/>
                </a:rPr>
                <a:t>&lt;Nombre&gt;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047120" y="3692520"/>
              <a:ext cx="1383120" cy="37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5320" rIns="85320" tIns="42840" bIns="42840" anchor="t">
              <a:spAutoFit/>
            </a:bodyPr>
            <a:p>
              <a:pPr>
                <a:tabLst>
                  <a:tab algn="l" pos="0"/>
                  <a:tab algn="l" pos="853920"/>
                  <a:tab algn="l" pos="1708200"/>
                  <a:tab algn="l" pos="2562120"/>
                  <a:tab algn="l" pos="3416400"/>
                  <a:tab algn="l" pos="4270320"/>
                  <a:tab algn="l" pos="5124600"/>
                  <a:tab algn="l" pos="5978520"/>
                  <a:tab algn="l" pos="6832440"/>
                  <a:tab algn="l" pos="7686720"/>
                  <a:tab algn="l" pos="8540640"/>
                  <a:tab algn="l" pos="9394920"/>
                  <a:tab algn="l" pos="10248840"/>
                </a:tabLst>
              </a:pPr>
              <a:r>
                <a:rPr b="1" lang="es-ES_tradnl" sz="1900" spc="-1" strike="noStrike">
                  <a:solidFill>
                    <a:srgbClr val="000000"/>
                  </a:solidFill>
                  <a:latin typeface="Times New Roman"/>
                </a:rPr>
                <a:t>&lt;atributos&gt;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61160" y="4973760"/>
              <a:ext cx="1383120" cy="37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5320" rIns="85320" tIns="42840" bIns="42840" anchor="t">
              <a:spAutoFit/>
            </a:bodyPr>
            <a:p>
              <a:pPr>
                <a:tabLst>
                  <a:tab algn="l" pos="0"/>
                  <a:tab algn="l" pos="853920"/>
                  <a:tab algn="l" pos="1708200"/>
                  <a:tab algn="l" pos="2562120"/>
                  <a:tab algn="l" pos="3416400"/>
                  <a:tab algn="l" pos="4270320"/>
                  <a:tab algn="l" pos="5124600"/>
                  <a:tab algn="l" pos="5978520"/>
                  <a:tab algn="l" pos="6832440"/>
                  <a:tab algn="l" pos="7686720"/>
                  <a:tab algn="l" pos="8540640"/>
                  <a:tab algn="l" pos="9394920"/>
                  <a:tab algn="l" pos="10248840"/>
                </a:tabLst>
              </a:pPr>
              <a:r>
                <a:rPr b="1" lang="es-ES_tradnl" sz="1900" spc="-1" strike="noStrike">
                  <a:solidFill>
                    <a:srgbClr val="000000"/>
                  </a:solidFill>
                  <a:latin typeface="Times New Roman"/>
                </a:rPr>
                <a:t>&lt;atributos&gt;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611280" y="5661000"/>
            <a:ext cx="8229600" cy="3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(*) adoptada ya que el PowerDesigner - DataArquitecture usa esta  not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76360" y="701640"/>
            <a:ext cx="7999200" cy="81936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Tipos de Entidad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143920" cy="45432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Sujet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Son aquellas cuya existencia no depende esencialmente del tiemp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Ej: Un bien del activo inmovilizad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Ej: Una cuenta del plan de cuentas de la empres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Event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Son aquellos hechos que al suceder modifican los valores de sus atributos y/o los de las entidades sujet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Ej: Una salida de bodeg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Ej: Un depósito a una cuenta corrient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La fecha es siempre un atributo importan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76360" y="701640"/>
            <a:ext cx="7999200" cy="81936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Atributos de las Entidad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9640" y="206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Identificador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únicos (para las entidades sujeto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compuestos (para las entidades evento) o únicos si se utiliza el número de folio del formulario que se utilizó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Atributos general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campos codificados o decodificado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94920" y="691920"/>
            <a:ext cx="7929720" cy="77148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000000"/>
                </a:solidFill>
                <a:latin typeface="Verdana"/>
              </a:rPr>
              <a:t>Características de las Relacione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4360" y="1773000"/>
            <a:ext cx="7775280" cy="411948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Las entidades están asociadas o relacionadas lógicamente (miden la </a:t>
            </a:r>
            <a:r>
              <a:rPr b="0" i="1" lang="es-ES_tradnl" sz="3000" spc="-1" strike="noStrike">
                <a:solidFill>
                  <a:srgbClr val="000000"/>
                </a:solidFill>
                <a:latin typeface="Verdana"/>
              </a:rPr>
              <a:t>cardinalidad</a:t>
            </a: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)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Tienen una naturaleza</a:t>
            </a: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097280" indent="-21924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Verdana"/>
              </a:rPr>
              <a:t>pertenencia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097280" indent="-21924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Verdana"/>
              </a:rPr>
              <a:t>tempora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097280" indent="-21924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Verdana"/>
              </a:rPr>
              <a:t>espacia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097280" indent="-21924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Verdana"/>
              </a:rPr>
              <a:t>de parentesco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Pueden poseer Atributos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Introducció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¿Qué es una Base de Datos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Verdana"/>
              </a:rPr>
              <a:t>Sistemas de Información y Bases de Dato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Verdana"/>
              </a:rPr>
              <a:t>Sistemas Administradores de Bases de Datos (SABD o DBMS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Verdana"/>
              </a:rPr>
              <a:t>El campo de las bases de dato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Verdana"/>
              </a:rPr>
              <a:t>Comparación con el proceso por archivo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Verdana"/>
              </a:rPr>
              <a:t>Paradigma de base de dato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Verdana"/>
              </a:rPr>
              <a:t>Niveles de automatización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Verdana"/>
              </a:rPr>
              <a:t>Aplicaciones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12720" y="763200"/>
            <a:ext cx="7508880" cy="73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Cardinalid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"/>
          <p:cNvSpPr/>
          <p:nvPr/>
        </p:nvSpPr>
        <p:spPr>
          <a:xfrm>
            <a:off x="947880" y="1773360"/>
            <a:ext cx="780084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ardinalidad es el máximo número de ocurrencias de una entidad (objeto) para una sola ocurrencia de la entidad (objeto) relacionad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2489760" y="3230640"/>
            <a:ext cx="4132440" cy="2700720"/>
            <a:chOff x="2489760" y="3230640"/>
            <a:chExt cx="4132440" cy="2700720"/>
          </a:xfrm>
        </p:grpSpPr>
        <p:grpSp>
          <p:nvGrpSpPr>
            <p:cNvPr id="182" name=""/>
            <p:cNvGrpSpPr/>
            <p:nvPr/>
          </p:nvGrpSpPr>
          <p:grpSpPr>
            <a:xfrm>
              <a:off x="2495880" y="3230640"/>
              <a:ext cx="3952080" cy="438480"/>
              <a:chOff x="2495880" y="3230640"/>
              <a:chExt cx="3952080" cy="438480"/>
            </a:xfrm>
          </p:grpSpPr>
          <p:grpSp>
            <p:nvGrpSpPr>
              <p:cNvPr id="183" name=""/>
              <p:cNvGrpSpPr/>
              <p:nvPr/>
            </p:nvGrpSpPr>
            <p:grpSpPr>
              <a:xfrm>
                <a:off x="2495880" y="3257280"/>
                <a:ext cx="3952080" cy="411840"/>
                <a:chOff x="2495880" y="3257280"/>
                <a:chExt cx="3952080" cy="41184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2495880" y="3257280"/>
                  <a:ext cx="1133280" cy="411840"/>
                </a:xfrm>
                <a:prstGeom prst="rect">
                  <a:avLst/>
                </a:prstGeom>
                <a:noFill/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5314680" y="3257280"/>
                  <a:ext cx="1133280" cy="411840"/>
                </a:xfrm>
                <a:prstGeom prst="rect">
                  <a:avLst/>
                </a:prstGeom>
                <a:noFill/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3632760" y="3462120"/>
                  <a:ext cx="1677960" cy="1800"/>
                </a:xfrm>
                <a:prstGeom prst="line">
                  <a:avLst/>
                </a:prstGeom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2642400" y="3369600"/>
                  <a:ext cx="6224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1028880"/>
                      <a:tab algn="l" pos="2057400"/>
                      <a:tab algn="l" pos="3086280"/>
                      <a:tab algn="l" pos="4114800"/>
                      <a:tab algn="l" pos="5143680"/>
                      <a:tab algn="l" pos="6172200"/>
                      <a:tab algn="l" pos="7201080"/>
                      <a:tab algn="l" pos="8229600"/>
                      <a:tab algn="l" pos="9258480"/>
                      <a:tab algn="l" pos="102870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</a:rPr>
                    <a:t>Entidad 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5461560" y="3369600"/>
                  <a:ext cx="6148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1028880"/>
                      <a:tab algn="l" pos="2057400"/>
                      <a:tab algn="l" pos="3086280"/>
                      <a:tab algn="l" pos="4114800"/>
                      <a:tab algn="l" pos="5143680"/>
                      <a:tab algn="l" pos="6172200"/>
                      <a:tab algn="l" pos="7201080"/>
                      <a:tab algn="l" pos="8229600"/>
                      <a:tab algn="l" pos="9258480"/>
                      <a:tab algn="l" pos="102870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</a:rPr>
                    <a:t>Entidad 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9" name=""/>
              <p:cNvSpPr/>
              <p:nvPr/>
            </p:nvSpPr>
            <p:spPr>
              <a:xfrm>
                <a:off x="4091040" y="3230640"/>
                <a:ext cx="5418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1028880"/>
                    <a:tab algn="l" pos="2057400"/>
                    <a:tab algn="l" pos="3086280"/>
                    <a:tab algn="l" pos="4114800"/>
                    <a:tab algn="l" pos="5143680"/>
                    <a:tab algn="l" pos="6172200"/>
                    <a:tab algn="l" pos="7201080"/>
                    <a:tab algn="l" pos="8229600"/>
                    <a:tab algn="l" pos="9258480"/>
                    <a:tab algn="l" pos="10287000"/>
                  </a:tabLst>
                </a:pPr>
                <a:r>
                  <a:rPr b="0" lang="es-ES_tradnl" sz="1200" spc="-1" strike="noStrike">
                    <a:solidFill>
                      <a:srgbClr val="000000"/>
                    </a:solidFill>
                    <a:latin typeface="Times New Roman"/>
                  </a:rPr>
                  <a:t>Relació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0" name=""/>
            <p:cNvSpPr/>
            <p:nvPr/>
          </p:nvSpPr>
          <p:spPr>
            <a:xfrm>
              <a:off x="2489760" y="4048560"/>
              <a:ext cx="225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s-ES_tradnl" sz="1200" spc="-1" strike="noStrike">
                  <a:solidFill>
                    <a:srgbClr val="000000"/>
                  </a:solidFill>
                  <a:latin typeface="Times New Roman"/>
                </a:rPr>
                <a:t>I.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1" name=""/>
            <p:cNvGrpSpPr/>
            <p:nvPr/>
          </p:nvGrpSpPr>
          <p:grpSpPr>
            <a:xfrm>
              <a:off x="2939040" y="3919680"/>
              <a:ext cx="1374120" cy="228240"/>
              <a:chOff x="2939040" y="3919680"/>
              <a:chExt cx="1374120" cy="228240"/>
            </a:xfrm>
          </p:grpSpPr>
          <p:sp>
            <p:nvSpPr>
              <p:cNvPr id="192" name=""/>
              <p:cNvSpPr/>
              <p:nvPr/>
            </p:nvSpPr>
            <p:spPr>
              <a:xfrm>
                <a:off x="2939040" y="4033440"/>
                <a:ext cx="1374120" cy="18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 flipV="1">
                <a:off x="4002840" y="3919680"/>
                <a:ext cx="306720" cy="11376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3022560" y="3963960"/>
                <a:ext cx="1440" cy="14112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4002840" y="4033440"/>
                <a:ext cx="306720" cy="1144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6" name=""/>
            <p:cNvSpPr/>
            <p:nvPr/>
          </p:nvSpPr>
          <p:spPr>
            <a:xfrm>
              <a:off x="2943360" y="4399920"/>
              <a:ext cx="2911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Una ocurrencia                                 con much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943360" y="4673520"/>
              <a:ext cx="3158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obligatoria                                         una ocurrencia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490120" y="5123160"/>
              <a:ext cx="246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s-ES_tradnl" sz="1200" spc="-1" strike="noStrike">
                  <a:solidFill>
                    <a:srgbClr val="000000"/>
                  </a:solidFill>
                  <a:latin typeface="Times New Roman"/>
                </a:rPr>
                <a:t>II.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939040" y="5110560"/>
              <a:ext cx="137448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V="1">
              <a:off x="4002840" y="4996080"/>
              <a:ext cx="306720" cy="1141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02840" y="5110560"/>
              <a:ext cx="306720" cy="1144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097440" y="5039280"/>
              <a:ext cx="142920" cy="142920"/>
            </a:xfrm>
            <a:prstGeom prst="ellipse">
              <a:avLst/>
            </a:prstGeom>
            <a:solidFill>
              <a:srgbClr val="b2b2b2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783600" y="5039280"/>
              <a:ext cx="142200" cy="142920"/>
            </a:xfrm>
            <a:prstGeom prst="ellipse">
              <a:avLst/>
            </a:prstGeom>
            <a:solidFill>
              <a:srgbClr val="b2b2b2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941200" y="5473440"/>
              <a:ext cx="969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Una ocurrencia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190480" y="5473440"/>
              <a:ext cx="14317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con cero, una o much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939400" y="5748480"/>
              <a:ext cx="863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una o ningun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189760" y="5748480"/>
              <a:ext cx="936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una ocurrencia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8" name=""/>
            <p:cNvGrpSpPr/>
            <p:nvPr/>
          </p:nvGrpSpPr>
          <p:grpSpPr>
            <a:xfrm>
              <a:off x="3976200" y="5521680"/>
              <a:ext cx="1004400" cy="65520"/>
              <a:chOff x="3976200" y="5521680"/>
              <a:chExt cx="1004400" cy="65520"/>
            </a:xfrm>
          </p:grpSpPr>
          <p:sp>
            <p:nvSpPr>
              <p:cNvPr id="209" name=""/>
              <p:cNvSpPr/>
              <p:nvPr/>
            </p:nvSpPr>
            <p:spPr>
              <a:xfrm>
                <a:off x="3976200" y="5553360"/>
                <a:ext cx="944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916880" y="5521680"/>
                <a:ext cx="63720" cy="65520"/>
              </a:xfrm>
              <a:custGeom>
                <a:avLst/>
                <a:gdLst/>
                <a:ahLst/>
                <a:rect l="l" t="t" r="r" b="b"/>
                <a:pathLst>
                  <a:path w="72" h="73">
                    <a:moveTo>
                      <a:pt x="0" y="73"/>
                    </a:moveTo>
                    <a:lnTo>
                      <a:pt x="72" y="36"/>
                    </a:lnTo>
                    <a:lnTo>
                      <a:pt x="0" y="0"/>
                    </a:lnTo>
                    <a:lnTo>
                      <a:pt x="0" y="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1" name=""/>
            <p:cNvGrpSpPr/>
            <p:nvPr/>
          </p:nvGrpSpPr>
          <p:grpSpPr>
            <a:xfrm>
              <a:off x="3976200" y="5812560"/>
              <a:ext cx="1004400" cy="65880"/>
              <a:chOff x="3976200" y="5812560"/>
              <a:chExt cx="1004400" cy="65880"/>
            </a:xfrm>
          </p:grpSpPr>
          <p:sp>
            <p:nvSpPr>
              <p:cNvPr id="212" name=""/>
              <p:cNvSpPr/>
              <p:nvPr/>
            </p:nvSpPr>
            <p:spPr>
              <a:xfrm flipH="1">
                <a:off x="4036680" y="5846400"/>
                <a:ext cx="94392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3976200" y="5812560"/>
                <a:ext cx="64080" cy="65880"/>
              </a:xfrm>
              <a:custGeom>
                <a:avLst/>
                <a:gdLst/>
                <a:ahLst/>
                <a:rect l="l" t="t" r="r" b="b"/>
                <a:pathLst>
                  <a:path w="71" h="73">
                    <a:moveTo>
                      <a:pt x="71" y="0"/>
                    </a:moveTo>
                    <a:lnTo>
                      <a:pt x="0" y="37"/>
                    </a:lnTo>
                    <a:lnTo>
                      <a:pt x="71" y="73"/>
                    </a:lnTo>
                    <a:lnTo>
                      <a:pt x="7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4" name=""/>
            <p:cNvGrpSpPr/>
            <p:nvPr/>
          </p:nvGrpSpPr>
          <p:grpSpPr>
            <a:xfrm>
              <a:off x="3976200" y="4444920"/>
              <a:ext cx="1004400" cy="65520"/>
              <a:chOff x="3976200" y="4444920"/>
              <a:chExt cx="1004400" cy="65520"/>
            </a:xfrm>
          </p:grpSpPr>
          <p:sp>
            <p:nvSpPr>
              <p:cNvPr id="215" name=""/>
              <p:cNvSpPr/>
              <p:nvPr/>
            </p:nvSpPr>
            <p:spPr>
              <a:xfrm>
                <a:off x="3976200" y="4475160"/>
                <a:ext cx="944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4916880" y="4444920"/>
                <a:ext cx="63720" cy="65520"/>
              </a:xfrm>
              <a:custGeom>
                <a:avLst/>
                <a:gdLst/>
                <a:ahLst/>
                <a:rect l="l" t="t" r="r" b="b"/>
                <a:pathLst>
                  <a:path w="72" h="73">
                    <a:moveTo>
                      <a:pt x="0" y="73"/>
                    </a:moveTo>
                    <a:lnTo>
                      <a:pt x="72" y="36"/>
                    </a:lnTo>
                    <a:lnTo>
                      <a:pt x="0" y="0"/>
                    </a:lnTo>
                    <a:lnTo>
                      <a:pt x="0" y="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7" name=""/>
            <p:cNvGrpSpPr/>
            <p:nvPr/>
          </p:nvGrpSpPr>
          <p:grpSpPr>
            <a:xfrm>
              <a:off x="3976200" y="4735800"/>
              <a:ext cx="1004400" cy="63720"/>
              <a:chOff x="3976200" y="4735800"/>
              <a:chExt cx="1004400" cy="63720"/>
            </a:xfrm>
          </p:grpSpPr>
          <p:sp>
            <p:nvSpPr>
              <p:cNvPr id="218" name=""/>
              <p:cNvSpPr/>
              <p:nvPr/>
            </p:nvSpPr>
            <p:spPr>
              <a:xfrm flipH="1">
                <a:off x="4036680" y="4767840"/>
                <a:ext cx="943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3976200" y="4735800"/>
                <a:ext cx="64080" cy="63720"/>
              </a:xfrm>
              <a:custGeom>
                <a:avLst/>
                <a:gdLst/>
                <a:ahLst/>
                <a:rect l="l" t="t" r="r" b="b"/>
                <a:pathLst>
                  <a:path w="71" h="73">
                    <a:moveTo>
                      <a:pt x="71" y="0"/>
                    </a:moveTo>
                    <a:lnTo>
                      <a:pt x="0" y="38"/>
                    </a:lnTo>
                    <a:lnTo>
                      <a:pt x="71" y="73"/>
                    </a:lnTo>
                    <a:lnTo>
                      <a:pt x="7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0" name=""/>
            <p:cNvSpPr/>
            <p:nvPr/>
          </p:nvSpPr>
          <p:spPr>
            <a:xfrm>
              <a:off x="4011840" y="3962520"/>
              <a:ext cx="0" cy="171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76360" y="880920"/>
            <a:ext cx="7999200" cy="6400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000000"/>
                </a:solidFill>
                <a:latin typeface="Verdana"/>
              </a:rPr>
              <a:t>Guía de Identificació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68360" y="220500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lIns="112680" rIns="112680" tIns="51840" bIns="5184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Los </a:t>
            </a:r>
            <a:r>
              <a:rPr b="0" i="1" lang="es-ES_tradnl" sz="3000" spc="-1" strike="noStrike">
                <a:solidFill>
                  <a:srgbClr val="000000"/>
                </a:solidFill>
                <a:latin typeface="Verdana"/>
              </a:rPr>
              <a:t>SUSTANTIVOS</a:t>
            </a: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 son candidatos para definir entidades (nombres)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Los </a:t>
            </a:r>
            <a:r>
              <a:rPr b="0" i="1" lang="es-ES_tradnl" sz="3000" spc="-1" strike="noStrike">
                <a:solidFill>
                  <a:srgbClr val="000000"/>
                </a:solidFill>
                <a:latin typeface="Verdana"/>
              </a:rPr>
              <a:t>VERBOS</a:t>
            </a: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 son los candidatos para definir relaciones (acciones)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Lee de izquierda a derecha, arriba abaj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7921440" cy="126396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Verdana"/>
              </a:rPr>
              <a:t>Fuentes de Información para Captar Elementos del Modelo de Datos Conceptua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11280" y="1844280"/>
            <a:ext cx="8053200" cy="43434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DECISIONES Y ACCION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Usuari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FUNCIONES, ACTIVIDADES Y TAREAS DEL SI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FORMULARIO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Puede el mismo ser una entidad event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Se refiere a entidades sujeto y event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4489560" y="3382920"/>
            <a:ext cx="16488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94920" y="259920"/>
            <a:ext cx="7559640" cy="124308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Ej: análisis de actividades dentro de las funcion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24000" y="1844640"/>
            <a:ext cx="8572320" cy="428616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Una función puede tener muchas actividades (decisiones, acciones, etc.) que se refieren a entidades del modelo de datos conceptual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Ej :</a:t>
            </a: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SELECCIONAR </a:t>
            </a:r>
            <a:r>
              <a:rPr b="0" i="1" lang="es-ES_tradnl" sz="2600" spc="-1" strike="noStrike">
                <a:solidFill>
                  <a:srgbClr val="000000"/>
                </a:solidFill>
                <a:latin typeface="Verdana"/>
              </a:rPr>
              <a:t>PROVEEDOR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SEGUIMIENTO DE </a:t>
            </a:r>
            <a:r>
              <a:rPr b="0" i="1" lang="es-ES_tradnl" sz="2600" spc="-1" strike="noStrike">
                <a:solidFill>
                  <a:srgbClr val="000000"/>
                </a:solidFill>
                <a:latin typeface="Verdana"/>
              </a:rPr>
              <a:t>ORDENES DE COMPR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COBRANZA DE </a:t>
            </a:r>
            <a:r>
              <a:rPr b="0" i="1" lang="es-ES_tradnl" sz="2600" spc="-1" strike="noStrike">
                <a:solidFill>
                  <a:srgbClr val="000000"/>
                </a:solidFill>
                <a:latin typeface="Verdana"/>
              </a:rPr>
              <a:t>FACTURAS</a:t>
            </a: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 MOROSA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23640" y="476280"/>
            <a:ext cx="7791480" cy="11332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Fuentes de Información ..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95280" y="1773360"/>
            <a:ext cx="8556480" cy="46800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PROCEDIMIENTOS ADMINISTRATIV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Contiene eventos e información úti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DOCUMENT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Letras y otros mercantiles, informes, normas, políticas y reglamentos, contratos, etc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ALIDAS Y ENTRADAS DEL SIA (Ej: Requerimientos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ARCHIVOS EXISTENTES (manuales computacionales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76360" y="880920"/>
            <a:ext cx="7999200" cy="6400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000000"/>
                </a:solidFill>
                <a:latin typeface="Verdana"/>
              </a:rPr>
              <a:t>Entidades Débile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68000" y="1699920"/>
            <a:ext cx="8286840" cy="417204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on aquellas entidades que no son posibles de ser identificadas por sí misma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on dependientes de otra entidad, y por eso su nombre de débil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jemplo: corridas de un experimento y experiment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3171960" y="5057640"/>
            <a:ext cx="3952800" cy="9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76360" y="942840"/>
            <a:ext cx="7999200" cy="57816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000000"/>
                </a:solidFill>
                <a:latin typeface="Verdana"/>
              </a:rPr>
              <a:t>Relación de Especializació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256680" y="1885680"/>
            <a:ext cx="5457960" cy="417204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Una especialización es la especificación adicional de atributos desde una entidad superior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Herencia es la acción por la cual, los atributos de una entidad superior son traspasados a sus entidades inferiores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6686640" y="2057400"/>
            <a:ext cx="1285920" cy="1371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2960" rIns="102960" tIns="51480" bIns="51480" anchor="ctr">
            <a:noAutofit/>
          </a:bodyPr>
          <a:p>
            <a:pPr algn="ctr"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Vehícu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829480" y="4543560"/>
            <a:ext cx="1371600" cy="1542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2960" rIns="102960" tIns="51480" bIns="51480" anchor="ctr">
            <a:noAutofit/>
          </a:bodyPr>
          <a:p>
            <a:pPr algn="ctr"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Automóv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543800" y="4543560"/>
            <a:ext cx="1371600" cy="1542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2960" rIns="102960" tIns="51480" bIns="51480" anchor="ctr">
            <a:noAutofit/>
          </a:bodyPr>
          <a:p>
            <a:pPr algn="ctr"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B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686640" y="2486160"/>
            <a:ext cx="1285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29480" y="488628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543800" y="488628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029360" y="3772080"/>
            <a:ext cx="514440" cy="34272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7286760" y="3428640"/>
            <a:ext cx="0" cy="514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6429240" y="4029120"/>
            <a:ext cx="857520" cy="514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286760" y="4029120"/>
            <a:ext cx="1114200" cy="514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26160" y="3755880"/>
            <a:ext cx="56340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960" rIns="102960" tIns="51480" bIns="51480" anchor="t">
            <a:spAutoFit/>
          </a:bodyPr>
          <a:p>
            <a:pPr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tip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14520" y="763560"/>
            <a:ext cx="7464240" cy="6336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Atributos de la Relació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28760" y="1971360"/>
            <a:ext cx="8486640" cy="383868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a) De existencia que indican cuándo debe existir la relación, dada la existencia de una ocurrencia involucrada en la relación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b) De medición (o caracterización) que miden cuanto significa la relación entre cada combinación de ocurrencias de las entidades (cada par (i,j), trío (i,j,k), etc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/>
          </p:nvPr>
        </p:nvSpPr>
        <p:spPr>
          <a:xfrm>
            <a:off x="394920" y="4005000"/>
            <a:ext cx="3745080" cy="243036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t">
            <a:normAutofit/>
          </a:bodyPr>
          <a:p>
            <a:pPr marL="343080" indent="-343080"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Verdana"/>
              </a:rPr>
              <a:t>De existencia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Si existe una factura debe estar relacionada a un client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Si existe un cliente no es necesario que tenga una factur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title"/>
          </p:nvPr>
        </p:nvSpPr>
        <p:spPr>
          <a:xfrm>
            <a:off x="576360" y="821880"/>
            <a:ext cx="7999200" cy="69876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Atributos de la relació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"/>
          <p:cNvSpPr/>
          <p:nvPr/>
        </p:nvSpPr>
        <p:spPr>
          <a:xfrm>
            <a:off x="4859280" y="3933720"/>
            <a:ext cx="345780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2840" bIns="4284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Verdana"/>
              </a:rPr>
              <a:t>De medició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Fecha de entreg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Persona que la recibió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cuándo prometió pag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2556000" y="2923920"/>
            <a:ext cx="1655640" cy="1081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 flipV="1">
            <a:off x="4932360" y="3068640"/>
            <a:ext cx="1224000" cy="792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1290600" y="1989000"/>
            <a:ext cx="6953400" cy="1800000"/>
            <a:chOff x="1290600" y="1989000"/>
            <a:chExt cx="6953400" cy="1800000"/>
          </a:xfrm>
        </p:grpSpPr>
        <p:sp>
          <p:nvSpPr>
            <p:cNvPr id="254" name=""/>
            <p:cNvSpPr/>
            <p:nvPr/>
          </p:nvSpPr>
          <p:spPr>
            <a:xfrm>
              <a:off x="1290600" y="1989000"/>
              <a:ext cx="1197000" cy="16556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047000" y="1989000"/>
              <a:ext cx="1197000" cy="1800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02280" y="2250720"/>
              <a:ext cx="723960" cy="73836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935600" y="2619000"/>
              <a:ext cx="2100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376280" y="1989000"/>
              <a:ext cx="1008360" cy="69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6040" rIns="86040" tIns="42840" bIns="428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53920"/>
                  <a:tab algn="l" pos="1708200"/>
                  <a:tab algn="l" pos="2562120"/>
                  <a:tab algn="l" pos="3416400"/>
                  <a:tab algn="l" pos="4270320"/>
                  <a:tab algn="l" pos="5124600"/>
                  <a:tab algn="l" pos="5978520"/>
                  <a:tab algn="l" pos="6832440"/>
                  <a:tab algn="l" pos="7686720"/>
                  <a:tab algn="l" pos="8540640"/>
                  <a:tab algn="l" pos="9394920"/>
                  <a:tab algn="l" pos="1024884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Tahoma"/>
                </a:rPr>
                <a:t>Factur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104960" y="1989000"/>
              <a:ext cx="1000440" cy="39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6040" rIns="86040" tIns="42840" bIns="428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53920"/>
                  <a:tab algn="l" pos="1708200"/>
                  <a:tab algn="l" pos="2562120"/>
                  <a:tab algn="l" pos="3416400"/>
                  <a:tab algn="l" pos="4270320"/>
                  <a:tab algn="l" pos="5124600"/>
                  <a:tab algn="l" pos="5978520"/>
                  <a:tab algn="l" pos="6832440"/>
                  <a:tab algn="l" pos="7686720"/>
                  <a:tab algn="l" pos="8540640"/>
                  <a:tab algn="l" pos="9394920"/>
                  <a:tab algn="l" pos="1024884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Tahoma"/>
                </a:rPr>
                <a:t>Clien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561360" y="2468160"/>
              <a:ext cx="0" cy="379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847960" y="2479320"/>
              <a:ext cx="249480" cy="2811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>
              <a:off x="2457360" y="2636640"/>
              <a:ext cx="432000" cy="216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flipH="1" flipV="1">
              <a:off x="2457000" y="2492280"/>
              <a:ext cx="358920" cy="72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flipH="1">
              <a:off x="2457000" y="2636640"/>
              <a:ext cx="358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305000" y="2420640"/>
              <a:ext cx="1152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7066080" y="2420640"/>
              <a:ext cx="1150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105360" y="2636640"/>
              <a:ext cx="1079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5248440" y="2795760"/>
            <a:ext cx="1241280" cy="1854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116000" y="2795760"/>
            <a:ext cx="1243080" cy="1854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301920" y="4890960"/>
            <a:ext cx="765360" cy="8636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367080" y="1919160"/>
            <a:ext cx="768240" cy="8636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42840" bIns="42840" anchor="ctr">
            <a:noAutofit/>
          </a:bodyPr>
          <a:p>
            <a:pPr algn="ctr"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1" lang="es-ES" sz="23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es-ES" sz="23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301920" y="3444840"/>
            <a:ext cx="765360" cy="86220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187280" y="2898720"/>
            <a:ext cx="111456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2840" bIns="42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Máqui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244120" y="2860560"/>
            <a:ext cx="126720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42840" bIns="42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Produc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398680" y="4637160"/>
            <a:ext cx="879480" cy="60948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H="1">
            <a:off x="4159080" y="4713120"/>
            <a:ext cx="1084320" cy="60984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flipV="1">
            <a:off x="2398680" y="2350800"/>
            <a:ext cx="879480" cy="533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flipH="1" flipV="1">
            <a:off x="4227480" y="2351160"/>
            <a:ext cx="1015920" cy="45720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061880" y="1779480"/>
            <a:ext cx="86760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42840" bIns="42840" anchor="t">
            <a:spAutoFit/>
          </a:bodyPr>
          <a:p>
            <a:pPr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1" lang="es-ES" sz="1700" spc="-1" strike="noStrike">
                <a:solidFill>
                  <a:srgbClr val="000000"/>
                </a:solidFill>
                <a:latin typeface="Times New Roman"/>
              </a:rPr>
              <a:t>Política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471480" y="5078520"/>
            <a:ext cx="47880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42840" bIns="42840" anchor="t">
            <a:spAutoFit/>
          </a:bodyPr>
          <a:p>
            <a:pPr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1" lang="es-ES" sz="23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s-ES" sz="23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330280" y="3875040"/>
            <a:ext cx="87948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4159080" y="3875040"/>
            <a:ext cx="108432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404880" y="3706920"/>
            <a:ext cx="44532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42840" bIns="42840" anchor="t">
            <a:spAutoFit/>
          </a:bodyPr>
          <a:p>
            <a:pPr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1" lang="es-ES" sz="23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es-ES" sz="23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788560" y="3089160"/>
            <a:ext cx="19270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42840" bIns="42840" anchor="t">
            <a:spAutoFit/>
          </a:bodyPr>
          <a:p>
            <a:pPr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1" lang="es-ES" sz="1700" spc="-1" strike="noStrike">
                <a:solidFill>
                  <a:srgbClr val="000000"/>
                </a:solidFill>
                <a:latin typeface="Times New Roman"/>
              </a:rPr>
              <a:t>Control de Gestió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923560" y="4460760"/>
            <a:ext cx="131292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42840" bIns="42840" anchor="t">
            <a:spAutoFit/>
          </a:bodyPr>
          <a:p>
            <a:pPr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1" lang="es-ES" sz="1700" spc="-1" strike="noStrike">
                <a:solidFill>
                  <a:srgbClr val="000000"/>
                </a:solidFill>
                <a:latin typeface="Times New Roman"/>
              </a:rPr>
              <a:t>Operacional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68360" y="404640"/>
            <a:ext cx="7705800" cy="107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2840" bIns="4284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ahoma"/>
              </a:rPr>
              <a:t>Entidades y Relacione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según nivel de decisión que apoy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581880" y="1773360"/>
            <a:ext cx="2238120" cy="145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2840" bIns="42840" anchor="t">
            <a:spAutoFit/>
          </a:bodyPr>
          <a:p>
            <a:pPr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1" lang="es-ES" sz="19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es-ES" sz="19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1" lang="es-ES" sz="1700" spc="-1" strike="noStrike">
                <a:solidFill>
                  <a:srgbClr val="000000"/>
                </a:solidFill>
                <a:latin typeface="Times New Roman"/>
              </a:rPr>
              <a:t> Capacidad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1" lang="es-ES" sz="1700" spc="-1" strike="noStrike">
                <a:solidFill>
                  <a:srgbClr val="000000"/>
                </a:solidFill>
                <a:latin typeface="Times New Roman"/>
              </a:rPr>
              <a:t>máxima de producción del producto </a:t>
            </a:r>
            <a:r>
              <a:rPr b="1" i="1" lang="es-ES" sz="17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1" lang="es-ES" sz="1700" spc="-1" strike="noStrike">
                <a:solidFill>
                  <a:srgbClr val="000000"/>
                </a:solidFill>
                <a:latin typeface="Times New Roman"/>
              </a:rPr>
              <a:t>en la máquina </a:t>
            </a:r>
            <a:r>
              <a:rPr b="1" i="1" lang="es-ES" sz="17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581880" y="3546360"/>
            <a:ext cx="2238120" cy="11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2840" bIns="42840" anchor="t">
            <a:spAutoFit/>
          </a:bodyPr>
          <a:p>
            <a:pPr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1" lang="es-ES" sz="17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es-ES" sz="17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1" lang="es-ES" sz="1700" spc="-1" strike="noStrike">
                <a:solidFill>
                  <a:srgbClr val="000000"/>
                </a:solidFill>
                <a:latin typeface="Times New Roman"/>
              </a:rPr>
              <a:t> Producción acumulada del producto </a:t>
            </a:r>
            <a:r>
              <a:rPr b="1" i="1" lang="es-ES" sz="17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1" lang="es-ES" sz="1700" spc="-1" strike="noStrike">
                <a:solidFill>
                  <a:srgbClr val="000000"/>
                </a:solidFill>
                <a:latin typeface="Times New Roman"/>
              </a:rPr>
              <a:t>en la máquina </a:t>
            </a:r>
            <a:r>
              <a:rPr b="1" i="1" lang="es-ES" sz="17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581880" y="4917960"/>
            <a:ext cx="2166840" cy="11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2840" bIns="42840" anchor="t">
            <a:spAutoFit/>
          </a:bodyPr>
          <a:p>
            <a:pPr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1" lang="es-ES" sz="17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s-ES" sz="17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1" lang="es-ES" sz="1700" spc="-1" strike="noStrike">
                <a:solidFill>
                  <a:srgbClr val="000000"/>
                </a:solidFill>
                <a:latin typeface="Times New Roman"/>
              </a:rPr>
              <a:t> Cantidad a producir del producto </a:t>
            </a:r>
            <a:r>
              <a:rPr b="1" i="1" lang="es-ES" sz="17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1" lang="es-ES" sz="1700" spc="-1" strike="noStrike">
                <a:solidFill>
                  <a:srgbClr val="000000"/>
                </a:solidFill>
                <a:latin typeface="Times New Roman"/>
              </a:rPr>
              <a:t>en la máquina </a:t>
            </a:r>
            <a:r>
              <a:rPr b="1" i="1" lang="es-ES" sz="17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116000" y="3259080"/>
            <a:ext cx="122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219640" y="3259080"/>
            <a:ext cx="1297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7559640" cy="11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Sistemas de Administración de Bases de Datos (SABD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9640" y="1699920"/>
            <a:ext cx="83534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Programas computacionales encargados de almacenar, recuperar, y modificar informació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Usan interfaces al usuario para realizar en las operaciones anteriores eficientement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Tipos de Administradores de Bases de Dato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Verdana"/>
              </a:rPr>
              <a:t>Relacional (ej., Oracle, Informix, Progress, Sybase, SQL Server, Ingress, Access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Verdana"/>
              </a:rPr>
              <a:t>Orientada a Objetos (ej., Object Store) 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Verdana"/>
              </a:rPr>
              <a:t>Orientada a Restricciones (ej., Ccube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1886040"/>
            <a:ext cx="8178840" cy="41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80773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Verdana"/>
              </a:rPr>
              <a:t>Bases de Datos</a:t>
            </a:r>
            <a:br>
              <a:rPr sz="3600"/>
            </a:br>
            <a:r>
              <a:rPr b="0" lang="es-MX" sz="3600" spc="-1" strike="noStrike">
                <a:solidFill>
                  <a:srgbClr val="000000"/>
                </a:solidFill>
                <a:latin typeface="Verdana"/>
              </a:rPr>
              <a:t>Diseño Conceptua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1258560" y="3933720"/>
            <a:ext cx="7010280" cy="217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Magíster en Gestión de Operacion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Departamento de Ingeniería Industria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Universidad de Chil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Derechos Reservados ©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Samuel Vara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Diseño de Dat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415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Verdana"/>
              </a:rPr>
              <a:t>Objetivo: generar un modelo de datos que permita almacenar los datos sin innecesaria redundancia y fácil acceso a ello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Verdana"/>
              </a:rPr>
              <a:t>Caso 1: Todo en un sola entidad (ejemplo alumno – curso)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Verdana"/>
              </a:rPr>
              <a:t>Caso 2. Todos los atributos son entidades separables (ejemplo nombre – apellido – curso, y las relaciones son los sujetos)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¿Cómo sabemos cuál es la mejor manera de representar los datos identificados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u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Diseño de Datos …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415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Verdana"/>
              </a:rPr>
              <a:t>Evitar Problema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Verdana"/>
              </a:rPr>
              <a:t>Información Repetida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Verdana"/>
              </a:rPr>
              <a:t>Inhabilidad de Representació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Verdana"/>
              </a:rPr>
              <a:t>Pérdida de Informació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5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Verdana"/>
              </a:rPr>
              <a:t>La mayoría de estos problemas pueden ser resueltos en al modelo conceptual canónico de datos (Entidad- Relación)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u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riterios en el Diseñ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3124080" y="2133720"/>
            <a:ext cx="243864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nt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133720" y="4572000"/>
            <a:ext cx="190476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ntidad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876920" y="4495680"/>
            <a:ext cx="1904760" cy="1067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ntidad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flipH="1">
            <a:off x="2971440" y="3048120"/>
            <a:ext cx="1219320" cy="1447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191120" y="3048120"/>
            <a:ext cx="1523880" cy="13716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162920" y="2438280"/>
            <a:ext cx="0" cy="30481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flipV="1">
            <a:off x="1905120" y="2209680"/>
            <a:ext cx="0" cy="33530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7162920" y="2743200"/>
            <a:ext cx="1773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Redu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Redunda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0" y="2438280"/>
            <a:ext cx="1892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reserv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e l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ependenc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502800" y="373392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Sin pérdida 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inform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74200" y="709560"/>
            <a:ext cx="8001000" cy="8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Ejemplo: Información Repetid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4000" y="1916280"/>
            <a:ext cx="806436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Verdana"/>
              </a:rPr>
              <a:t>Suponga una entidad </a:t>
            </a:r>
            <a:r>
              <a:rPr b="0" lang="es-CL" sz="2100" spc="-1" strike="noStrike">
                <a:solidFill>
                  <a:srgbClr val="000000"/>
                </a:solidFill>
                <a:latin typeface="Verdana"/>
              </a:rPr>
              <a:t>Banco = (nombre_sucursal, activos, ciudad, #créditos, cliente, cantidad)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Verdana"/>
              </a:rPr>
              <a:t>Se desea agregar un crédito a una sucursal y cliente existent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Verdana"/>
              </a:rPr>
              <a:t>Repetir información NO es deseable, ya que requiere espacio, presenta problemas al actualizar (hay que repetirla)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611280" y="3429000"/>
            <a:ext cx="1066680" cy="685800"/>
          </a:xfrm>
          <a:prstGeom prst="rightArrow">
            <a:avLst>
              <a:gd name="adj1" fmla="val 50000"/>
              <a:gd name="adj2" fmla="val 38885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972440" y="3573360"/>
            <a:ext cx="631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 debe repetir nombre_sucursal, activos y ciu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12360" y="343080"/>
            <a:ext cx="828036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Verdana"/>
              </a:rPr>
              <a:t>Ejemplo: Inhabilidad de Representación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07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La representación basada en Banco NO permite representar una SUCURSAL directamente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Una alternativa es introducir valores NULL, pero son difíciles de maneja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Verdana"/>
              </a:rPr>
              <a:t>¿Qué significan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Verdana"/>
              </a:rPr>
              <a:t>¿Cómo los uso para extraer información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randomBar dir="horz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76000" y="785880"/>
            <a:ext cx="7985160" cy="59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Ejemplo: Pérdida de Informació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375760" cy="39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Verdana"/>
              </a:rPr>
              <a:t>El diseño basado en BANCO es malo, y nos gustaría descomponerlo para mejorar su calidad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Verdana"/>
              </a:rPr>
              <a:t>Sin embargo un diseño descuidado puede generar problema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Verdana"/>
              </a:rPr>
              <a:t>Suponga que BANCO es descompuesto en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Sucursal = (nombre_sucursal, activos, ciudad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Crédito = (nombre_sucursal, #crédito, cliente, cantidad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Verdana"/>
              </a:rPr>
              <a:t>Cantidad = (cantidad, cliente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Verdana"/>
              </a:rPr>
              <a:t>Préstamo = (nombre_sucursal, #crédito, cantidad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No se puede reconstruir Crédito!!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randomBar dir="ver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8351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Modelo de datos conceptual canónico (MDCC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4000" y="3141360"/>
            <a:ext cx="80010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El modelo está normalizado (en 5</a:t>
            </a:r>
            <a:r>
              <a:rPr b="0" lang="es-ES_tradnl" sz="3000" spc="-1" strike="noStrike" baseline="30000">
                <a:solidFill>
                  <a:srgbClr val="000000"/>
                </a:solidFill>
                <a:latin typeface="Verdana"/>
              </a:rPr>
              <a:t>a</a:t>
            </a: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 forma normal),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No hay datos redundantes, 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Se preservan las dependencias de los dato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>
            <a:off x="468360" y="1773360"/>
            <a:ext cx="8153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ahoma"/>
              </a:rPr>
              <a:t>La forma canónica del modelo de datos conceptual es aquella en que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74200" y="821880"/>
            <a:ext cx="8001000" cy="69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Normalización (según Codd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577440" y="2099880"/>
            <a:ext cx="8458200" cy="4497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Verdana"/>
              </a:rPr>
              <a:t>Es un proceso reversible mediante el cual los datos de un modelo de datos se ponen en la forma más simple e independient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Verdana"/>
              </a:rPr>
              <a:t>Permite que, si la estructura física para los datos que se implemente esta normalizada, siempre será posible satisfacer cualquier requerimiento sobre los dato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_tradnl" sz="2100" spc="-1" strike="noStrike">
                <a:solidFill>
                  <a:srgbClr val="000000"/>
                </a:solidFill>
                <a:latin typeface="Verdana"/>
              </a:rPr>
              <a:t>MDC       1FN        2FN       3FN        4FN       5FN      MDCC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Verdana"/>
              </a:rPr>
              <a:t>Veremos sólo las tres primera formas normales que son las más frecuent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7588080" y="5072040"/>
            <a:ext cx="54144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415880" y="5072040"/>
            <a:ext cx="54324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930480" y="5072040"/>
            <a:ext cx="54324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149800" y="5072040"/>
            <a:ext cx="69372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369120" y="5072040"/>
            <a:ext cx="54288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711520" y="5072040"/>
            <a:ext cx="54144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15640" y="836640"/>
            <a:ext cx="777708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000000"/>
                </a:solidFill>
                <a:latin typeface="Verdana"/>
              </a:rPr>
              <a:t>1FN - Primera forma normal </a:t>
            </a:r>
            <a:r>
              <a:rPr b="0" lang="es-ES_tradnl" sz="2100" spc="-1" strike="noStrike">
                <a:solidFill>
                  <a:srgbClr val="000000"/>
                </a:solidFill>
                <a:latin typeface="Verdana"/>
              </a:rPr>
              <a:t>(1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2329920" y="1873080"/>
            <a:ext cx="5961240" cy="118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Verdana"/>
              </a:rPr>
              <a:t>Un modelo de datos está en primera forma normal si no tiene atributos repetitivo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30" name=""/>
          <p:cNvGrpSpPr/>
          <p:nvPr/>
        </p:nvGrpSpPr>
        <p:grpSpPr>
          <a:xfrm>
            <a:off x="608040" y="1844640"/>
            <a:ext cx="1648800" cy="4290480"/>
            <a:chOff x="608040" y="1844640"/>
            <a:chExt cx="1648800" cy="4290480"/>
          </a:xfrm>
        </p:grpSpPr>
        <p:sp>
          <p:nvSpPr>
            <p:cNvPr id="331" name=""/>
            <p:cNvSpPr/>
            <p:nvPr/>
          </p:nvSpPr>
          <p:spPr>
            <a:xfrm>
              <a:off x="608040" y="1844640"/>
              <a:ext cx="1603440" cy="42418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3280" y="1844640"/>
              <a:ext cx="1573560" cy="429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EMPLEAD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Times New Roman"/>
                </a:rPr>
                <a:t>RUT</a:t>
              </a:r>
              <a:r>
                <a:rPr b="1" lang="es-ES_tradnl" sz="1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s-ES_tradnl" sz="1200" spc="-1" strike="noStrike">
                  <a:solidFill>
                    <a:srgbClr val="000000"/>
                  </a:solidFill>
                  <a:latin typeface="Times New Roman"/>
                </a:rPr>
                <a:t>        I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Times New Roman"/>
                </a:rPr>
                <a:t>NOMB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Times New Roman"/>
                </a:rPr>
                <a:t>DIRECC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Times New Roman"/>
                </a:rPr>
                <a:t>PRESTAMO-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s-ES_tradnl" sz="1200" spc="-1" strike="noStrike">
                  <a:solidFill>
                    <a:srgbClr val="000000"/>
                  </a:solidFill>
                  <a:latin typeface="Times New Roman"/>
                </a:rPr>
                <a:t>tip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s-ES_tradnl" sz="1200" spc="-1" strike="noStrike">
                  <a:solidFill>
                    <a:srgbClr val="000000"/>
                  </a:solidFill>
                  <a:latin typeface="Times New Roman"/>
                </a:rPr>
                <a:t>mont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s-ES_tradnl" sz="1200" spc="-1" strike="noStrike">
                  <a:solidFill>
                    <a:srgbClr val="000000"/>
                  </a:solidFill>
                  <a:latin typeface="Times New Roman"/>
                </a:rPr>
                <a:t>monto-cuota-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s-ES_tradnl" sz="1200" spc="-1" strike="noStrike">
                  <a:solidFill>
                    <a:srgbClr val="000000"/>
                  </a:solidFill>
                  <a:latin typeface="Times New Roman"/>
                </a:rPr>
                <a:t>fech-vcto-cuota-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s-ES_tradnl" sz="1200" spc="-1" strike="noStrike">
                  <a:solidFill>
                    <a:srgbClr val="000000"/>
                  </a:solidFill>
                  <a:latin typeface="Times New Roman"/>
                </a:rPr>
                <a:t>monto-cuota-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s-ES_tradnl" sz="1200" spc="-1" strike="noStrike">
                  <a:solidFill>
                    <a:srgbClr val="000000"/>
                  </a:solidFill>
                  <a:latin typeface="Times New Roman"/>
                </a:rPr>
                <a:t>fech-vcto-cuota-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Times New Roman"/>
                </a:rPr>
                <a:t>- - - - - - - -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Times New Roman"/>
                </a:rPr>
                <a:t>PRESTAMO-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s-ES_tradnl" sz="1200" spc="-1" strike="noStrike">
                  <a:solidFill>
                    <a:srgbClr val="000000"/>
                  </a:solidFill>
                  <a:latin typeface="Times New Roman"/>
                </a:rPr>
                <a:t>tip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s-ES_tradnl" sz="1200" spc="-1" strike="noStrike">
                  <a:solidFill>
                    <a:srgbClr val="000000"/>
                  </a:solidFill>
                  <a:latin typeface="Times New Roman"/>
                </a:rPr>
                <a:t>mont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s-ES_tradnl" sz="1200" spc="-1" strike="noStrike">
                  <a:solidFill>
                    <a:srgbClr val="000000"/>
                  </a:solidFill>
                  <a:latin typeface="Times New Roman"/>
                </a:rPr>
                <a:t>monto-cuota-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s-ES_tradnl" sz="1200" spc="-1" strike="noStrike">
                  <a:solidFill>
                    <a:srgbClr val="000000"/>
                  </a:solidFill>
                  <a:latin typeface="Times New Roman"/>
                </a:rPr>
                <a:t>fech-vcto-cuota-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s-ES_tradnl" sz="1200" spc="-1" strike="noStrike">
                  <a:solidFill>
                    <a:srgbClr val="000000"/>
                  </a:solidFill>
                  <a:latin typeface="Times New Roman"/>
                </a:rPr>
                <a:t>monto-cuota-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s-ES_tradnl" sz="1200" spc="-1" strike="noStrike">
                  <a:solidFill>
                    <a:srgbClr val="000000"/>
                  </a:solidFill>
                  <a:latin typeface="Times New Roman"/>
                </a:rPr>
                <a:t>fech-vcto-cuota-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s-ES_tradnl" sz="1200" spc="-1" strike="noStrike">
                  <a:solidFill>
                    <a:srgbClr val="000000"/>
                  </a:solidFill>
                  <a:latin typeface="Times New Roman"/>
                </a:rPr>
                <a:t>- - - - - - -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Times New Roman"/>
                </a:rPr>
                <a:t>PRESTAMO-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s-ES_tradnl" sz="1200" spc="-1" strike="noStrike">
                  <a:solidFill>
                    <a:srgbClr val="000000"/>
                  </a:solidFill>
                  <a:latin typeface="Times New Roman"/>
                </a:rPr>
                <a:t>tip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s-ES_tradnl" sz="1200" spc="-1" strike="noStrike">
                  <a:solidFill>
                    <a:srgbClr val="000000"/>
                  </a:solidFill>
                  <a:latin typeface="Times New Roman"/>
                </a:rPr>
                <a:t>- - - - -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3" name=""/>
          <p:cNvSpPr/>
          <p:nvPr/>
        </p:nvSpPr>
        <p:spPr>
          <a:xfrm>
            <a:off x="4141080" y="5005440"/>
            <a:ext cx="2874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Este modelo no esta en 1F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Historia de las DB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"/>
          <p:cNvSpPr/>
          <p:nvPr/>
        </p:nvSpPr>
        <p:spPr>
          <a:xfrm>
            <a:off x="650880" y="3241800"/>
            <a:ext cx="1295280" cy="18288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022480" y="3699000"/>
            <a:ext cx="533520" cy="1066680"/>
          </a:xfrm>
          <a:prstGeom prst="can">
            <a:avLst>
              <a:gd name="adj" fmla="val 25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946160" y="423216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803160" y="2708280"/>
            <a:ext cx="304920" cy="457200"/>
          </a:xfrm>
          <a:prstGeom prst="upArrow">
            <a:avLst>
              <a:gd name="adj1" fmla="val 50000"/>
              <a:gd name="adj2" fmla="val 37485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413000" y="27082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60560" y="3241800"/>
            <a:ext cx="1295640" cy="18288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232160" y="3699000"/>
            <a:ext cx="533520" cy="1066680"/>
          </a:xfrm>
          <a:prstGeom prst="can">
            <a:avLst>
              <a:gd name="adj" fmla="val 25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156200" y="423216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013200" y="2708280"/>
            <a:ext cx="304560" cy="457200"/>
          </a:xfrm>
          <a:prstGeom prst="upArrow">
            <a:avLst>
              <a:gd name="adj1" fmla="val 50000"/>
              <a:gd name="adj2" fmla="val 3753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622680" y="2708280"/>
            <a:ext cx="304920" cy="457200"/>
          </a:xfrm>
          <a:prstGeom prst="downArrow">
            <a:avLst>
              <a:gd name="adj1" fmla="val 50000"/>
              <a:gd name="adj2" fmla="val 37485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070600" y="3241800"/>
            <a:ext cx="1295280" cy="18288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442200" y="3699000"/>
            <a:ext cx="533160" cy="1066680"/>
          </a:xfrm>
          <a:prstGeom prst="can">
            <a:avLst>
              <a:gd name="adj" fmla="val 25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365880" y="423216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222880" y="2708280"/>
            <a:ext cx="304920" cy="457200"/>
          </a:xfrm>
          <a:prstGeom prst="upArrow">
            <a:avLst>
              <a:gd name="adj1" fmla="val 50000"/>
              <a:gd name="adj2" fmla="val 37485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832360" y="2708280"/>
            <a:ext cx="304920" cy="457200"/>
          </a:xfrm>
          <a:prstGeom prst="downArrow">
            <a:avLst>
              <a:gd name="adj1" fmla="val 50000"/>
              <a:gd name="adj2" fmla="val 37485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203960" y="3241800"/>
            <a:ext cx="1295640" cy="18288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8575560" y="3699000"/>
            <a:ext cx="533520" cy="1066680"/>
          </a:xfrm>
          <a:prstGeom prst="can">
            <a:avLst>
              <a:gd name="adj" fmla="val 25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8499600" y="423216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356600" y="2708280"/>
            <a:ext cx="304560" cy="457200"/>
          </a:xfrm>
          <a:prstGeom prst="upArrow">
            <a:avLst>
              <a:gd name="adj1" fmla="val 50000"/>
              <a:gd name="adj2" fmla="val 3753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966080" y="2708280"/>
            <a:ext cx="304920" cy="457200"/>
          </a:xfrm>
          <a:prstGeom prst="downArrow">
            <a:avLst>
              <a:gd name="adj1" fmla="val 50000"/>
              <a:gd name="adj2" fmla="val 37485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50880" y="4613400"/>
            <a:ext cx="1295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860560" y="4613400"/>
            <a:ext cx="1295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70600" y="4613400"/>
            <a:ext cx="1295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203960" y="4613400"/>
            <a:ext cx="1295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3622680" y="3774600"/>
            <a:ext cx="0" cy="838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22680" y="3774960"/>
            <a:ext cx="533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070600" y="3774960"/>
            <a:ext cx="1295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908680" y="3774960"/>
            <a:ext cx="0" cy="838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03960" y="3774960"/>
            <a:ext cx="1295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118360" y="3774960"/>
            <a:ext cx="0" cy="838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585200" y="3774960"/>
            <a:ext cx="0" cy="838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033200" y="4612680"/>
            <a:ext cx="51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319200" y="4612680"/>
            <a:ext cx="51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528880" y="4612680"/>
            <a:ext cx="51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662600" y="4612680"/>
            <a:ext cx="51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881280" y="3850560"/>
            <a:ext cx="7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P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862360" y="4002840"/>
            <a:ext cx="7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P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072400" y="4002840"/>
            <a:ext cx="7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P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16200000">
            <a:off x="6992280" y="3987360"/>
            <a:ext cx="7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P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rot="16200000">
            <a:off x="5742000" y="4019760"/>
            <a:ext cx="8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DB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rot="16200000">
            <a:off x="3456000" y="4019760"/>
            <a:ext cx="8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DB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16200000">
            <a:off x="7875360" y="4019760"/>
            <a:ext cx="8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DB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300640" y="3317040"/>
            <a:ext cx="7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UI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510320" y="3317040"/>
            <a:ext cx="7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UI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rot="16102200">
            <a:off x="7455600" y="4029840"/>
            <a:ext cx="93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OO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20240" y="5222160"/>
            <a:ext cx="738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1960’s                       1970’s                         1980’s                     1990’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49440" y="785880"/>
            <a:ext cx="7912080" cy="59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000000"/>
                </a:solidFill>
                <a:latin typeface="Verdana"/>
              </a:rPr>
              <a:t>1FN - Primera forma normal </a:t>
            </a:r>
            <a:r>
              <a:rPr b="0" lang="es-ES_tradnl" sz="2100" spc="-1" strike="noStrike">
                <a:solidFill>
                  <a:srgbClr val="000000"/>
                </a:solidFill>
                <a:latin typeface="Verdana"/>
              </a:rPr>
              <a:t>(2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"/>
          <p:cNvSpPr/>
          <p:nvPr/>
        </p:nvSpPr>
        <p:spPr>
          <a:xfrm>
            <a:off x="611280" y="1844640"/>
            <a:ext cx="1603440" cy="40896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647280" y="1878120"/>
            <a:ext cx="1397880" cy="39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 u="sng">
                <a:solidFill>
                  <a:srgbClr val="000000"/>
                </a:solidFill>
                <a:uFillTx/>
                <a:latin typeface="Times New Roman"/>
              </a:rPr>
              <a:t>EMPLEAD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RUT</a:t>
            </a: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NOMB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DIRECC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PRESTAMO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ti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mo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monto-cuota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fech-vcto-cuota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monto-cuota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fech-vcto-cuota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- - - - - - - -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PRESTAMO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ti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mo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monto-cuota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fech-vcto-cuota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monto-cuota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fech-vcto-cuota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- - - - - - -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PRESTAMO-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139640" y="5383080"/>
            <a:ext cx="2874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Este modelo no esta en 1F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590920" y="3121200"/>
            <a:ext cx="533160" cy="304560"/>
          </a:xfrm>
          <a:prstGeom prst="rightArrow">
            <a:avLst>
              <a:gd name="adj1" fmla="val 50000"/>
              <a:gd name="adj2" fmla="val 43765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97400" y="3011400"/>
            <a:ext cx="281952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17640" y="3087720"/>
            <a:ext cx="333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tie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4975200" y="2916360"/>
            <a:ext cx="1440" cy="210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481800" y="2838600"/>
            <a:ext cx="503280" cy="365040"/>
          </a:xfrm>
          <a:custGeom>
            <a:avLst/>
            <a:gdLst/>
            <a:ahLst/>
            <a:rect l="l" t="t" r="r" b="b"/>
            <a:pathLst>
              <a:path w="317" h="230">
                <a:moveTo>
                  <a:pt x="317" y="230"/>
                </a:moveTo>
                <a:lnTo>
                  <a:pt x="0" y="109"/>
                </a:lnTo>
                <a:lnTo>
                  <a:pt x="317" y="0"/>
                </a:lnTo>
                <a:lnTo>
                  <a:pt x="317" y="23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346800" y="2954160"/>
            <a:ext cx="135000" cy="13356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276720" y="2570040"/>
            <a:ext cx="1428480" cy="11509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498120" y="2608200"/>
            <a:ext cx="861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Arial"/>
              </a:rPr>
              <a:t>Emplead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276720" y="2876400"/>
            <a:ext cx="142848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354840" y="2897280"/>
            <a:ext cx="390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 u="sng">
                <a:solidFill>
                  <a:srgbClr val="000000"/>
                </a:solidFill>
                <a:uFillTx/>
                <a:latin typeface="Arial"/>
              </a:rPr>
              <a:t>RU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3354120" y="3146400"/>
            <a:ext cx="68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Arial"/>
              </a:rPr>
              <a:t>Nombr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3353400" y="3395520"/>
            <a:ext cx="799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Arial"/>
              </a:rPr>
              <a:t>Direcció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732720" y="2359080"/>
            <a:ext cx="2163600" cy="23223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7331400" y="2397240"/>
            <a:ext cx="819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Arial"/>
              </a:rPr>
              <a:t>Prestam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732720" y="2665440"/>
            <a:ext cx="21636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809400" y="2685960"/>
            <a:ext cx="309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 u="sng">
                <a:solidFill>
                  <a:srgbClr val="000000"/>
                </a:solidFill>
                <a:uFillTx/>
                <a:latin typeface="Arial"/>
              </a:rPr>
              <a:t>tip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809400" y="2935440"/>
            <a:ext cx="532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Arial"/>
              </a:rPr>
              <a:t>mont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807600" y="3184560"/>
            <a:ext cx="1321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Arial"/>
              </a:rPr>
              <a:t>monto_cutoa_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805440" y="3433680"/>
            <a:ext cx="1718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Arial"/>
              </a:rPr>
              <a:t>fecha_vcto_cuota_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6807600" y="3683160"/>
            <a:ext cx="1321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Arial"/>
              </a:rPr>
              <a:t>monto_cuota_2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6805440" y="3932280"/>
            <a:ext cx="1718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Arial"/>
              </a:rPr>
              <a:t>fecha_vcto_cuata_2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042560" y="692280"/>
            <a:ext cx="7875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1FN - Primera forma normal </a:t>
            </a:r>
            <a:r>
              <a:rPr b="0" lang="es-ES_tradnl" sz="2500" spc="-1" strike="noStrike">
                <a:solidFill>
                  <a:srgbClr val="000000"/>
                </a:solidFill>
                <a:latin typeface="Verdana"/>
              </a:rPr>
              <a:t>(3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2988360" y="5799240"/>
            <a:ext cx="2786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Este modelo </a:t>
            </a:r>
            <a:r>
              <a:rPr b="1" lang="es-ES_tradnl" sz="1800" spc="-1" strike="noStrike" u="sng">
                <a:solidFill>
                  <a:srgbClr val="000000"/>
                </a:solidFill>
                <a:uFillTx/>
                <a:latin typeface="Times New Roman"/>
              </a:rPr>
              <a:t>si</a:t>
            </a: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 está en 1F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114800" y="2895480"/>
            <a:ext cx="457200" cy="9144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454560" y="2135160"/>
            <a:ext cx="198108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199040" y="2189160"/>
            <a:ext cx="2505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tien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V="1">
            <a:off x="3860640" y="2068560"/>
            <a:ext cx="1800" cy="147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919760" y="2014560"/>
            <a:ext cx="352440" cy="255600"/>
          </a:xfrm>
          <a:custGeom>
            <a:avLst/>
            <a:gdLst/>
            <a:ahLst/>
            <a:rect l="l" t="t" r="r" b="b"/>
            <a:pathLst>
              <a:path w="222" h="161">
                <a:moveTo>
                  <a:pt x="222" y="161"/>
                </a:moveTo>
                <a:lnTo>
                  <a:pt x="0" y="76"/>
                </a:lnTo>
                <a:lnTo>
                  <a:pt x="222" y="0"/>
                </a:lnTo>
                <a:lnTo>
                  <a:pt x="222" y="161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4824360" y="2095560"/>
            <a:ext cx="95400" cy="936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440" bIns="19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666880" y="1825560"/>
            <a:ext cx="1005120" cy="8096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809800" y="1852560"/>
            <a:ext cx="630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Empleado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666880" y="2041560"/>
            <a:ext cx="10051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721600" y="2054160"/>
            <a:ext cx="2872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 u="sng">
                <a:solidFill>
                  <a:srgbClr val="000000"/>
                </a:solidFill>
                <a:uFillTx/>
                <a:latin typeface="Arial"/>
              </a:rPr>
              <a:t>R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720160" y="2230560"/>
            <a:ext cx="4989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Nomb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721600" y="2405160"/>
            <a:ext cx="5828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Direcció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095800" y="1676520"/>
            <a:ext cx="1519200" cy="16333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528880" y="1703520"/>
            <a:ext cx="6012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Prestamo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095800" y="1892160"/>
            <a:ext cx="15192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149440" y="1906560"/>
            <a:ext cx="2264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 u="sng">
                <a:solidFill>
                  <a:srgbClr val="000000"/>
                </a:solidFill>
                <a:uFillTx/>
                <a:latin typeface="Arial"/>
              </a:rPr>
              <a:t>tipo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148000" y="2081160"/>
            <a:ext cx="3909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monto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147280" y="2257560"/>
            <a:ext cx="9669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monto_cutoa_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147280" y="2432160"/>
            <a:ext cx="12549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fecha_vcto_cuota_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147280" y="2608200"/>
            <a:ext cx="9669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monto_cuota_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147280" y="2782800"/>
            <a:ext cx="12549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fecha_vcto_cuata_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641840" y="4748040"/>
            <a:ext cx="243036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398200" y="4830840"/>
            <a:ext cx="4489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000000"/>
                </a:solidFill>
                <a:latin typeface="Arial"/>
              </a:rPr>
              <a:t>pose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V="1">
            <a:off x="5311800" y="4645080"/>
            <a:ext cx="1440" cy="20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6045120" y="4562640"/>
            <a:ext cx="546120" cy="372960"/>
          </a:xfrm>
          <a:custGeom>
            <a:avLst/>
            <a:gdLst/>
            <a:ahLst/>
            <a:rect l="l" t="t" r="r" b="b"/>
            <a:pathLst>
              <a:path w="344" h="235">
                <a:moveTo>
                  <a:pt x="344" y="235"/>
                </a:moveTo>
                <a:lnTo>
                  <a:pt x="0" y="117"/>
                </a:lnTo>
                <a:lnTo>
                  <a:pt x="344" y="0"/>
                </a:lnTo>
                <a:lnTo>
                  <a:pt x="344" y="235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6045120" y="4645080"/>
            <a:ext cx="1800" cy="20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749600" y="4624560"/>
            <a:ext cx="23047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2651760" y="4707000"/>
            <a:ext cx="3574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000000"/>
                </a:solidFill>
                <a:latin typeface="Arial"/>
              </a:rPr>
              <a:t>tien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 flipV="1">
            <a:off x="2378160" y="4521240"/>
            <a:ext cx="1440" cy="226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510000" y="4438800"/>
            <a:ext cx="544320" cy="392040"/>
          </a:xfrm>
          <a:custGeom>
            <a:avLst/>
            <a:gdLst/>
            <a:ahLst/>
            <a:rect l="l" t="t" r="r" b="b"/>
            <a:pathLst>
              <a:path w="343" h="247">
                <a:moveTo>
                  <a:pt x="343" y="247"/>
                </a:moveTo>
                <a:lnTo>
                  <a:pt x="0" y="117"/>
                </a:lnTo>
                <a:lnTo>
                  <a:pt x="343" y="0"/>
                </a:lnTo>
                <a:lnTo>
                  <a:pt x="343" y="247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362400" y="4562640"/>
            <a:ext cx="147600" cy="14436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33520" y="4232160"/>
            <a:ext cx="1550880" cy="12398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753120" y="4273560"/>
            <a:ext cx="915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Emple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33520" y="4562640"/>
            <a:ext cx="155088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617040" y="4583160"/>
            <a:ext cx="41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 u="sng">
                <a:solidFill>
                  <a:srgbClr val="000000"/>
                </a:solidFill>
                <a:uFillTx/>
                <a:latin typeface="Arial"/>
              </a:rPr>
              <a:t>R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617760" y="4853160"/>
            <a:ext cx="721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Nomb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615600" y="5121360"/>
            <a:ext cx="848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Direc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3781440" y="4273560"/>
            <a:ext cx="1258920" cy="9716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908520" y="4314960"/>
            <a:ext cx="869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Prestam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781440" y="4603680"/>
            <a:ext cx="125892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864960" y="4624560"/>
            <a:ext cx="328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 u="sng">
                <a:solidFill>
                  <a:srgbClr val="000000"/>
                </a:solidFill>
                <a:uFillTx/>
                <a:latin typeface="Arial"/>
              </a:rPr>
              <a:t>tip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866040" y="4894200"/>
            <a:ext cx="564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mo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6318360" y="4191120"/>
            <a:ext cx="2347920" cy="12398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156440" y="4232160"/>
            <a:ext cx="54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Cuo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318360" y="4521240"/>
            <a:ext cx="23479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402600" y="4541760"/>
            <a:ext cx="721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 u="sng">
                <a:solidFill>
                  <a:srgbClr val="000000"/>
                </a:solidFill>
                <a:uFillTx/>
                <a:latin typeface="Arial"/>
              </a:rPr>
              <a:t>Nume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402600" y="4809960"/>
            <a:ext cx="1218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Monto_Cuo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400440" y="5079960"/>
            <a:ext cx="1796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Fecha_Vencimie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042560" y="764640"/>
            <a:ext cx="78757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000000"/>
                </a:solidFill>
                <a:latin typeface="Verdana"/>
              </a:rPr>
              <a:t>2FN - Segunda forma normal </a:t>
            </a:r>
            <a:r>
              <a:rPr b="0" lang="es-ES_tradnl" sz="2100" spc="-1" strike="noStrike">
                <a:solidFill>
                  <a:srgbClr val="000000"/>
                </a:solidFill>
                <a:latin typeface="Verdana"/>
              </a:rPr>
              <a:t>(1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33160" y="1980720"/>
            <a:ext cx="83055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Un modelo está en segunda forma normal si no tiene relaciones M:N (muchos es a muchos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1" name=""/>
          <p:cNvSpPr/>
          <p:nvPr/>
        </p:nvSpPr>
        <p:spPr>
          <a:xfrm>
            <a:off x="3419640" y="4367160"/>
            <a:ext cx="134640" cy="152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3419640" y="4519440"/>
            <a:ext cx="134640" cy="152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 flipV="1">
            <a:off x="6060960" y="4366800"/>
            <a:ext cx="135000" cy="152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6060960" y="4519440"/>
            <a:ext cx="135000" cy="152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984320" y="3459240"/>
            <a:ext cx="16344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243320" y="4151160"/>
            <a:ext cx="722520" cy="660600"/>
          </a:xfrm>
          <a:prstGeom prst="diamond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3419640" y="4519440"/>
            <a:ext cx="812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4976640" y="4519440"/>
            <a:ext cx="12193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343040" y="4343400"/>
            <a:ext cx="489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Ci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0" name=""/>
          <p:cNvGrpSpPr/>
          <p:nvPr/>
        </p:nvGrpSpPr>
        <p:grpSpPr>
          <a:xfrm>
            <a:off x="2268360" y="3789360"/>
            <a:ext cx="1201680" cy="1440000"/>
            <a:chOff x="2268360" y="3789360"/>
            <a:chExt cx="1201680" cy="1440000"/>
          </a:xfrm>
        </p:grpSpPr>
        <p:sp>
          <p:nvSpPr>
            <p:cNvPr id="421" name=""/>
            <p:cNvSpPr/>
            <p:nvPr/>
          </p:nvSpPr>
          <p:spPr>
            <a:xfrm>
              <a:off x="2346480" y="3795840"/>
              <a:ext cx="1062000" cy="14335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268360" y="3789360"/>
              <a:ext cx="12016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Times New Roman"/>
                </a:rPr>
                <a:t>PRODUCT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340000" y="4149720"/>
              <a:ext cx="1079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4" name=""/>
          <p:cNvGrpSpPr/>
          <p:nvPr/>
        </p:nvGrpSpPr>
        <p:grpSpPr>
          <a:xfrm>
            <a:off x="6207120" y="3789360"/>
            <a:ext cx="1078920" cy="1362240"/>
            <a:chOff x="6207120" y="3789360"/>
            <a:chExt cx="1078920" cy="1362240"/>
          </a:xfrm>
        </p:grpSpPr>
        <p:sp>
          <p:nvSpPr>
            <p:cNvPr id="425" name=""/>
            <p:cNvSpPr/>
            <p:nvPr/>
          </p:nvSpPr>
          <p:spPr>
            <a:xfrm>
              <a:off x="6207120" y="3789360"/>
              <a:ext cx="1062000" cy="13622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241320" y="3798720"/>
              <a:ext cx="104472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Times New Roman"/>
                </a:rPr>
                <a:t>MATERI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s-ES_tradnl" sz="1400" spc="-1" strike="noStrike">
                  <a:solidFill>
                    <a:srgbClr val="000000"/>
                  </a:solidFill>
                  <a:latin typeface="Times New Roman"/>
                </a:rPr>
                <a:t>PRIM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6227640" y="4286160"/>
              <a:ext cx="1008360" cy="6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8" name=""/>
          <p:cNvSpPr/>
          <p:nvPr/>
        </p:nvSpPr>
        <p:spPr>
          <a:xfrm>
            <a:off x="3564000" y="4437000"/>
            <a:ext cx="144360" cy="1443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940360" y="4437000"/>
            <a:ext cx="144360" cy="1443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574200" y="763560"/>
            <a:ext cx="8001000" cy="75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000000"/>
                </a:solidFill>
                <a:latin typeface="Verdana"/>
              </a:rPr>
              <a:t>2FN - Segunda forma normal </a:t>
            </a:r>
            <a:r>
              <a:rPr b="0" lang="es-ES_tradnl" sz="2100" spc="-1" strike="noStrike">
                <a:solidFill>
                  <a:srgbClr val="000000"/>
                </a:solidFill>
                <a:latin typeface="Verdana"/>
              </a:rPr>
              <a:t>(2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539640" y="5157720"/>
            <a:ext cx="835200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Agreguemos una nueva entidad (NUB) de la cual habrá una ocurrencia por cada ocurrencia de la relación o sea  una ocurrencia por cada par (i,j) que esté efectivamente relacion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2" name="" descr=""/>
          <p:cNvPicPr/>
          <p:nvPr/>
        </p:nvPicPr>
        <p:blipFill>
          <a:blip r:embed="rId2"/>
          <a:stretch/>
        </p:blipFill>
        <p:spPr>
          <a:xfrm>
            <a:off x="2195640" y="1916280"/>
            <a:ext cx="4238640" cy="322740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74200" y="821880"/>
            <a:ext cx="8001000" cy="69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000000"/>
                </a:solidFill>
                <a:latin typeface="Verdana"/>
              </a:rPr>
              <a:t>2FN - Segunda forma normal </a:t>
            </a:r>
            <a:r>
              <a:rPr b="0" lang="es-ES_tradnl" sz="2100" spc="-1" strike="noStrike">
                <a:solidFill>
                  <a:srgbClr val="000000"/>
                </a:solidFill>
                <a:latin typeface="Verdana"/>
              </a:rPr>
              <a:t>(3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5867280" y="1988640"/>
            <a:ext cx="2952720" cy="403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La representación requiere de una nueva entidad (NUB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Se debe utilizar como entidad débi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>
            <a:off x="2771640" y="5805360"/>
            <a:ext cx="66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N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6" name=""/>
          <p:cNvGrpSpPr/>
          <p:nvPr/>
        </p:nvGrpSpPr>
        <p:grpSpPr>
          <a:xfrm>
            <a:off x="179280" y="4797360"/>
            <a:ext cx="5544720" cy="1047600"/>
            <a:chOff x="179280" y="4797360"/>
            <a:chExt cx="5544720" cy="1047600"/>
          </a:xfrm>
        </p:grpSpPr>
        <p:sp>
          <p:nvSpPr>
            <p:cNvPr id="437" name=""/>
            <p:cNvSpPr/>
            <p:nvPr/>
          </p:nvSpPr>
          <p:spPr>
            <a:xfrm flipH="1">
              <a:off x="3114000" y="5270400"/>
              <a:ext cx="157644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3800160" y="5329080"/>
              <a:ext cx="326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aport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392360" y="5203800"/>
              <a:ext cx="1440" cy="158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146120" y="5213160"/>
              <a:ext cx="96480" cy="1000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587520" y="5284800"/>
              <a:ext cx="20098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538280" y="5343480"/>
              <a:ext cx="186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us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 flipV="1">
              <a:off x="1170720" y="5212800"/>
              <a:ext cx="1440" cy="144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1319400" y="5241960"/>
              <a:ext cx="94680" cy="871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179280" y="4825800"/>
              <a:ext cx="815040" cy="10191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260280" y="4854600"/>
              <a:ext cx="561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Producto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179280" y="5056200"/>
              <a:ext cx="81504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2380680" y="4911480"/>
              <a:ext cx="909720" cy="67464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2428560" y="4940280"/>
              <a:ext cx="7002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Coeficient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2380680" y="5141880"/>
              <a:ext cx="90972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4569120" y="4797360"/>
              <a:ext cx="1154880" cy="10476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4649040" y="4825800"/>
              <a:ext cx="912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Materia_Prim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4569120" y="5027400"/>
              <a:ext cx="115488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1144440" y="5217840"/>
              <a:ext cx="201960" cy="71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 flipV="1">
              <a:off x="1144440" y="5289120"/>
              <a:ext cx="135000" cy="73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2086920" y="5217840"/>
              <a:ext cx="0" cy="144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 flipH="1">
              <a:off x="4242240" y="5217840"/>
              <a:ext cx="135000" cy="71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242600" y="5289480"/>
              <a:ext cx="135000" cy="73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3434760" y="5217840"/>
              <a:ext cx="0" cy="144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60" name="" descr=""/>
          <p:cNvPicPr/>
          <p:nvPr/>
        </p:nvPicPr>
        <p:blipFill>
          <a:blip r:embed="rId2"/>
          <a:stretch/>
        </p:blipFill>
        <p:spPr>
          <a:xfrm>
            <a:off x="262080" y="2276640"/>
            <a:ext cx="5030640" cy="1477800"/>
          </a:xfrm>
          <a:prstGeom prst="rect">
            <a:avLst/>
          </a:prstGeom>
          <a:ln w="0">
            <a:noFill/>
          </a:ln>
        </p:spPr>
      </p:pic>
      <p:sp>
        <p:nvSpPr>
          <p:cNvPr id="461" name=""/>
          <p:cNvSpPr/>
          <p:nvPr/>
        </p:nvSpPr>
        <p:spPr>
          <a:xfrm>
            <a:off x="2627280" y="3716280"/>
            <a:ext cx="720720" cy="936720"/>
          </a:xfrm>
          <a:prstGeom prst="downArrow">
            <a:avLst>
              <a:gd name="adj1" fmla="val 50000"/>
              <a:gd name="adj2" fmla="val 32493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115640" y="836280"/>
            <a:ext cx="77310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000000"/>
                </a:solidFill>
                <a:latin typeface="Verdana"/>
              </a:rPr>
              <a:t>2FN - Segunda Forma Normal </a:t>
            </a:r>
            <a:r>
              <a:rPr b="0" lang="es-ES_tradnl" sz="2100" spc="-1" strike="noStrike">
                <a:solidFill>
                  <a:srgbClr val="000000"/>
                </a:solidFill>
                <a:latin typeface="Verdana"/>
              </a:rPr>
              <a:t>(4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09120" y="177300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El NUB puede asociarse al elemento de una matriz de orden </a:t>
            </a:r>
            <a:r>
              <a:rPr b="0" i="1" lang="es-ES_tradnl" sz="26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, en que n corresponde al número de entidades que participan en la relació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De esta forma, el NUB tendrá tantos padres (e índices en los atributos) como entidades participen en la relació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Ej: C</a:t>
            </a:r>
            <a:r>
              <a:rPr b="0" i="1" lang="es-ES_tradnl" sz="2600" spc="-1" strike="noStrike" baseline="-25000">
                <a:solidFill>
                  <a:srgbClr val="000000"/>
                </a:solidFill>
                <a:latin typeface="Verdana"/>
              </a:rPr>
              <a:t>ijk</a:t>
            </a: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:  cantidad del producto </a:t>
            </a:r>
            <a:r>
              <a:rPr b="0" i="1" lang="es-ES_tradnl" sz="2600" spc="-1" strike="noStrike" u="sng">
                <a:solidFill>
                  <a:srgbClr val="000000"/>
                </a:solidFill>
                <a:uFillTx/>
                <a:latin typeface="Verdana"/>
              </a:rPr>
              <a:t>i</a:t>
            </a:r>
            <a:r>
              <a:rPr b="0" i="1" lang="es-ES_tradnl" sz="2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programado para ser producido en la máquina </a:t>
            </a:r>
            <a:r>
              <a:rPr b="0" i="1" lang="es-ES_tradnl" sz="2600" spc="-1" strike="noStrike" u="sng">
                <a:solidFill>
                  <a:srgbClr val="000000"/>
                </a:solidFill>
                <a:uFillTx/>
                <a:latin typeface="Verdana"/>
              </a:rPr>
              <a:t> j</a:t>
            </a: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 en el período </a:t>
            </a:r>
            <a:r>
              <a:rPr b="0" i="1" lang="es-ES_tradnl" sz="2600" spc="-1" strike="noStrike" u="sng">
                <a:solidFill>
                  <a:srgbClr val="000000"/>
                </a:solidFill>
                <a:uFillTx/>
                <a:latin typeface="Verdana"/>
              </a:rPr>
              <a:t>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strips dir="ru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042560" y="764640"/>
            <a:ext cx="7799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3FN - Tercera forma normal </a:t>
            </a:r>
            <a:r>
              <a:rPr b="0" lang="es-ES_tradnl" sz="2500" spc="-1" strike="noStrike">
                <a:solidFill>
                  <a:srgbClr val="000000"/>
                </a:solidFill>
                <a:latin typeface="Verdana"/>
              </a:rPr>
              <a:t>(1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324000" y="1988640"/>
            <a:ext cx="4248000" cy="352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Un modelo está en tercera forma normal si no tiene transitividades (dependencias funcionales), o sea, no tienen atributos que estén determinados linealmente por otro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66" name=""/>
          <p:cNvGrpSpPr/>
          <p:nvPr/>
        </p:nvGrpSpPr>
        <p:grpSpPr>
          <a:xfrm>
            <a:off x="6156360" y="2060640"/>
            <a:ext cx="1623240" cy="2260440"/>
            <a:chOff x="6156360" y="2060640"/>
            <a:chExt cx="1623240" cy="2260440"/>
          </a:xfrm>
        </p:grpSpPr>
        <p:sp>
          <p:nvSpPr>
            <p:cNvPr id="467" name=""/>
            <p:cNvSpPr/>
            <p:nvPr/>
          </p:nvSpPr>
          <p:spPr>
            <a:xfrm>
              <a:off x="6156360" y="2060640"/>
              <a:ext cx="1603440" cy="2260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6273360" y="2100240"/>
              <a:ext cx="1506240" cy="20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EMPLEAD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. R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. Nomb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. Direcció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. #Secció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. #Depto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. #Gerenc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9" name=""/>
          <p:cNvSpPr/>
          <p:nvPr/>
        </p:nvSpPr>
        <p:spPr>
          <a:xfrm>
            <a:off x="5435640" y="5013360"/>
            <a:ext cx="345276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ste modelo no está en 3F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186920" y="609120"/>
            <a:ext cx="78044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3FN - Tercera forma normal </a:t>
            </a:r>
            <a:r>
              <a:rPr b="0" lang="es-ES_tradnl" sz="2500" spc="-1" strike="noStrike">
                <a:solidFill>
                  <a:srgbClr val="000000"/>
                </a:solidFill>
                <a:latin typeface="Verdana"/>
              </a:rPr>
              <a:t>(2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>
            <a:off x="2732400" y="3789360"/>
            <a:ext cx="4825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ste modelo no está en 3F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2" name=""/>
          <p:cNvGrpSpPr/>
          <p:nvPr/>
        </p:nvGrpSpPr>
        <p:grpSpPr>
          <a:xfrm>
            <a:off x="1512720" y="1916280"/>
            <a:ext cx="7139160" cy="1692000"/>
            <a:chOff x="1512720" y="1916280"/>
            <a:chExt cx="7139160" cy="1692000"/>
          </a:xfrm>
        </p:grpSpPr>
        <p:sp>
          <p:nvSpPr>
            <p:cNvPr id="473" name=""/>
            <p:cNvSpPr/>
            <p:nvPr/>
          </p:nvSpPr>
          <p:spPr>
            <a:xfrm>
              <a:off x="3338280" y="2842920"/>
              <a:ext cx="37926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092920" y="2936520"/>
              <a:ext cx="416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500" spc="-1" strike="noStrike">
                  <a:solidFill>
                    <a:srgbClr val="000000"/>
                  </a:solidFill>
                  <a:latin typeface="Arial"/>
                </a:rPr>
                <a:t>tiene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V="1">
              <a:off x="4157640" y="2705040"/>
              <a:ext cx="1440" cy="253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6592680" y="2635200"/>
              <a:ext cx="631800" cy="416880"/>
            </a:xfrm>
            <a:custGeom>
              <a:avLst/>
              <a:gdLst/>
              <a:ahLst/>
              <a:rect l="l" t="t" r="r" b="b"/>
              <a:pathLst>
                <a:path w="398" h="263">
                  <a:moveTo>
                    <a:pt x="398" y="263"/>
                  </a:moveTo>
                  <a:lnTo>
                    <a:pt x="0" y="131"/>
                  </a:lnTo>
                  <a:lnTo>
                    <a:pt x="398" y="0"/>
                  </a:lnTo>
                  <a:lnTo>
                    <a:pt x="398" y="263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6592680" y="2705040"/>
              <a:ext cx="1800" cy="253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1512720" y="1916280"/>
              <a:ext cx="2317680" cy="16920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2170440" y="1962000"/>
              <a:ext cx="811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Secc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1512720" y="2287440"/>
              <a:ext cx="231768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1607040" y="2309760"/>
              <a:ext cx="1166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 u="sng">
                  <a:solidFill>
                    <a:srgbClr val="000000"/>
                  </a:solidFill>
                  <a:uFillTx/>
                  <a:latin typeface="Arial"/>
                </a:rPr>
                <a:t>Seccion_I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1608120" y="2611080"/>
              <a:ext cx="174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Seccion_Nomb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1607760" y="2912760"/>
              <a:ext cx="1800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Departamento_I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1607040" y="3214440"/>
              <a:ext cx="1280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Gerencia_I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6919920" y="2147760"/>
              <a:ext cx="1731960" cy="13917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7168320" y="2193840"/>
              <a:ext cx="1026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Emplead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6919920" y="2519280"/>
              <a:ext cx="17319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013520" y="2541240"/>
              <a:ext cx="470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 u="sng">
                  <a:solidFill>
                    <a:srgbClr val="000000"/>
                  </a:solidFill>
                  <a:uFillTx/>
                  <a:latin typeface="Arial"/>
                </a:rPr>
                <a:t>R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7013880" y="2842920"/>
              <a:ext cx="811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Nomb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7014600" y="3144600"/>
              <a:ext cx="950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Direcció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68360" y="4292640"/>
            <a:ext cx="81360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Razon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En un departamento hay una o más seccion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En una gerencia hay uno o más departament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¿Cómo se puede modelar esto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strips dir="ru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12360" y="763560"/>
            <a:ext cx="7550280" cy="696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000000"/>
                </a:solidFill>
                <a:latin typeface="Verdana"/>
              </a:rPr>
              <a:t>3FN - Tercera forma normal </a:t>
            </a:r>
            <a:r>
              <a:rPr b="0" lang="es-ES_tradnl" sz="2100" spc="-1" strike="noStrike">
                <a:solidFill>
                  <a:srgbClr val="000000"/>
                </a:solidFill>
                <a:latin typeface="Verdana"/>
              </a:rPr>
              <a:t>(4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2752200" y="5589720"/>
            <a:ext cx="40208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ste modelo si está en 3F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3058920" y="1752480"/>
            <a:ext cx="5508360" cy="250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Comentario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Este modelo si está en 3FN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El modelo da cuenta de la jerarquía en la organizació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95" name=""/>
          <p:cNvGrpSpPr/>
          <p:nvPr/>
        </p:nvGrpSpPr>
        <p:grpSpPr>
          <a:xfrm>
            <a:off x="468360" y="1773360"/>
            <a:ext cx="8210520" cy="3855960"/>
            <a:chOff x="468360" y="1773360"/>
            <a:chExt cx="8210520" cy="3855960"/>
          </a:xfrm>
        </p:grpSpPr>
        <p:sp>
          <p:nvSpPr>
            <p:cNvPr id="496" name=""/>
            <p:cNvSpPr/>
            <p:nvPr/>
          </p:nvSpPr>
          <p:spPr>
            <a:xfrm>
              <a:off x="1547640" y="2390760"/>
              <a:ext cx="1800" cy="2814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1265760" y="3451320"/>
              <a:ext cx="418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pose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450800" y="2930400"/>
              <a:ext cx="193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1374840" y="4299120"/>
              <a:ext cx="345960" cy="520560"/>
            </a:xfrm>
            <a:custGeom>
              <a:avLst/>
              <a:gdLst/>
              <a:ahLst/>
              <a:rect l="l" t="t" r="r" b="b"/>
              <a:pathLst>
                <a:path w="218" h="328">
                  <a:moveTo>
                    <a:pt x="0" y="328"/>
                  </a:moveTo>
                  <a:lnTo>
                    <a:pt x="109" y="0"/>
                  </a:lnTo>
                  <a:lnTo>
                    <a:pt x="218" y="328"/>
                  </a:lnTo>
                  <a:lnTo>
                    <a:pt x="0" y="328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1488960" y="4164120"/>
              <a:ext cx="135000" cy="13500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2665440" y="4973760"/>
              <a:ext cx="20048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2990880" y="5051520"/>
              <a:ext cx="749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compuest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 flipV="1">
              <a:off x="3224160" y="4876560"/>
              <a:ext cx="1800" cy="212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3841920" y="4800600"/>
              <a:ext cx="519120" cy="365040"/>
            </a:xfrm>
            <a:custGeom>
              <a:avLst/>
              <a:gdLst/>
              <a:ahLst/>
              <a:rect l="l" t="t" r="r" b="b"/>
              <a:pathLst>
                <a:path w="327" h="230">
                  <a:moveTo>
                    <a:pt x="327" y="230"/>
                  </a:moveTo>
                  <a:lnTo>
                    <a:pt x="0" y="109"/>
                  </a:lnTo>
                  <a:lnTo>
                    <a:pt x="327" y="0"/>
                  </a:lnTo>
                  <a:lnTo>
                    <a:pt x="327" y="23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3706920" y="4916520"/>
              <a:ext cx="135000" cy="13500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5556240" y="5030640"/>
              <a:ext cx="187020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6346080" y="5108400"/>
              <a:ext cx="333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tie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 flipV="1">
              <a:off x="6230880" y="4935600"/>
              <a:ext cx="1800" cy="210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6981840" y="4857840"/>
              <a:ext cx="520560" cy="366480"/>
            </a:xfrm>
            <a:custGeom>
              <a:avLst/>
              <a:gdLst/>
              <a:ahLst/>
              <a:rect l="l" t="t" r="r" b="b"/>
              <a:pathLst>
                <a:path w="328" h="231">
                  <a:moveTo>
                    <a:pt x="328" y="231"/>
                  </a:moveTo>
                  <a:lnTo>
                    <a:pt x="0" y="109"/>
                  </a:lnTo>
                  <a:lnTo>
                    <a:pt x="328" y="0"/>
                  </a:lnTo>
                  <a:lnTo>
                    <a:pt x="328" y="231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6981840" y="4935600"/>
              <a:ext cx="1440" cy="210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4091040" y="4530600"/>
              <a:ext cx="1870200" cy="905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4591440" y="4568760"/>
              <a:ext cx="681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500" spc="-1" strike="noStrike">
                  <a:solidFill>
                    <a:srgbClr val="000000"/>
                  </a:solidFill>
                  <a:latin typeface="Arial"/>
                </a:rPr>
                <a:t>Seccion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4091040" y="4838760"/>
              <a:ext cx="18702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4167360" y="4857840"/>
              <a:ext cx="979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500" spc="-1" strike="noStrike" u="sng">
                  <a:solidFill>
                    <a:srgbClr val="000000"/>
                  </a:solidFill>
                  <a:uFillTx/>
                  <a:latin typeface="Arial"/>
                </a:rPr>
                <a:t>Seccion_ID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4167360" y="5108400"/>
              <a:ext cx="14684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500" spc="-1" strike="noStrike">
                  <a:solidFill>
                    <a:srgbClr val="000000"/>
                  </a:solidFill>
                  <a:latin typeface="Arial"/>
                </a:rPr>
                <a:t>Seccion_Nombre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7251840" y="4471920"/>
              <a:ext cx="1427040" cy="11574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474680" y="4510080"/>
              <a:ext cx="861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500" spc="-1" strike="noStrike">
                  <a:solidFill>
                    <a:srgbClr val="000000"/>
                  </a:solidFill>
                  <a:latin typeface="Arial"/>
                </a:rPr>
                <a:t>Empleado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7251840" y="4781520"/>
              <a:ext cx="142704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7329960" y="4800600"/>
              <a:ext cx="390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500" spc="-1" strike="noStrike" u="sng">
                  <a:solidFill>
                    <a:srgbClr val="000000"/>
                  </a:solidFill>
                  <a:uFillTx/>
                  <a:latin typeface="Arial"/>
                </a:rPr>
                <a:t>RU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7329240" y="5051520"/>
              <a:ext cx="680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500" spc="-1" strike="noStrike">
                  <a:solidFill>
                    <a:srgbClr val="000000"/>
                  </a:solidFill>
                  <a:latin typeface="Arial"/>
                </a:rPr>
                <a:t>Nombre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7328520" y="5300640"/>
              <a:ext cx="799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500" spc="-1" strike="noStrike">
                  <a:solidFill>
                    <a:srgbClr val="000000"/>
                  </a:solidFill>
                  <a:latin typeface="Arial"/>
                </a:rPr>
                <a:t>Dirección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468360" y="4568760"/>
              <a:ext cx="2485800" cy="9064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1005840" y="4606920"/>
              <a:ext cx="12139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500" spc="-1" strike="noStrike">
                  <a:solidFill>
                    <a:srgbClr val="000000"/>
                  </a:solidFill>
                  <a:latin typeface="Arial"/>
                </a:rPr>
                <a:t>Departamento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468360" y="4876920"/>
              <a:ext cx="24858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543960" y="4896000"/>
              <a:ext cx="15109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500" spc="-1" strike="noStrike" u="sng">
                  <a:solidFill>
                    <a:srgbClr val="000000"/>
                  </a:solidFill>
                  <a:uFillTx/>
                  <a:latin typeface="Arial"/>
                </a:rPr>
                <a:t>Departamento_ID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43960" y="5146560"/>
              <a:ext cx="2000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500" spc="-1" strike="noStrike">
                  <a:solidFill>
                    <a:srgbClr val="000000"/>
                  </a:solidFill>
                  <a:latin typeface="Arial"/>
                </a:rPr>
                <a:t>Nombre_Departamento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584280" y="1773360"/>
              <a:ext cx="1965240" cy="9064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1094040" y="1811520"/>
              <a:ext cx="777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500" spc="-1" strike="noStrike">
                  <a:solidFill>
                    <a:srgbClr val="000000"/>
                  </a:solidFill>
                  <a:latin typeface="Arial"/>
                </a:rPr>
                <a:t>Gerencia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84280" y="2081160"/>
              <a:ext cx="196524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658440" y="2100240"/>
              <a:ext cx="1075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500" spc="-1" strike="noStrike" u="sng">
                  <a:solidFill>
                    <a:srgbClr val="000000"/>
                  </a:solidFill>
                  <a:uFillTx/>
                  <a:latin typeface="Arial"/>
                </a:rPr>
                <a:t>Gerencia_ID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658440" y="2351160"/>
              <a:ext cx="156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500" spc="-1" strike="noStrike">
                  <a:solidFill>
                    <a:srgbClr val="000000"/>
                  </a:solidFill>
                  <a:latin typeface="Arial"/>
                </a:rPr>
                <a:t>Nombre_Gerencia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trips dir="ru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80773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Verdana"/>
              </a:rPr>
              <a:t>Transacciones </a:t>
            </a:r>
            <a:br>
              <a:rPr sz="3600"/>
            </a:br>
            <a:r>
              <a:rPr b="0" lang="es-ES" sz="3600" spc="-1" strike="noStrike">
                <a:solidFill>
                  <a:srgbClr val="000000"/>
                </a:solidFill>
                <a:latin typeface="Verdana"/>
              </a:rPr>
              <a:t>en Bases de Dato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 type="subTitle"/>
          </p:nvPr>
        </p:nvSpPr>
        <p:spPr>
          <a:xfrm>
            <a:off x="1258560" y="3933720"/>
            <a:ext cx="7010280" cy="217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Magíster en Gestión de Operacion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Departamento de Ingeniería Industria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Universidad de Chil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Derechos Reservados ©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Samuel Vara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Verdana"/>
              </a:rPr>
              <a:t>Modelo Jerárquico: primer modelo de BD, IMS es la más popular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Verdana"/>
              </a:rPr>
              <a:t>Modelo de Redes: definido por C. Bachman, IDMS fue el producto comercial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Verdana"/>
              </a:rPr>
              <a:t>Modelo Relacional: Funcional Diseño de Codd popularizado por Date (RDB, Oracle, Sybase, Informix )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Verdana"/>
              </a:rPr>
              <a:t>Modelo Entidad – Relación: Concepción de Chen, muy usado aplicable a diversos modelos ( j,r,rel)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Verdana"/>
              </a:rPr>
              <a:t>Modelo Semántico: inicialmente de R. Quillian usado sólo en investigación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Verdana"/>
              </a:rPr>
              <a:t>Modelo Binario: Instrumentado por Stonebraker basado en el modelo de Codd (Ingres)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Verdana"/>
              </a:rPr>
              <a:t>Modelo Orientado a Objetos: popular al representar la tendencia actual (Ilustra, O2)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Verdana"/>
              </a:rPr>
              <a:t>Modelo Mutlirelacional: extensión al relacional con inversión total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Diversos modelos de SAB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DBMS Arquitectura ...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066920" y="1928880"/>
            <a:ext cx="4459320" cy="40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Verdana"/>
              </a:rPr>
              <a:t>Controla la ejecución concurrente de transaccione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Verdana"/>
              </a:rPr>
              <a:t>Ejecuta: envía la operación al administrador de dato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Verdana"/>
              </a:rPr>
              <a:t>Rechaza: no permite realizar una operación (abort)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Verdana"/>
              </a:rPr>
              <a:t>Demora: demora la operación colocándola en una cola de ejecución hasta que sea conveniente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36" name="" descr=""/>
          <p:cNvPicPr/>
          <p:nvPr/>
        </p:nvPicPr>
        <p:blipFill>
          <a:blip r:embed="rId2"/>
          <a:stretch/>
        </p:blipFill>
        <p:spPr>
          <a:xfrm>
            <a:off x="380880" y="2057400"/>
            <a:ext cx="3591000" cy="32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rocesamiento de Transaccione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39280" y="1844640"/>
            <a:ext cx="7993080" cy="439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Dado que cada transacción debe ser procesada cómo si no existieran otras transacciones concurrentes, se requie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Propiedades ACID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Verdana"/>
              </a:rPr>
              <a:t>Atomicidad: todo o nada en los efectos de una transacción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Verdana"/>
              </a:rPr>
              <a:t>Consistencia: Debe ser un cambio correcto de estado en la base de datos (no violar restricciones)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Verdana"/>
              </a:rPr>
              <a:t>Isolation: Cada transacción debe ver el estado correcto, aún si transacciones concurrentes están actualizando dichos datos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Verdana"/>
              </a:rPr>
              <a:t>Durabilidad: Cuando una transacción commit todos sus efectos deben ser preservados, aun si hay una falla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000000"/>
                </a:solidFill>
                <a:latin typeface="Verdana"/>
              </a:rPr>
              <a:t>Transacciones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50880" y="209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Una transacción T</a:t>
            </a:r>
            <a:r>
              <a:rPr b="0" lang="es-ES" sz="30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 es un orden parcial, denotado por &lt;</a:t>
            </a:r>
            <a:r>
              <a:rPr b="0" lang="es-ES" sz="30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dond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es-ES" sz="26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26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s-E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{r</a:t>
            </a:r>
            <a:r>
              <a:rPr b="0" lang="es-ES" sz="26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[x], w</a:t>
            </a:r>
            <a:r>
              <a:rPr b="0" lang="es-ES" sz="26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[x]}U{a</a:t>
            </a:r>
            <a:r>
              <a:rPr b="0" lang="es-ES" sz="26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, c</a:t>
            </a:r>
            <a:r>
              <a:rPr b="0" lang="es-ES" sz="26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es-ES" sz="26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 T</a:t>
            </a:r>
            <a:r>
              <a:rPr b="0" lang="es-ES" sz="26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 c</a:t>
            </a:r>
            <a:r>
              <a:rPr b="0" lang="es-ES" sz="26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26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 T</a:t>
            </a:r>
            <a:r>
              <a:rPr b="0" lang="es-ES" sz="26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Cualquier operación p є T</a:t>
            </a:r>
            <a:r>
              <a:rPr b="0" lang="es-ES" sz="26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 distinta de t = {a</a:t>
            </a:r>
            <a:r>
              <a:rPr b="0" lang="es-ES" sz="26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 o c</a:t>
            </a:r>
            <a:r>
              <a:rPr b="0" lang="es-ES" sz="26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}, entonces p &lt;</a:t>
            </a:r>
            <a:r>
              <a:rPr b="0" lang="es-ES" sz="26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 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Si r</a:t>
            </a:r>
            <a:r>
              <a:rPr b="0" lang="es-ES" sz="26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[x], w</a:t>
            </a:r>
            <a:r>
              <a:rPr b="0" lang="es-ES" sz="26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[x] </a:t>
            </a:r>
            <a:r>
              <a:rPr b="0" lang="es-E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 T</a:t>
            </a:r>
            <a:r>
              <a:rPr b="0" lang="es-ES" sz="26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, entonces r</a:t>
            </a:r>
            <a:r>
              <a:rPr b="0" lang="es-ES" sz="26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[x]&lt;</a:t>
            </a:r>
            <a:r>
              <a:rPr b="0" lang="es-ES" sz="26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 w</a:t>
            </a:r>
            <a:r>
              <a:rPr b="0" lang="es-ES" sz="26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[x] ó w</a:t>
            </a:r>
            <a:r>
              <a:rPr b="0" lang="es-ES" sz="26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[x] &lt;</a:t>
            </a:r>
            <a:r>
              <a:rPr b="0" lang="es-ES" sz="26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 r</a:t>
            </a:r>
            <a:r>
              <a:rPr b="0" lang="es-ES" sz="26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[x]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Ejempl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292200" y="1851120"/>
            <a:ext cx="5275080" cy="41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[x]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[x]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[x]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’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[x]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[x]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[y]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[y]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>
            <a:off x="324000" y="1797120"/>
            <a:ext cx="29527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posit(item x, int am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 = read(x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rite(x, t + amt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mmit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205920" y="3240000"/>
            <a:ext cx="3224160" cy="28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fer(item x, item y, int am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 = read(x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f (f &lt; am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bort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rite(x, f-amt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 = read(y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rite(y, t+amt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mmit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Verdana"/>
              </a:rPr>
              <a:t>Ejemplos …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6" name=""/>
          <p:cNvSpPr/>
          <p:nvPr/>
        </p:nvSpPr>
        <p:spPr>
          <a:xfrm>
            <a:off x="2741760" y="2360520"/>
            <a:ext cx="4574880" cy="17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r1[b] -&gt; w1[b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                           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c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r1[d]-&gt; w1[d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4948200" y="2730600"/>
            <a:ext cx="314280" cy="204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 flipV="1">
            <a:off x="4879800" y="3206880"/>
            <a:ext cx="355680" cy="21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2820960" y="4351320"/>
            <a:ext cx="4575240" cy="13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r1[b]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             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c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w1[b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3624120" y="4599000"/>
            <a:ext cx="465120" cy="314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 flipV="1">
            <a:off x="3760920" y="5130720"/>
            <a:ext cx="341280" cy="34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1912680" y="2532240"/>
            <a:ext cx="63036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s-ES" sz="4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1854720" y="4738680"/>
            <a:ext cx="58752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s-ES" sz="36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Verdana"/>
              </a:rPr>
              <a:t>Historia Complet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500040" y="2017800"/>
            <a:ext cx="845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Una historia completa H sobre T={T</a:t>
            </a:r>
            <a:r>
              <a:rPr b="0" lang="es-ES" sz="26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,…,T</a:t>
            </a:r>
            <a:r>
              <a:rPr b="0" lang="es-ES" sz="2600" spc="-1" strike="noStrike" baseline="-25000">
                <a:solidFill>
                  <a:srgbClr val="000000"/>
                </a:solidFill>
                <a:latin typeface="Verdana"/>
              </a:rPr>
              <a:t>n</a:t>
            </a: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} es un orden parcial &lt;</a:t>
            </a:r>
            <a:r>
              <a:rPr b="0" lang="es-ES" sz="2600" spc="-1" strike="noStrike" baseline="-25000">
                <a:solidFill>
                  <a:srgbClr val="000000"/>
                </a:solidFill>
                <a:latin typeface="Verdana"/>
              </a:rPr>
              <a:t>H</a:t>
            </a: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 dond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H = U T</a:t>
            </a:r>
            <a:r>
              <a:rPr b="0" lang="es-ES" sz="22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U &lt;</a:t>
            </a:r>
            <a:r>
              <a:rPr b="0" lang="es-ES" sz="22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 &lt;</a:t>
            </a:r>
            <a:r>
              <a:rPr b="0" lang="es-ES" sz="2200" spc="-1" strike="noStrike" baseline="-25000">
                <a:solidFill>
                  <a:srgbClr val="000000"/>
                </a:solidFill>
                <a:latin typeface="Verdana"/>
              </a:rPr>
              <a:t>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Para cualquier par de operaciones conflictivas p, q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є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 H p &lt;</a:t>
            </a:r>
            <a:r>
              <a:rPr b="0" lang="es-ES" sz="2200" spc="-1" strike="noStrike" baseline="-25000">
                <a:solidFill>
                  <a:srgbClr val="000000"/>
                </a:solidFill>
                <a:latin typeface="Verdana"/>
              </a:rPr>
              <a:t>H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 q o q &lt;</a:t>
            </a:r>
            <a:r>
              <a:rPr b="0" lang="es-ES" sz="2200" spc="-1" strike="noStrike" baseline="-25000">
                <a:solidFill>
                  <a:srgbClr val="000000"/>
                </a:solidFill>
                <a:latin typeface="Verdana"/>
              </a:rPr>
              <a:t>H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 p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Dos operaciones p, q son conflictivas si ambas operan sobre el mismo dato, y a lo menos una de ellas es un wri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Ejempl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541440" y="1773360"/>
            <a:ext cx="770256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just">
              <a:lnSpc>
                <a:spcPct val="80000"/>
              </a:lnSpc>
              <a:spcBef>
                <a:spcPts val="1199"/>
              </a:spcBef>
              <a:spcAft>
                <a:spcPts val="601"/>
              </a:spcAft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Una historia H sobre T = {T</a:t>
            </a:r>
            <a:r>
              <a:rPr b="0" lang="es-ES" sz="26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, T</a:t>
            </a:r>
            <a:r>
              <a:rPr b="0" lang="es-ES" sz="26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119960" indent="0" algn="ctr">
              <a:lnSpc>
                <a:spcPct val="8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35880" indent="0" algn="just">
              <a:lnSpc>
                <a:spcPct val="8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35880" indent="0" algn="just">
              <a:lnSpc>
                <a:spcPct val="8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 algn="just">
              <a:lnSpc>
                <a:spcPct val="80000"/>
              </a:lnSpc>
              <a:spcBef>
                <a:spcPts val="1199"/>
              </a:spcBef>
              <a:spcAft>
                <a:spcPts val="601"/>
              </a:spcAft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Resume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 algn="just">
              <a:lnSpc>
                <a:spcPct val="80000"/>
              </a:lnSpc>
              <a:spcBef>
                <a:spcPts val="1199"/>
              </a:spcBef>
              <a:spcAft>
                <a:spcPts val="601"/>
              </a:spcAft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H contiene todas las operaciones en 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 algn="just">
              <a:lnSpc>
                <a:spcPct val="80000"/>
              </a:lnSpc>
              <a:spcBef>
                <a:spcPts val="1199"/>
              </a:spcBef>
              <a:spcAft>
                <a:spcPts val="601"/>
              </a:spcAft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&lt;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Verdana"/>
              </a:rPr>
              <a:t>H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 preserva todos los ordenes de las transacciones {T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, T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, ..., T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Verdana"/>
              </a:rPr>
              <a:t>n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}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 algn="just">
              <a:lnSpc>
                <a:spcPct val="80000"/>
              </a:lnSpc>
              <a:spcBef>
                <a:spcPts val="1199"/>
              </a:spcBef>
              <a:spcAft>
                <a:spcPts val="601"/>
              </a:spcAft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Todos los conflictos entre transacciones son ordenado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558" name=""/>
          <p:cNvGraphicFramePr/>
          <p:nvPr/>
        </p:nvGraphicFramePr>
        <p:xfrm>
          <a:off x="4168800" y="2486160"/>
          <a:ext cx="3941640" cy="1976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5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68800" y="2486160"/>
                    <a:ext cx="3941640" cy="197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Verdana"/>
              </a:rPr>
              <a:t>Problemas de Concurrenci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163440" y="2095200"/>
            <a:ext cx="880272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spcBef>
                <a:spcPts val="1199"/>
              </a:spcBef>
              <a:spcAft>
                <a:spcPts val="601"/>
              </a:spcAft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Verdana"/>
              </a:rPr>
              <a:t>1. Actualizaciones Perdidas (Lost updates) – Depósito hecho por T</a:t>
            </a:r>
            <a:r>
              <a:rPr b="0" lang="es-CL" sz="21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s-CL" sz="2100" spc="-1" strike="noStrike">
                <a:solidFill>
                  <a:srgbClr val="000000"/>
                </a:solidFill>
                <a:latin typeface="Verdana"/>
              </a:rPr>
              <a:t> se pierd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0" algn="just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3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CL" sz="23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s-CL" sz="23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s-CL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3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s-CL" sz="23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s-CL" sz="2300" spc="-1" strike="noStrike">
                <a:solidFill>
                  <a:srgbClr val="000000"/>
                </a:solidFill>
                <a:latin typeface="Times New Roman"/>
              </a:rPr>
              <a:t>[x]</a:t>
            </a:r>
            <a:r>
              <a:rPr b="0" lang="es-CL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3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s-CL" sz="23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s-CL" sz="2300" spc="-1" strike="noStrike">
                <a:solidFill>
                  <a:srgbClr val="000000"/>
                </a:solidFill>
                <a:latin typeface="Times New Roman"/>
              </a:rPr>
              <a:t>[x]</a:t>
            </a:r>
            <a:r>
              <a:rPr b="0" lang="es-CL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3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s-CL" sz="23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0" algn="just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3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CL" sz="23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CL" sz="23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s-CL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3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s-CL" sz="23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CL" sz="2300" spc="-1" strike="noStrike">
                <a:solidFill>
                  <a:srgbClr val="000000"/>
                </a:solidFill>
                <a:latin typeface="Times New Roman"/>
              </a:rPr>
              <a:t>[x]</a:t>
            </a:r>
            <a:r>
              <a:rPr b="0" lang="es-CL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3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s-CL" sz="23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CL" sz="2300" spc="-1" strike="noStrike">
                <a:solidFill>
                  <a:srgbClr val="000000"/>
                </a:solidFill>
                <a:latin typeface="Times New Roman"/>
              </a:rPr>
              <a:t>[x]</a:t>
            </a:r>
            <a:r>
              <a:rPr b="0" lang="es-CL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3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s-CL" sz="23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CL" sz="2300" spc="-1" strike="noStrike">
                <a:solidFill>
                  <a:srgbClr val="000000"/>
                </a:solidFill>
                <a:latin typeface="Times New Roman"/>
              </a:rPr>
              <a:t>[y]</a:t>
            </a:r>
            <a:r>
              <a:rPr b="0" lang="es-CL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3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s-CL" sz="23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CL" sz="2300" spc="-1" strike="noStrike">
                <a:solidFill>
                  <a:srgbClr val="000000"/>
                </a:solidFill>
                <a:latin typeface="Times New Roman"/>
              </a:rPr>
              <a:t>[y]</a:t>
            </a:r>
            <a:r>
              <a:rPr b="0" lang="es-CL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3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s-CL" sz="23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1199"/>
              </a:spcBef>
              <a:spcAft>
                <a:spcPts val="601"/>
              </a:spcAft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Verdana"/>
              </a:rPr>
              <a:t>2. Lectura Sucia (Dirty Reads)- Cantidad deducida de x por T</a:t>
            </a:r>
            <a:r>
              <a:rPr b="0" lang="es-CL" sz="21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s-CL" sz="2100" spc="-1" strike="noStrike">
                <a:solidFill>
                  <a:srgbClr val="000000"/>
                </a:solidFill>
                <a:latin typeface="Verdana"/>
              </a:rPr>
              <a:t> desaparec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0" algn="just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300" spc="-1" strike="noStrike">
                <a:solidFill>
                  <a:srgbClr val="000000"/>
                </a:solidFill>
                <a:latin typeface="Times New Roman"/>
              </a:rPr>
              <a:t>T1:</a:t>
            </a:r>
            <a:r>
              <a:rPr b="0" lang="es-CL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300" spc="-1" strike="noStrike">
                <a:solidFill>
                  <a:srgbClr val="000000"/>
                </a:solidFill>
                <a:latin typeface="Times New Roman"/>
              </a:rPr>
              <a:t>r1[x]</a:t>
            </a:r>
            <a:r>
              <a:rPr b="0" lang="es-CL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300" spc="-1" strike="noStrike">
                <a:solidFill>
                  <a:srgbClr val="000000"/>
                </a:solidFill>
                <a:latin typeface="Times New Roman"/>
              </a:rPr>
              <a:t>w1[x]</a:t>
            </a:r>
            <a:r>
              <a:rPr b="0" lang="es-CL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300" spc="-1" strike="noStrike">
                <a:solidFill>
                  <a:srgbClr val="000000"/>
                </a:solidFill>
                <a:latin typeface="Times New Roman"/>
              </a:rPr>
              <a:t>c1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0" algn="just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300" spc="-1" strike="noStrike">
                <a:solidFill>
                  <a:srgbClr val="000000"/>
                </a:solidFill>
                <a:latin typeface="Times New Roman"/>
              </a:rPr>
              <a:t>T2:</a:t>
            </a:r>
            <a:r>
              <a:rPr b="0" lang="es-CL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300" spc="-1" strike="noStrike">
                <a:solidFill>
                  <a:srgbClr val="000000"/>
                </a:solidFill>
                <a:latin typeface="Times New Roman"/>
              </a:rPr>
              <a:t>r2[x]</a:t>
            </a:r>
            <a:r>
              <a:rPr b="0" lang="es-CL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300" spc="-1" strike="noStrike">
                <a:solidFill>
                  <a:srgbClr val="000000"/>
                </a:solidFill>
                <a:latin typeface="Times New Roman"/>
              </a:rPr>
              <a:t>w2[x]</a:t>
            </a:r>
            <a:r>
              <a:rPr b="0" lang="es-CL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300" spc="-1" strike="noStrike">
                <a:solidFill>
                  <a:srgbClr val="000000"/>
                </a:solidFill>
                <a:latin typeface="Times New Roman"/>
              </a:rPr>
              <a:t>...</a:t>
            </a:r>
            <a:r>
              <a:rPr b="0" lang="es-CL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300" spc="-1" strike="noStrike">
                <a:solidFill>
                  <a:srgbClr val="000000"/>
                </a:solidFill>
                <a:latin typeface="Times New Roman"/>
              </a:rPr>
              <a:t>a2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Historias Equivalent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78000" y="1773360"/>
            <a:ext cx="8564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Verdana"/>
              </a:rPr>
              <a:t>Definición</a:t>
            </a: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- Dos historias H y H’ son</a:t>
            </a:r>
            <a:r>
              <a:rPr b="0" i="1" lang="es-ES" sz="2600" spc="-1" strike="noStrike">
                <a:solidFill>
                  <a:srgbClr val="000000"/>
                </a:solidFill>
                <a:latin typeface="Verdana"/>
              </a:rPr>
              <a:t> equivalentes</a:t>
            </a: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0" lang="es-ES" sz="26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) si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 algn="just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Son definidas sobre el mismo conjunto de transacciones y tienen el mismo conjunto de operaciones, 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 algn="just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Para todo par de operaciones conflictivas p</a:t>
            </a:r>
            <a:r>
              <a:rPr b="0" lang="es-ES" sz="22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 y q</a:t>
            </a:r>
            <a:r>
              <a:rPr b="0" lang="es-ES" sz="2200" spc="-1" strike="noStrike" baseline="-25000">
                <a:solidFill>
                  <a:srgbClr val="000000"/>
                </a:solidFill>
                <a:latin typeface="Verdana"/>
              </a:rPr>
              <a:t>j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 tal que a</a:t>
            </a:r>
            <a:r>
              <a:rPr b="0" lang="es-ES" sz="22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, a</a:t>
            </a:r>
            <a:r>
              <a:rPr b="0" lang="es-ES" sz="2200" spc="-1" strike="noStrike" baseline="-25000">
                <a:solidFill>
                  <a:srgbClr val="000000"/>
                </a:solidFill>
                <a:latin typeface="Verdana"/>
              </a:rPr>
              <a:t>j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22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 H (or H’),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 algn="just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lang="es-ES" sz="22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 &lt;</a:t>
            </a:r>
            <a:r>
              <a:rPr b="0" lang="es-ES" sz="2200" spc="-1" strike="noStrike" baseline="-25000">
                <a:solidFill>
                  <a:srgbClr val="000000"/>
                </a:solidFill>
                <a:latin typeface="Verdana"/>
              </a:rPr>
              <a:t>H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 q</a:t>
            </a:r>
            <a:r>
              <a:rPr b="0" lang="es-ES" sz="2200" spc="-1" strike="noStrike" baseline="-25000">
                <a:solidFill>
                  <a:srgbClr val="000000"/>
                </a:solidFill>
                <a:latin typeface="Verdana"/>
              </a:rPr>
              <a:t>j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 p</a:t>
            </a:r>
            <a:r>
              <a:rPr b="0" lang="es-ES" sz="22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 &lt;</a:t>
            </a:r>
            <a:r>
              <a:rPr b="0" lang="es-ES" sz="2200" spc="-1" strike="noStrike" baseline="-25000">
                <a:solidFill>
                  <a:srgbClr val="000000"/>
                </a:solidFill>
                <a:latin typeface="Verdana"/>
              </a:rPr>
              <a:t>H’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 q</a:t>
            </a:r>
            <a:r>
              <a:rPr b="0" lang="es-ES" sz="2200" spc="-1" strike="noStrike" baseline="-25000">
                <a:solidFill>
                  <a:srgbClr val="000000"/>
                </a:solidFill>
                <a:latin typeface="Verdana"/>
              </a:rPr>
              <a:t>j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Verdana"/>
              </a:rPr>
              <a:t>Definición</a:t>
            </a: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- Una historia es </a:t>
            </a:r>
            <a:r>
              <a:rPr b="0" i="1" lang="es-ES" sz="2600" spc="-1" strike="noStrike">
                <a:solidFill>
                  <a:srgbClr val="000000"/>
                </a:solidFill>
                <a:latin typeface="Verdana"/>
              </a:rPr>
              <a:t>serializable</a:t>
            </a: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 si es equivalente a alguna historia serial H</a:t>
            </a:r>
            <a:r>
              <a:rPr b="0" lang="es-ES" sz="2600" spc="-1" strike="noStrike" baseline="-25000">
                <a:solidFill>
                  <a:srgbClr val="000000"/>
                </a:solidFill>
                <a:latin typeface="Verdana"/>
              </a:rPr>
              <a:t>s</a:t>
            </a: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Ejemplo de Serializació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610920" y="1773000"/>
            <a:ext cx="835956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istorias seriales sobre T = {T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, T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566" name=""/>
          <p:cNvGraphicFramePr/>
          <p:nvPr/>
        </p:nvGraphicFramePr>
        <p:xfrm>
          <a:off x="2050920" y="2382840"/>
          <a:ext cx="5680080" cy="3703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6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050920" y="2382840"/>
                    <a:ext cx="5680080" cy="370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11280" y="404640"/>
            <a:ext cx="7439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Bases de Datos Relacionales (RDBMS)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09480" y="1773360"/>
            <a:ext cx="835524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RDBM´s nacieron en 1970 por el trabajo de E.F. Cod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Han madurado sobre los últimos 25 años, y aún son populares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Permiten trabajo concurrente (muchos usuarios en líne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DBMS han sido diseñadas para aplicaciones de negocios (transaccionales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Alta eficiencia en el procesamiento transaccional (OLT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Mantienen restricciones de integridad (simples), preservando la consistencia de los da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stán basadas en relaciones (tablas) como estructuras de almacenamiento, y en un modelo para el diseño (Entidad – relació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Ejemplo de Serialización …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528120" y="1935000"/>
            <a:ext cx="8426520" cy="419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1199"/>
              </a:spcBef>
              <a:spcAft>
                <a:spcPts val="601"/>
              </a:spcAft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Historia H 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no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es 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serializable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ya 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spcBef>
                <a:spcPts val="1199"/>
              </a:spcBef>
              <a:spcAft>
                <a:spcPts val="601"/>
              </a:spcAft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[y] &lt;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Verdana"/>
              </a:rPr>
              <a:t>H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r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[y]  no se cumple en T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spcBef>
                <a:spcPts val="1199"/>
              </a:spcBef>
              <a:spcAft>
                <a:spcPts val="601"/>
              </a:spcAft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[x] &lt;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Verdana"/>
              </a:rPr>
              <a:t>H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w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[x]  no se cumple en T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570" name=""/>
          <p:cNvGraphicFramePr/>
          <p:nvPr/>
        </p:nvGraphicFramePr>
        <p:xfrm>
          <a:off x="2916360" y="3716280"/>
          <a:ext cx="4538520" cy="2274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7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916360" y="3716280"/>
                    <a:ext cx="4538520" cy="227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Ejemplo de Serialización …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611280" y="1773360"/>
            <a:ext cx="8345520" cy="40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1199"/>
              </a:spcBef>
              <a:spcAft>
                <a:spcPts val="601"/>
              </a:spcAft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Historia H’ es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 serializable,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a que es equivalente a T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574" name=""/>
          <p:cNvGraphicFramePr/>
          <p:nvPr/>
        </p:nvGraphicFramePr>
        <p:xfrm>
          <a:off x="2076480" y="2781360"/>
          <a:ext cx="6095880" cy="3098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7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076480" y="2781360"/>
                    <a:ext cx="6095880" cy="309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Verdana"/>
              </a:rPr>
              <a:t>Grafo de Serializació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394920" y="1773000"/>
            <a:ext cx="8481960" cy="41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000000"/>
                </a:solidFill>
                <a:latin typeface="Verdana"/>
              </a:rPr>
              <a:t>Definición</a:t>
            </a: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- El </a:t>
            </a:r>
            <a:r>
              <a:rPr b="0" i="1" lang="es-ES" sz="3000" spc="-1" strike="noStrike">
                <a:solidFill>
                  <a:srgbClr val="000000"/>
                </a:solidFill>
                <a:latin typeface="Verdana"/>
              </a:rPr>
              <a:t>grafo de serialización </a:t>
            </a: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SG(H) de una historia H, es una grafo dirigido con nodos correspondientes a las transacciones con commit en H y arcos T</a:t>
            </a:r>
            <a:r>
              <a:rPr b="0" lang="es-ES" sz="30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 T</a:t>
            </a:r>
            <a:r>
              <a:rPr b="0" lang="es-ES" sz="3000" spc="-1" strike="noStrike" baseline="-25000">
                <a:solidFill>
                  <a:srgbClr val="000000"/>
                </a:solidFill>
                <a:latin typeface="Verdana"/>
              </a:rPr>
              <a:t>j</a:t>
            </a: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 tal que p</a:t>
            </a:r>
            <a:r>
              <a:rPr b="0" lang="es-ES" sz="30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 &lt;</a:t>
            </a:r>
            <a:r>
              <a:rPr b="0" lang="es-ES" sz="3000" spc="-1" strike="noStrike" baseline="-25000">
                <a:solidFill>
                  <a:srgbClr val="000000"/>
                </a:solidFill>
                <a:latin typeface="Verdana"/>
              </a:rPr>
              <a:t>H</a:t>
            </a: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 q</a:t>
            </a:r>
            <a:r>
              <a:rPr b="0" lang="es-ES" sz="3000" spc="-1" strike="noStrike" baseline="-25000">
                <a:solidFill>
                  <a:srgbClr val="000000"/>
                </a:solidFill>
                <a:latin typeface="Verdana"/>
              </a:rPr>
              <a:t>j</a:t>
            </a: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 y p</a:t>
            </a:r>
            <a:r>
              <a:rPr b="0" lang="es-ES" sz="30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 T</a:t>
            </a:r>
            <a:r>
              <a:rPr b="0" lang="es-ES" sz="30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 tiene conflicto con q</a:t>
            </a:r>
            <a:r>
              <a:rPr b="0" lang="es-ES" sz="3000" spc="-1" strike="noStrike" baseline="-25000">
                <a:solidFill>
                  <a:srgbClr val="000000"/>
                </a:solidFill>
                <a:latin typeface="Verdana"/>
              </a:rPr>
              <a:t>j </a:t>
            </a:r>
            <a:r>
              <a:rPr b="0" lang="es-E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 T</a:t>
            </a:r>
            <a:r>
              <a:rPr b="0" lang="es-ES" sz="3000" spc="-1" strike="noStrike" baseline="-25000">
                <a:solidFill>
                  <a:srgbClr val="000000"/>
                </a:solidFill>
                <a:latin typeface="Verdana"/>
              </a:rPr>
              <a:t>j</a:t>
            </a: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Ejemplo-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 algn="just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1. SG(H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578" name=""/>
          <p:cNvGraphicFramePr/>
          <p:nvPr/>
        </p:nvGraphicFramePr>
        <p:xfrm>
          <a:off x="3851280" y="4508640"/>
          <a:ext cx="2590920" cy="990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7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51280" y="4508640"/>
                    <a:ext cx="2590920" cy="99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Grafo de Serialización …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G(H’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G(H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 algn="just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3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= r</a:t>
            </a:r>
            <a:r>
              <a:rPr b="0" lang="en-US" sz="23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[x] w</a:t>
            </a:r>
            <a:r>
              <a:rPr b="0" lang="en-US" sz="23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[x] c</a:t>
            </a:r>
            <a:r>
              <a:rPr b="0" lang="en-US" sz="23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w</a:t>
            </a:r>
            <a:r>
              <a:rPr b="0" lang="en-US" sz="23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[y] c</a:t>
            </a:r>
            <a:r>
              <a:rPr b="0" lang="en-US" sz="23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0" lang="en-US" sz="23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[x] w</a:t>
            </a:r>
            <a:r>
              <a:rPr b="0" lang="en-US" sz="23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[y] c</a:t>
            </a:r>
            <a:r>
              <a:rPr b="0" lang="en-US" sz="23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582" name=""/>
          <p:cNvGraphicFramePr/>
          <p:nvPr/>
        </p:nvGraphicFramePr>
        <p:xfrm>
          <a:off x="2340000" y="2276640"/>
          <a:ext cx="3200400" cy="618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8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340000" y="2276640"/>
                    <a:ext cx="3200400" cy="61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4" name=""/>
          <p:cNvGraphicFramePr/>
          <p:nvPr/>
        </p:nvGraphicFramePr>
        <p:xfrm>
          <a:off x="2987640" y="4437000"/>
          <a:ext cx="2590920" cy="15717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8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987640" y="4437000"/>
                    <a:ext cx="2590920" cy="157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Grafo de Serialización …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26680" y="1990440"/>
            <a:ext cx="842796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37120" indent="-537120">
              <a:spcBef>
                <a:spcPts val="1199"/>
              </a:spcBef>
              <a:spcAft>
                <a:spcPts val="601"/>
              </a:spcAft>
              <a:buClr>
                <a:srgbClr val="cc0000"/>
              </a:buClr>
              <a:buSzPct val="65000"/>
              <a:buFont typeface="Verdan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G(H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37120" indent="0">
              <a:spcBef>
                <a:spcPts val="11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271160" indent="0">
              <a:spcBef>
                <a:spcPts val="1199"/>
              </a:spcBef>
              <a:spcAft>
                <a:spcPts val="6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H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= r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[x] w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[y] w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[x] r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[x] w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[y] c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w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[y] c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c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537120" indent="0">
              <a:spcBef>
                <a:spcPts val="11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¿H</a:t>
            </a:r>
            <a:r>
              <a:rPr b="0" lang="es-ES" sz="26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 realmente viola la consistencia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271160" indent="-411480" algn="just">
              <a:lnSpc>
                <a:spcPct val="80000"/>
              </a:lnSpc>
              <a:spcBef>
                <a:spcPts val="1199"/>
              </a:spcBef>
              <a:spcAft>
                <a:spcPts val="601"/>
              </a:spcAft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es-ES" sz="19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s-ES" sz="1900" spc="-1" strike="noStrike">
                <a:solidFill>
                  <a:srgbClr val="000000"/>
                </a:solidFill>
                <a:latin typeface="Verdana"/>
              </a:rPr>
              <a:t> lee una versión original de x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271160" indent="-411480" algn="just">
              <a:lnSpc>
                <a:spcPct val="80000"/>
              </a:lnSpc>
              <a:spcBef>
                <a:spcPts val="1199"/>
              </a:spcBef>
              <a:spcAft>
                <a:spcPts val="601"/>
              </a:spcAft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es-ES" sz="19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s-ES" sz="1900" spc="-1" strike="noStrike">
                <a:solidFill>
                  <a:srgbClr val="000000"/>
                </a:solidFill>
                <a:latin typeface="Verdana"/>
              </a:rPr>
              <a:t> no lee valores y escribe un valor de x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271160" indent="-411480" algn="just">
              <a:lnSpc>
                <a:spcPct val="80000"/>
              </a:lnSpc>
              <a:spcBef>
                <a:spcPts val="1199"/>
              </a:spcBef>
              <a:spcAft>
                <a:spcPts val="601"/>
              </a:spcAft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es-ES" sz="1900" spc="-1" strike="noStrike" baseline="-25000">
                <a:solidFill>
                  <a:srgbClr val="000000"/>
                </a:solidFill>
                <a:latin typeface="Verdana"/>
              </a:rPr>
              <a:t>3</a:t>
            </a:r>
            <a:r>
              <a:rPr b="0" lang="es-ES" sz="1900" spc="-1" strike="noStrike">
                <a:solidFill>
                  <a:srgbClr val="000000"/>
                </a:solidFill>
                <a:latin typeface="Verdana"/>
              </a:rPr>
              <a:t> lee x de T</a:t>
            </a:r>
            <a:r>
              <a:rPr b="0" lang="es-ES" sz="19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s-ES" sz="1900" spc="-1" strike="noStrike">
                <a:solidFill>
                  <a:srgbClr val="000000"/>
                </a:solidFill>
                <a:latin typeface="Verdana"/>
              </a:rPr>
              <a:t> y escribe un valor final de y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271160" indent="-411480" algn="just">
              <a:lnSpc>
                <a:spcPct val="80000"/>
              </a:lnSpc>
              <a:spcBef>
                <a:spcPts val="1199"/>
              </a:spcBef>
              <a:spcAft>
                <a:spcPts val="601"/>
              </a:spcAft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Verdana"/>
              </a:rPr>
              <a:t>¿Qué sucede en el caso T</a:t>
            </a:r>
            <a:r>
              <a:rPr b="0" lang="es-ES" sz="19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s-ES" sz="19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es-ES" sz="19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s-ES" sz="19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es-ES" sz="1900" spc="-1" strike="noStrike" baseline="-25000">
                <a:solidFill>
                  <a:srgbClr val="000000"/>
                </a:solidFill>
                <a:latin typeface="Verdana"/>
              </a:rPr>
              <a:t>3</a:t>
            </a:r>
            <a:r>
              <a:rPr b="0" lang="es-ES" sz="19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588" name=""/>
          <p:cNvGraphicFramePr/>
          <p:nvPr/>
        </p:nvGraphicFramePr>
        <p:xfrm>
          <a:off x="6227640" y="1557360"/>
          <a:ext cx="2286000" cy="1835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8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227640" y="1557360"/>
                    <a:ext cx="2286000" cy="183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Verdana"/>
              </a:rPr>
              <a:t>Teorema de Seriabilid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609480" y="2127240"/>
            <a:ext cx="834552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1199"/>
              </a:spcBef>
              <a:spcAft>
                <a:spcPts val="601"/>
              </a:spcAft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000000"/>
                </a:solidFill>
                <a:latin typeface="Verdana"/>
              </a:rPr>
              <a:t>Teorema de Seriabilidad- </a:t>
            </a:r>
            <a:r>
              <a:rPr b="0" lang="es-ES" sz="3400" spc="-1" strike="noStrike">
                <a:solidFill>
                  <a:srgbClr val="000000"/>
                </a:solidFill>
                <a:latin typeface="Verdana"/>
              </a:rPr>
              <a:t>Una historia H es serializable si y sólo si SG(H) es acíclico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324000" y="476280"/>
            <a:ext cx="7943760" cy="9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wo-Phase Locking (2PL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394920" y="1844640"/>
            <a:ext cx="8040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Mecanismos que permite procesar las transacciones en un orden que garantice la seriabilidad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Este mecanismo trabaja sobre el concepto de LOCKs (solicitud de acceso a los datos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Para ello requiere que una transacción sea Bien Formada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94" name="" descr=""/>
          <p:cNvPicPr/>
          <p:nvPr/>
        </p:nvPicPr>
        <p:blipFill>
          <a:blip r:embed="rId2"/>
          <a:stretch/>
        </p:blipFill>
        <p:spPr>
          <a:xfrm>
            <a:off x="7450200" y="237960"/>
            <a:ext cx="1369800" cy="1230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wo-Phase Locking (2PL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7837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1199"/>
              </a:spcBef>
              <a:spcAft>
                <a:spcPts val="601"/>
              </a:spcAft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Notació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1199"/>
              </a:spcBef>
              <a:spcAft>
                <a:spcPts val="601"/>
              </a:spcAft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Verdana"/>
              </a:rPr>
              <a:t>rl</a:t>
            </a:r>
            <a:r>
              <a:rPr b="0" i="1" lang="es-ES" sz="20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[x] -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Es un lock de lectura para el elemento x entregado a la transacción T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1199"/>
              </a:spcBef>
              <a:spcAft>
                <a:spcPts val="601"/>
              </a:spcAft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Verdana"/>
              </a:rPr>
              <a:t>wl</a:t>
            </a:r>
            <a:r>
              <a:rPr b="0" i="1" lang="es-ES" sz="20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[x] -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un lock de escritura para x entregado a T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1199"/>
              </a:spcBef>
              <a:spcAft>
                <a:spcPts val="601"/>
              </a:spcAft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Verdana"/>
              </a:rPr>
              <a:t>ru</a:t>
            </a:r>
            <a:r>
              <a:rPr b="0" i="1" lang="es-ES" sz="20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[x] -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libera un lock de lectura sobre x mantenido por T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1199"/>
              </a:spcBef>
              <a:spcAft>
                <a:spcPts val="601"/>
              </a:spcAft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Verdana"/>
              </a:rPr>
              <a:t>wu</a:t>
            </a:r>
            <a:r>
              <a:rPr b="0" i="1" lang="es-ES" sz="20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[x] - libera un lock de escritura sobre x mantenido por T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1199"/>
              </a:spcBef>
              <a:spcAft>
                <a:spcPts val="601"/>
              </a:spcAft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Compatibilida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597" name=""/>
          <p:cNvGraphicFramePr/>
          <p:nvPr/>
        </p:nvGraphicFramePr>
        <p:xfrm>
          <a:off x="4556160" y="4581360"/>
          <a:ext cx="2103480" cy="1552320"/>
        </p:xfrm>
        <a:graphic>
          <a:graphicData uri="http://schemas.openxmlformats.org/drawingml/2006/table">
            <a:tbl>
              <a:tblPr/>
              <a:tblGrid>
                <a:gridCol w="702000"/>
                <a:gridCol w="699840"/>
                <a:gridCol w="701640"/>
              </a:tblGrid>
              <a:tr h="54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l</a:t>
                      </a:r>
                      <a:r>
                        <a:rPr b="0" i="1" lang="es-ES" sz="2600" spc="-1" strike="noStrike" baseline="-25000">
                          <a:solidFill>
                            <a:srgbClr val="000000"/>
                          </a:solidFill>
                          <a:latin typeface="Verdana"/>
                        </a:rPr>
                        <a:t>i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l</a:t>
                      </a:r>
                      <a:r>
                        <a:rPr b="0" i="1" lang="es-ES" sz="2600" spc="-1" strike="noStrike" baseline="-25000">
                          <a:solidFill>
                            <a:srgbClr val="000000"/>
                          </a:solidFill>
                          <a:latin typeface="Verdana"/>
                        </a:rPr>
                        <a:t>i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l</a:t>
                      </a:r>
                      <a:r>
                        <a:rPr b="0" i="1" lang="es-ES" sz="2600" spc="-1" strike="noStrike" baseline="-25000">
                          <a:solidFill>
                            <a:srgbClr val="000000"/>
                          </a:solidFill>
                          <a:latin typeface="Verdana"/>
                        </a:rPr>
                        <a:t>j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e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l</a:t>
                      </a:r>
                      <a:r>
                        <a:rPr b="0" i="1" lang="es-ES" sz="2600" spc="-1" strike="noStrike" baseline="-25000">
                          <a:solidFill>
                            <a:srgbClr val="000000"/>
                          </a:solidFill>
                          <a:latin typeface="Verdana"/>
                        </a:rPr>
                        <a:t>j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wo-Phase Locking (2PL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85640" y="1907640"/>
            <a:ext cx="8469360" cy="422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1199"/>
              </a:spcBef>
              <a:spcAft>
                <a:spcPts val="601"/>
              </a:spcAft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Verdana"/>
              </a:rPr>
              <a:t>Definición</a:t>
            </a: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- Una transacción es Bien Formada si lockea un ítem en forma apropiada antes de accesarlo, y no lo lockea si el ítem tiene un lock que es conflictivo con el de la transacción, y lo deslockea una vez terminada su operació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1199"/>
              </a:spcBef>
              <a:spcAft>
                <a:spcPts val="601"/>
              </a:spcAft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Ejemplo T</a:t>
            </a:r>
            <a:r>
              <a:rPr b="0" lang="es-ES" sz="26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[x] w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[x] r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[y] w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[y] c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spcBef>
                <a:spcPts val="1199"/>
              </a:spcBef>
              <a:spcAft>
                <a:spcPts val="601"/>
              </a:spcAft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200" spc="-1" strike="noStrike">
                <a:solidFill>
                  <a:srgbClr val="000000"/>
                </a:solidFill>
                <a:latin typeface="Verdana"/>
              </a:rPr>
              <a:t>rl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[x] </a:t>
            </a:r>
            <a:r>
              <a:rPr b="0" i="1" lang="es-ES" sz="2200" spc="-1" strike="noStrike">
                <a:solidFill>
                  <a:srgbClr val="000000"/>
                </a:solidFill>
                <a:latin typeface="Verdana"/>
              </a:rPr>
              <a:t>wl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[x] </a:t>
            </a:r>
            <a:r>
              <a:rPr b="0" i="1" lang="es-ES" sz="2200" spc="-1" strike="noStrike">
                <a:solidFill>
                  <a:srgbClr val="000000"/>
                </a:solidFill>
                <a:latin typeface="Verdana"/>
              </a:rPr>
              <a:t>wu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[x] </a:t>
            </a:r>
            <a:r>
              <a:rPr b="0" i="1" lang="es-ES" sz="2200" spc="-1" strike="noStrike">
                <a:solidFill>
                  <a:srgbClr val="000000"/>
                </a:solidFill>
                <a:latin typeface="Verdana"/>
              </a:rPr>
              <a:t>rl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[y] </a:t>
            </a:r>
            <a:r>
              <a:rPr b="0" i="1" lang="es-ES" sz="2200" spc="-1" strike="noStrike">
                <a:solidFill>
                  <a:srgbClr val="000000"/>
                </a:solidFill>
                <a:latin typeface="Verdana"/>
              </a:rPr>
              <a:t>wl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[y] </a:t>
            </a:r>
            <a:r>
              <a:rPr b="0" i="1" lang="es-ES" sz="2200" spc="-1" strike="noStrike">
                <a:solidFill>
                  <a:srgbClr val="000000"/>
                </a:solidFill>
                <a:latin typeface="Verdana"/>
              </a:rPr>
              <a:t>wu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[y]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spcBef>
                <a:spcPts val="1199"/>
              </a:spcBef>
              <a:spcAft>
                <a:spcPts val="601"/>
              </a:spcAft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200" spc="-1" strike="noStrike">
                <a:solidFill>
                  <a:srgbClr val="000000"/>
                </a:solidFill>
                <a:latin typeface="Verdana"/>
              </a:rPr>
              <a:t>rl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[x] </a:t>
            </a:r>
            <a:r>
              <a:rPr b="0" i="1" lang="es-ES" sz="2200" spc="-1" strike="noStrike">
                <a:solidFill>
                  <a:srgbClr val="000000"/>
                </a:solidFill>
                <a:latin typeface="Verdana"/>
              </a:rPr>
              <a:t>wl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[x] </a:t>
            </a:r>
            <a:r>
              <a:rPr b="0" i="1" lang="es-ES" sz="2200" spc="-1" strike="noStrike">
                <a:solidFill>
                  <a:srgbClr val="000000"/>
                </a:solidFill>
                <a:latin typeface="Verdana"/>
              </a:rPr>
              <a:t>rl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[y] </a:t>
            </a:r>
            <a:r>
              <a:rPr b="0" i="1" lang="es-ES" sz="2200" spc="-1" strike="noStrike">
                <a:solidFill>
                  <a:srgbClr val="000000"/>
                </a:solidFill>
                <a:latin typeface="Verdana"/>
              </a:rPr>
              <a:t>wl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[y] </a:t>
            </a:r>
            <a:r>
              <a:rPr b="0" i="1" lang="es-ES" sz="2200" spc="-1" strike="noStrike">
                <a:solidFill>
                  <a:srgbClr val="000000"/>
                </a:solidFill>
                <a:latin typeface="Verdana"/>
              </a:rPr>
              <a:t>wu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[y] </a:t>
            </a:r>
            <a:r>
              <a:rPr b="0" i="1" lang="es-ES" sz="2200" spc="-1" strike="noStrike">
                <a:solidFill>
                  <a:srgbClr val="000000"/>
                </a:solidFill>
                <a:latin typeface="Verdana"/>
              </a:rPr>
              <a:t>wu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[x]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wo-Phase Locking (2PL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85640" y="1907640"/>
            <a:ext cx="8469360" cy="422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1199"/>
              </a:spcBef>
              <a:spcAft>
                <a:spcPts val="601"/>
              </a:spcAft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Verdana"/>
              </a:rPr>
              <a:t>Definición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- Una transacción es de dos fases (Two Phase) si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spcBef>
                <a:spcPts val="1199"/>
              </a:spcBef>
              <a:spcAft>
                <a:spcPts val="601"/>
              </a:spcAft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Tiene una fase de crecimiento, en la cual todos los locks necesarios son adquiridos, y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spcBef>
                <a:spcPts val="1199"/>
              </a:spcBef>
              <a:spcAft>
                <a:spcPts val="601"/>
              </a:spcAft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Una fase de decrecimiento, durante la cual todos los locks son liberado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1199"/>
              </a:spcBef>
              <a:spcAft>
                <a:spcPts val="601"/>
              </a:spcAft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Ejemplo T</a:t>
            </a:r>
            <a:r>
              <a:rPr b="0" lang="es-ES" sz="22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r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[x] w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[x] r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[y] w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[y] c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spcBef>
                <a:spcPts val="1199"/>
              </a:spcBef>
              <a:spcAft>
                <a:spcPts val="601"/>
              </a:spcAft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Verdana"/>
              </a:rPr>
              <a:t>rl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[x] </a:t>
            </a:r>
            <a:r>
              <a:rPr b="0" i="1" lang="es-ES" sz="2000" spc="-1" strike="noStrike">
                <a:solidFill>
                  <a:srgbClr val="000000"/>
                </a:solidFill>
                <a:latin typeface="Verdana"/>
              </a:rPr>
              <a:t>wl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[x] </a:t>
            </a:r>
            <a:r>
              <a:rPr b="0" i="1" lang="es-ES" sz="2000" spc="-1" strike="noStrike">
                <a:solidFill>
                  <a:srgbClr val="000000"/>
                </a:solidFill>
                <a:latin typeface="Verdana"/>
              </a:rPr>
              <a:t>wu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[x] </a:t>
            </a:r>
            <a:r>
              <a:rPr b="0" i="1" lang="es-ES" sz="2000" spc="-1" strike="noStrike">
                <a:solidFill>
                  <a:srgbClr val="000000"/>
                </a:solidFill>
                <a:latin typeface="Verdana"/>
              </a:rPr>
              <a:t>rl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[y] </a:t>
            </a:r>
            <a:r>
              <a:rPr b="0" i="1" lang="es-ES" sz="2000" spc="-1" strike="noStrike">
                <a:solidFill>
                  <a:srgbClr val="000000"/>
                </a:solidFill>
                <a:latin typeface="Verdana"/>
              </a:rPr>
              <a:t>wl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[y] </a:t>
            </a:r>
            <a:r>
              <a:rPr b="0" i="1" lang="es-ES" sz="2000" spc="-1" strike="noStrike">
                <a:solidFill>
                  <a:srgbClr val="000000"/>
                </a:solidFill>
                <a:latin typeface="Verdana"/>
              </a:rPr>
              <a:t>wu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[y]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spcBef>
                <a:spcPts val="1199"/>
              </a:spcBef>
              <a:spcAft>
                <a:spcPts val="601"/>
              </a:spcAft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Verdana"/>
              </a:rPr>
              <a:t>rl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[x] </a:t>
            </a:r>
            <a:r>
              <a:rPr b="0" i="1" lang="es-ES" sz="2000" spc="-1" strike="noStrike">
                <a:solidFill>
                  <a:srgbClr val="000000"/>
                </a:solidFill>
                <a:latin typeface="Verdana"/>
              </a:rPr>
              <a:t>wl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[x] </a:t>
            </a:r>
            <a:r>
              <a:rPr b="0" i="1" lang="es-ES" sz="2000" spc="-1" strike="noStrike">
                <a:solidFill>
                  <a:srgbClr val="000000"/>
                </a:solidFill>
                <a:latin typeface="Verdana"/>
              </a:rPr>
              <a:t>rl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[y] </a:t>
            </a:r>
            <a:r>
              <a:rPr b="0" i="1" lang="es-ES" sz="2000" spc="-1" strike="noStrike">
                <a:solidFill>
                  <a:srgbClr val="000000"/>
                </a:solidFill>
                <a:latin typeface="Verdana"/>
              </a:rPr>
              <a:t>wl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[y] </a:t>
            </a:r>
            <a:r>
              <a:rPr b="0" i="1" lang="es-ES" sz="2000" spc="-1" strike="noStrike">
                <a:solidFill>
                  <a:srgbClr val="000000"/>
                </a:solidFill>
                <a:latin typeface="Verdana"/>
              </a:rPr>
              <a:t>wu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[y] </a:t>
            </a:r>
            <a:r>
              <a:rPr b="0" i="1" lang="es-ES" sz="2000" spc="-1" strike="noStrike">
                <a:solidFill>
                  <a:srgbClr val="000000"/>
                </a:solidFill>
                <a:latin typeface="Verdana"/>
              </a:rPr>
              <a:t>wu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[x]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80773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Verdana"/>
              </a:rPr>
              <a:t>Bases de Datos</a:t>
            </a:r>
            <a:br>
              <a:rPr sz="3600"/>
            </a:br>
            <a:r>
              <a:rPr b="0" lang="es-MX" sz="3600" spc="-1" strike="noStrike">
                <a:solidFill>
                  <a:srgbClr val="000000"/>
                </a:solidFill>
                <a:latin typeface="Verdana"/>
              </a:rPr>
              <a:t>Arquitectura de Funcionamiento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258560" y="3933720"/>
            <a:ext cx="7010280" cy="217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Magíster en Gestión de Operacion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Departamento de Ingeniería Industria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Universidad de Chil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Derechos Reservados ©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Samuel Vara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Protocolo Básico 2PL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611280" y="1773000"/>
            <a:ext cx="8238960" cy="41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Protoco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1. Antes de ejecutar </a:t>
            </a:r>
            <a:r>
              <a:rPr b="0" i="1" lang="es-ES" sz="21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i="1" lang="es-ES" sz="21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[x], un lock </a:t>
            </a:r>
            <a:r>
              <a:rPr b="0" i="1" lang="es-ES" sz="2100" spc="-1" strike="noStrike">
                <a:solidFill>
                  <a:srgbClr val="000000"/>
                </a:solidFill>
                <a:latin typeface="Verdana"/>
              </a:rPr>
              <a:t>pl</a:t>
            </a:r>
            <a:r>
              <a:rPr b="0" i="1" lang="es-ES" sz="21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[x] debe ser adquirido en representación de T</a:t>
            </a:r>
            <a:r>
              <a:rPr b="0" lang="es-ES" sz="21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. Si otra transacción T</a:t>
            </a:r>
            <a:r>
              <a:rPr b="0" lang="es-ES" sz="2100" spc="-1" strike="noStrike" baseline="-25000">
                <a:solidFill>
                  <a:srgbClr val="000000"/>
                </a:solidFill>
                <a:latin typeface="Verdana"/>
              </a:rPr>
              <a:t>j</a:t>
            </a: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 tiene un lock </a:t>
            </a:r>
            <a:r>
              <a:rPr b="0" i="1" lang="es-ES" sz="2100" spc="-1" strike="noStrike">
                <a:solidFill>
                  <a:srgbClr val="000000"/>
                </a:solidFill>
                <a:latin typeface="Verdana"/>
              </a:rPr>
              <a:t>ql</a:t>
            </a:r>
            <a:r>
              <a:rPr b="0" i="1" lang="es-ES" sz="2100" spc="-1" strike="noStrike" baseline="-25000">
                <a:solidFill>
                  <a:srgbClr val="000000"/>
                </a:solidFill>
                <a:latin typeface="Verdana"/>
              </a:rPr>
              <a:t>j</a:t>
            </a: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[x] conflictivo con </a:t>
            </a:r>
            <a:r>
              <a:rPr b="0" i="1" lang="es-ES" sz="2100" spc="-1" strike="noStrike">
                <a:solidFill>
                  <a:srgbClr val="000000"/>
                </a:solidFill>
                <a:latin typeface="Verdana"/>
              </a:rPr>
              <a:t>pl</a:t>
            </a:r>
            <a:r>
              <a:rPr b="0" i="1" lang="es-ES" sz="21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[x] entonces la operación es demorada hasta que un lock pueda ser asignado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2. El programador no puede liberar un lock </a:t>
            </a:r>
            <a:r>
              <a:rPr b="0" i="1" lang="es-ES" sz="2100" spc="-1" strike="noStrike">
                <a:solidFill>
                  <a:srgbClr val="000000"/>
                </a:solidFill>
                <a:latin typeface="Verdana"/>
              </a:rPr>
              <a:t>pli</a:t>
            </a: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[x] hasta que se reconozca que </a:t>
            </a:r>
            <a:r>
              <a:rPr b="0" i="1" lang="es-ES" sz="21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i="1" lang="es-ES" sz="21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[x] ha sido completado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3. </a:t>
            </a:r>
            <a:r>
              <a:rPr b="1" lang="es-ES" sz="2100" spc="-1" strike="noStrike">
                <a:solidFill>
                  <a:srgbClr val="000000"/>
                </a:solidFill>
                <a:latin typeface="Verdana"/>
              </a:rPr>
              <a:t>Una transacción no puede adquirir un nuevo lock después de haber liberado alguno</a:t>
            </a: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wo-Phase Locking (2PL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85640" y="1907640"/>
            <a:ext cx="8469360" cy="422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1199"/>
              </a:spcBef>
              <a:spcAft>
                <a:spcPts val="601"/>
              </a:spcAft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Verdana"/>
              </a:rPr>
              <a:t>Teorema: </a:t>
            </a: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Una historia que tiene transacciones bien formadas y que sean de dos fases entonces es serializabl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spcBef>
                <a:spcPts val="1199"/>
              </a:spcBef>
              <a:spcAft>
                <a:spcPts val="601"/>
              </a:spcAft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Verificar que sea bien formada y que cumple con las dos fases tiene que ver con el protocol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1199"/>
              </a:spcBef>
              <a:spcAft>
                <a:spcPts val="601"/>
              </a:spcAft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Perfil general en la forma de adquirir los lock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 algn="just">
              <a:spcBef>
                <a:spcPts val="11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606" name=""/>
          <p:cNvGrpSpPr/>
          <p:nvPr/>
        </p:nvGrpSpPr>
        <p:grpSpPr>
          <a:xfrm>
            <a:off x="3763800" y="5013000"/>
            <a:ext cx="2116440" cy="792360"/>
            <a:chOff x="3763800" y="5013000"/>
            <a:chExt cx="2116440" cy="792360"/>
          </a:xfrm>
        </p:grpSpPr>
        <p:sp>
          <p:nvSpPr>
            <p:cNvPr id="607" name=""/>
            <p:cNvSpPr/>
            <p:nvPr/>
          </p:nvSpPr>
          <p:spPr>
            <a:xfrm flipV="1">
              <a:off x="3763800" y="5778360"/>
              <a:ext cx="2116440" cy="12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 flipV="1">
              <a:off x="3914640" y="5013000"/>
              <a:ext cx="777960" cy="777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4692600" y="5013360"/>
              <a:ext cx="996840" cy="79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Verdana"/>
              </a:rPr>
              <a:t>Problemas con el 2PL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336600" y="2099880"/>
            <a:ext cx="86184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2PL puede generar </a:t>
            </a:r>
            <a:r>
              <a:rPr b="0" i="1" lang="es-ES" sz="3000" spc="-1" strike="noStrike">
                <a:solidFill>
                  <a:srgbClr val="000000"/>
                </a:solidFill>
                <a:latin typeface="Verdana"/>
              </a:rPr>
              <a:t>deadlock</a:t>
            </a: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, es decir, una situación donde dos o más transacciones esperan en un loop por los locks de otra transacción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Ejemplo H: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[x] r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[y] w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[y] w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[x] c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Verdana"/>
              </a:rPr>
              <a:t>Soluciones al DeadLock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53596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Ordenar los ítems de la base de datos linealmente y requerir que la transacción tome sus locks en ese orden (FIFO)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Usar Time-Ou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Usar grafos Waits-for (WFG)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Nodos son las transaccion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Un arco existe de T</a:t>
            </a:r>
            <a:r>
              <a:rPr b="0" lang="es-ES" sz="22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 a T</a:t>
            </a:r>
            <a:r>
              <a:rPr b="0" lang="es-ES" sz="2200" spc="-1" strike="noStrike" baseline="-25000">
                <a:solidFill>
                  <a:srgbClr val="000000"/>
                </a:solidFill>
                <a:latin typeface="Verdana"/>
              </a:rPr>
              <a:t>j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 si T</a:t>
            </a:r>
            <a:r>
              <a:rPr b="0" lang="es-ES" sz="22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 espera por un lock de T</a:t>
            </a:r>
            <a:r>
              <a:rPr b="0" lang="es-ES" sz="2200" spc="-1" strike="noStrike" baseline="-25000">
                <a:solidFill>
                  <a:srgbClr val="000000"/>
                </a:solidFill>
                <a:latin typeface="Verdana"/>
              </a:rPr>
              <a:t>j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Verdana"/>
              </a:rPr>
              <a:t>Ejemplo de WFG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51000" y="2085480"/>
            <a:ext cx="8604000" cy="40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H: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[x] r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[y] w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[y] w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[x] c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Seleccionar una víctima y romper el ciclo, en este caso puede ser T</a:t>
            </a:r>
            <a:r>
              <a:rPr b="0" lang="es-ES" sz="30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1905480" y="3138480"/>
            <a:ext cx="541800" cy="573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758400" y="3149640"/>
            <a:ext cx="541800" cy="573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18" name=""/>
          <p:cNvCxnSpPr>
            <a:stCxn id="616" idx="0"/>
            <a:endCxn id="617" idx="0"/>
          </p:cNvCxnSpPr>
          <p:nvPr/>
        </p:nvCxnSpPr>
        <p:spPr>
          <a:xfrm flipH="1" rot="16200000">
            <a:off x="3097080" y="2257920"/>
            <a:ext cx="11880" cy="1853280"/>
          </a:xfrm>
          <a:prstGeom prst="curvedConnector5">
            <a:avLst>
              <a:gd name="adj1" fmla="val -2056250"/>
              <a:gd name="adj2" fmla="val 49990"/>
              <a:gd name="adj3" fmla="val -205625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9" name=""/>
          <p:cNvCxnSpPr>
            <a:stCxn id="617" idx="4"/>
            <a:endCxn id="616" idx="4"/>
          </p:cNvCxnSpPr>
          <p:nvPr/>
        </p:nvCxnSpPr>
        <p:spPr>
          <a:xfrm flipV="1" rot="16200000">
            <a:off x="3096720" y="2748600"/>
            <a:ext cx="11880" cy="1853280"/>
          </a:xfrm>
          <a:prstGeom prst="curvedConnector5">
            <a:avLst>
              <a:gd name="adj1" fmla="val -2056250"/>
              <a:gd name="adj2" fmla="val 49990"/>
              <a:gd name="adj3" fmla="val -205625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Propiedades de las Historia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377640" y="2003400"/>
            <a:ext cx="8577000" cy="41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1199"/>
              </a:spcBef>
              <a:spcAft>
                <a:spcPts val="601"/>
              </a:spcAft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Verdana"/>
              </a:rPr>
              <a:t>Definición</a:t>
            </a: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- Transacción T</a:t>
            </a:r>
            <a:r>
              <a:rPr b="0" lang="es-ES_tradnl" sz="22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s-ES_tradnl" sz="2200" spc="-1" strike="noStrike">
                <a:solidFill>
                  <a:srgbClr val="000000"/>
                </a:solidFill>
                <a:latin typeface="Verdana"/>
              </a:rPr>
              <a:t>lee-x-desde </a:t>
            </a: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es-ES_tradnl" sz="2200" spc="-1" strike="noStrike" baseline="-25000">
                <a:solidFill>
                  <a:srgbClr val="000000"/>
                </a:solidFill>
                <a:latin typeface="Verdana"/>
              </a:rPr>
              <a:t>j</a:t>
            </a: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 en H si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 algn="just">
              <a:spcBef>
                <a:spcPts val="11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Verdana"/>
              </a:rPr>
              <a:t>j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[x] &lt;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Verdana"/>
              </a:rPr>
              <a:t>H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 r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[x]; 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 algn="just">
              <a:spcBef>
                <a:spcPts val="11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Verdana"/>
              </a:rPr>
              <a:t>j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 &lt;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Verdana"/>
              </a:rPr>
              <a:t>H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 r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[x]; 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 algn="just">
              <a:spcBef>
                <a:spcPts val="11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Verdana"/>
              </a:rPr>
              <a:t>k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[x]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 H, w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Verdana"/>
              </a:rPr>
              <a:t>j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[x] &lt;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Verdana"/>
              </a:rPr>
              <a:t>H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 w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Verdana"/>
              </a:rPr>
              <a:t>k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[x] &lt;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Verdana"/>
              </a:rPr>
              <a:t>H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 r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[x] =&gt; a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Verdana"/>
              </a:rPr>
              <a:t>k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 &lt;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Verdana"/>
              </a:rPr>
              <a:t>H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 r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[x]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1199"/>
              </a:spcBef>
              <a:spcAft>
                <a:spcPts val="601"/>
              </a:spcAft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Ejemplo H = w</a:t>
            </a:r>
            <a:r>
              <a:rPr b="0" lang="es-ES_tradnl" sz="22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[x] w</a:t>
            </a:r>
            <a:r>
              <a:rPr b="0" lang="es-ES_tradnl" sz="22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[y] r</a:t>
            </a:r>
            <a:r>
              <a:rPr b="0" lang="es-ES_tradnl" sz="22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[y] w</a:t>
            </a:r>
            <a:r>
              <a:rPr b="0" lang="es-ES_tradnl" sz="22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[x] a</a:t>
            </a:r>
            <a:r>
              <a:rPr b="0" lang="es-ES_tradnl" sz="22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 r</a:t>
            </a:r>
            <a:r>
              <a:rPr b="0" lang="es-ES_tradnl" sz="22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[x] c</a:t>
            </a:r>
            <a:r>
              <a:rPr b="0" lang="es-ES_tradnl" sz="22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spcBef>
                <a:spcPts val="1199"/>
              </a:spcBef>
              <a:spcAft>
                <a:spcPts val="601"/>
              </a:spcAft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s-ES_tradnl" sz="2000" spc="-1" strike="noStrike">
                <a:solidFill>
                  <a:srgbClr val="000000"/>
                </a:solidFill>
                <a:latin typeface="Verdana"/>
              </a:rPr>
              <a:t>lee-y-desde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 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spcBef>
                <a:spcPts val="1199"/>
              </a:spcBef>
              <a:spcAft>
                <a:spcPts val="601"/>
              </a:spcAft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s-ES_tradnl" sz="2000" spc="-1" strike="noStrike">
                <a:solidFill>
                  <a:srgbClr val="000000"/>
                </a:solidFill>
                <a:latin typeface="Verdana"/>
              </a:rPr>
              <a:t>lee-x-desde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 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ropiedades de las Historia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610920" y="1881360"/>
            <a:ext cx="799308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Definición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- Una historia H es 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recobrable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(RC) si T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lee-desde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T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Verdana"/>
              </a:rPr>
              <a:t>j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  (i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j) y c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H =&gt; c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Verdana"/>
              </a:rPr>
              <a:t>j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&lt;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Verdana"/>
              </a:rPr>
              <a:t>H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c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jemplo- H = 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[x] w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[y] w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[x] 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[x] w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[y] 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w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[y] 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lee-x-desd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pero 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no precede a 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en H, así H no es RC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Definición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- Una historia H evita abortos en cascada (ACA) si T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lee-x-desde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T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Verdana"/>
              </a:rPr>
              <a:t>j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(i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j) =&gt; c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Verdana"/>
              </a:rPr>
              <a:t>j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 &lt;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Verdana"/>
              </a:rPr>
              <a:t>H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 r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[x]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Verdana"/>
              </a:rPr>
              <a:t>Propiedades de las Historia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8385120" cy="42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400" spc="-1" strike="noStrike">
                <a:solidFill>
                  <a:srgbClr val="000000"/>
                </a:solidFill>
                <a:latin typeface="Verdana"/>
              </a:rPr>
              <a:t>Definición</a:t>
            </a:r>
            <a:r>
              <a:rPr b="0" lang="es-CL" sz="3400" spc="-1" strike="noStrike">
                <a:solidFill>
                  <a:srgbClr val="000000"/>
                </a:solidFill>
                <a:latin typeface="Verdana"/>
              </a:rPr>
              <a:t>- Una historia H es </a:t>
            </a:r>
            <a:r>
              <a:rPr b="0" i="1" lang="es-CL" sz="3400" spc="-1" strike="noStrike">
                <a:solidFill>
                  <a:srgbClr val="000000"/>
                </a:solidFill>
                <a:latin typeface="Verdana"/>
              </a:rPr>
              <a:t>estricta</a:t>
            </a:r>
            <a:r>
              <a:rPr b="0" lang="es-CL" sz="3400" spc="-1" strike="noStrike">
                <a:solidFill>
                  <a:srgbClr val="000000"/>
                </a:solidFill>
                <a:latin typeface="Verdana"/>
              </a:rPr>
              <a:t> (ST) si w</a:t>
            </a:r>
            <a:r>
              <a:rPr b="0" lang="es-CL" sz="34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es-CL" sz="3400" spc="-1" strike="noStrike">
                <a:solidFill>
                  <a:srgbClr val="000000"/>
                </a:solidFill>
                <a:latin typeface="Verdana"/>
              </a:rPr>
              <a:t>[x] &lt;</a:t>
            </a:r>
            <a:r>
              <a:rPr b="0" lang="es-CL" sz="3400" spc="-1" strike="noStrike" baseline="-25000">
                <a:solidFill>
                  <a:srgbClr val="000000"/>
                </a:solidFill>
                <a:latin typeface="Verdana"/>
              </a:rPr>
              <a:t>H</a:t>
            </a:r>
            <a:r>
              <a:rPr b="0" lang="es-CL" sz="3400" spc="-1" strike="noStrike">
                <a:solidFill>
                  <a:srgbClr val="000000"/>
                </a:solidFill>
                <a:latin typeface="Verdana"/>
              </a:rPr>
              <a:t> o</a:t>
            </a:r>
            <a:r>
              <a:rPr b="0" lang="es-CL" sz="3400" spc="-1" strike="noStrike" baseline="-25000">
                <a:solidFill>
                  <a:srgbClr val="000000"/>
                </a:solidFill>
                <a:latin typeface="Verdana"/>
              </a:rPr>
              <a:t>j</a:t>
            </a:r>
            <a:r>
              <a:rPr b="0" lang="es-CL" sz="3400" spc="-1" strike="noStrike">
                <a:solidFill>
                  <a:srgbClr val="000000"/>
                </a:solidFill>
                <a:latin typeface="Verdana"/>
              </a:rPr>
              <a:t>[x] (i </a:t>
            </a:r>
            <a:r>
              <a:rPr b="0" lang="es-CL" sz="3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s-CL" sz="3400" spc="-1" strike="noStrike">
                <a:solidFill>
                  <a:srgbClr val="000000"/>
                </a:solidFill>
                <a:latin typeface="Verdana"/>
              </a:rPr>
              <a:t> j) implica una de las siguientes alternativas: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199"/>
              </a:spcBef>
              <a:spcAft>
                <a:spcPts val="601"/>
              </a:spcAft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es-CL" sz="30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 &lt;</a:t>
            </a:r>
            <a:r>
              <a:rPr b="0" lang="es-CL" sz="3000" spc="-1" strike="noStrike" baseline="-25000">
                <a:solidFill>
                  <a:srgbClr val="000000"/>
                </a:solidFill>
                <a:latin typeface="Verdana"/>
              </a:rPr>
              <a:t>H</a:t>
            </a: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 o</a:t>
            </a:r>
            <a:r>
              <a:rPr b="0" lang="es-CL" sz="3000" spc="-1" strike="noStrike" baseline="-25000">
                <a:solidFill>
                  <a:srgbClr val="000000"/>
                </a:solidFill>
                <a:latin typeface="Verdana"/>
              </a:rPr>
              <a:t>j</a:t>
            </a: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; 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199"/>
              </a:spcBef>
              <a:spcAft>
                <a:spcPts val="601"/>
              </a:spcAft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es-CL" sz="30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 &lt;</a:t>
            </a:r>
            <a:r>
              <a:rPr b="0" lang="es-CL" sz="3000" spc="-1" strike="noStrike" baseline="-25000">
                <a:solidFill>
                  <a:srgbClr val="000000"/>
                </a:solidFill>
                <a:latin typeface="Verdana"/>
              </a:rPr>
              <a:t>H</a:t>
            </a: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 o</a:t>
            </a:r>
            <a:r>
              <a:rPr b="0" lang="es-CL" sz="3000" spc="-1" strike="noStrike" baseline="-25000">
                <a:solidFill>
                  <a:srgbClr val="000000"/>
                </a:solidFill>
                <a:latin typeface="Verdana"/>
              </a:rPr>
              <a:t>j</a:t>
            </a: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Variaciones del 2PL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04280" y="1990800"/>
            <a:ext cx="8550360" cy="40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2PL Conservativ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1199"/>
              </a:spcBef>
              <a:spcAft>
                <a:spcPts val="6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Verdana"/>
              </a:rPr>
              <a:t>1. Cuando una transacción parte predeclara el conjuntos de elementos que leerá o escribirá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1199"/>
              </a:spcBef>
              <a:spcAft>
                <a:spcPts val="6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Verdana"/>
              </a:rPr>
              <a:t>2. Una transacción debe adquirir todos sus locks antes de ejecutar sus operaciones. Si todos los locks no son adquiridos, debe liberar los que adquirió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1199"/>
              </a:spcBef>
              <a:spcAft>
                <a:spcPts val="6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Verdana"/>
              </a:rPr>
              <a:t>3. Deadlock son evitados, debido a los locks son mantenidos mientras los usa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1199"/>
              </a:spcBef>
              <a:spcAft>
                <a:spcPts val="6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Verdana"/>
              </a:rPr>
              <a:t>4. Problemas de inanición de las transacciones que requieren muchos locks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6834240" y="1636560"/>
            <a:ext cx="1663560" cy="928440"/>
            <a:chOff x="6834240" y="1636560"/>
            <a:chExt cx="1663560" cy="928440"/>
          </a:xfrm>
        </p:grpSpPr>
        <p:sp>
          <p:nvSpPr>
            <p:cNvPr id="629" name=""/>
            <p:cNvSpPr/>
            <p:nvPr/>
          </p:nvSpPr>
          <p:spPr>
            <a:xfrm>
              <a:off x="6834240" y="2550960"/>
              <a:ext cx="1663560" cy="1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7202520" y="1663560"/>
              <a:ext cx="0" cy="88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7215120" y="1636560"/>
              <a:ext cx="105084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Variaciones del 2PL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390600" y="1990440"/>
            <a:ext cx="856440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2PL Estrict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1199"/>
              </a:spcBef>
              <a:spcAft>
                <a:spcPts val="6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Verdana"/>
              </a:rPr>
              <a:t>1. Libera los locks sólo después que la transacción realizó el commit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1199"/>
              </a:spcBef>
              <a:spcAft>
                <a:spcPts val="6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Verdana"/>
              </a:rPr>
              <a:t>2. Se aseguran historias estrictas en la ejecución de este protocolo (historias recobrables y evitan abortos en cascada)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1199"/>
              </a:spcBef>
              <a:spcAft>
                <a:spcPts val="6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Verdana"/>
              </a:rPr>
              <a:t>3. Problemas de desempeño y no evita deadloc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634" name=""/>
          <p:cNvGrpSpPr/>
          <p:nvPr/>
        </p:nvGrpSpPr>
        <p:grpSpPr>
          <a:xfrm>
            <a:off x="6943680" y="1719360"/>
            <a:ext cx="1501920" cy="846000"/>
            <a:chOff x="6943680" y="1719360"/>
            <a:chExt cx="1501920" cy="846000"/>
          </a:xfrm>
        </p:grpSpPr>
        <p:sp>
          <p:nvSpPr>
            <p:cNvPr id="635" name=""/>
            <p:cNvSpPr/>
            <p:nvPr/>
          </p:nvSpPr>
          <p:spPr>
            <a:xfrm>
              <a:off x="6943680" y="2565360"/>
              <a:ext cx="1501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 flipV="1">
              <a:off x="7216920" y="1719360"/>
              <a:ext cx="750600" cy="84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7981920" y="1719360"/>
              <a:ext cx="0" cy="831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DBMS Arquitectura ...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29000" y="1885680"/>
            <a:ext cx="548640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Permite interactuar con el usuario mediante un lenguaje simple (SQL)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SQL (Standard Query Languaje) provee una sintaxis similar al inglés para acceder la base de dato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SQL básicos son SELECT, FROM, WHERE instruccione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250920" y="2362320"/>
            <a:ext cx="3200400" cy="28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80773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Verdana"/>
              </a:rPr>
              <a:t>Transacciones Distribuida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 type="subTitle"/>
          </p:nvPr>
        </p:nvSpPr>
        <p:spPr>
          <a:xfrm>
            <a:off x="1258560" y="3933720"/>
            <a:ext cx="7010280" cy="217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Magíster en Gestión de Operacion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Departamento de Ingeniería Industria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Universidad de Chil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Derechos Reservados ©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Samuel Vara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DBMS Arquitectura ...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190760" y="1885680"/>
            <a:ext cx="4724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Recibe operaciones de transacciones y la envía al programador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En DB distribuidas es responsable en determinar que sitios deben procesar cada transacción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42" name="" descr=""/>
          <p:cNvPicPr/>
          <p:nvPr/>
        </p:nvPicPr>
        <p:blipFill>
          <a:blip r:embed="rId2"/>
          <a:stretch/>
        </p:blipFill>
        <p:spPr>
          <a:xfrm>
            <a:off x="304920" y="1981080"/>
            <a:ext cx="381924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Bases de Datos Distribuida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68000" y="1773000"/>
            <a:ext cx="849636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Una colección de db cuya distribución es trasparente a los usuarios, tal que ellos lo utilizan como sistemas locale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645" name=""/>
          <p:cNvGrpSpPr/>
          <p:nvPr/>
        </p:nvGrpSpPr>
        <p:grpSpPr>
          <a:xfrm>
            <a:off x="1016280" y="3213000"/>
            <a:ext cx="7500600" cy="2974320"/>
            <a:chOff x="1016280" y="3213000"/>
            <a:chExt cx="7500600" cy="2974320"/>
          </a:xfrm>
        </p:grpSpPr>
        <p:sp>
          <p:nvSpPr>
            <p:cNvPr id="646" name=""/>
            <p:cNvSpPr/>
            <p:nvPr/>
          </p:nvSpPr>
          <p:spPr>
            <a:xfrm>
              <a:off x="1600200" y="4280040"/>
              <a:ext cx="609480" cy="838080"/>
            </a:xfrm>
            <a:prstGeom prst="can">
              <a:avLst>
                <a:gd name="adj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2514600" y="4280040"/>
              <a:ext cx="609480" cy="838080"/>
            </a:xfrm>
            <a:prstGeom prst="can">
              <a:avLst>
                <a:gd name="adj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6248520" y="4280040"/>
              <a:ext cx="609480" cy="838080"/>
            </a:xfrm>
            <a:prstGeom prst="can">
              <a:avLst>
                <a:gd name="adj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7391520" y="4280040"/>
              <a:ext cx="609480" cy="838080"/>
            </a:xfrm>
            <a:prstGeom prst="can">
              <a:avLst>
                <a:gd name="adj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2286000" y="3289320"/>
              <a:ext cx="533520" cy="533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6781680" y="3289320"/>
              <a:ext cx="533520" cy="533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2057040" y="3746520"/>
              <a:ext cx="30492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666880" y="3822840"/>
              <a:ext cx="15264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743200" y="3746520"/>
              <a:ext cx="350532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819520" y="3594240"/>
              <a:ext cx="472428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 flipH="1">
              <a:off x="6552720" y="3822840"/>
              <a:ext cx="38124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7162920" y="3822840"/>
              <a:ext cx="5331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3124080" y="3594240"/>
              <a:ext cx="365760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427560" y="5727600"/>
              <a:ext cx="268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Sistemas autónomo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 flipV="1">
              <a:off x="2285640" y="5270400"/>
              <a:ext cx="1066680" cy="53352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 flipH="1" flipV="1">
              <a:off x="3124080" y="5194080"/>
              <a:ext cx="533520" cy="53316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 flipV="1">
              <a:off x="5867280" y="5194080"/>
              <a:ext cx="609840" cy="6094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 flipV="1">
              <a:off x="6248520" y="5270040"/>
              <a:ext cx="1371600" cy="68580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192200" y="3213000"/>
              <a:ext cx="1265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Usuario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2971440" y="3441600"/>
              <a:ext cx="1066680" cy="7632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562720" y="3441600"/>
              <a:ext cx="106668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1016280" y="4518000"/>
              <a:ext cx="57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ahoma"/>
                </a:rPr>
                <a:t>2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7945920" y="4514760"/>
              <a:ext cx="57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ahoma"/>
                </a:rPr>
                <a:t>2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Temas a Consider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87080" y="2044440"/>
            <a:ext cx="8467560" cy="40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Verdana"/>
              </a:rPr>
              <a:t>Diseño de bases de datos distribuida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Verdana"/>
              </a:rPr>
              <a:t>Procesamiento de queries distribuido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Verdana"/>
              </a:rPr>
              <a:t>Control de transacciones distribuida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Procesamient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Integridad globa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Verdana"/>
              </a:rPr>
              <a:t>Aumento de la disponibilidad frente Fallas (locales y links)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Control de Transacciones Distribuida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72680" y="2058840"/>
            <a:ext cx="8481960" cy="407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Protocolos de coordinación que mantienen consistencia frente a fallas (2PC)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Generan alto overhead en la operación de los sistemas locales debido a sus locks distribuido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673" name=""/>
          <p:cNvGrpSpPr/>
          <p:nvPr/>
        </p:nvGrpSpPr>
        <p:grpSpPr>
          <a:xfrm>
            <a:off x="2097000" y="3368520"/>
            <a:ext cx="5257800" cy="1295280"/>
            <a:chOff x="2097000" y="3368520"/>
            <a:chExt cx="5257800" cy="1295280"/>
          </a:xfrm>
        </p:grpSpPr>
        <p:sp>
          <p:nvSpPr>
            <p:cNvPr id="674" name=""/>
            <p:cNvSpPr/>
            <p:nvPr/>
          </p:nvSpPr>
          <p:spPr>
            <a:xfrm>
              <a:off x="2097000" y="37494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6897600" y="4206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3925800" y="41940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6135840" y="35208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 flipH="1" flipV="1">
              <a:off x="2706480" y="4130280"/>
              <a:ext cx="10666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 flipV="1">
              <a:off x="4383000" y="3902040"/>
              <a:ext cx="16765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535640" y="4435200"/>
              <a:ext cx="220968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3087720" y="3368520"/>
              <a:ext cx="21495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Times New Roman"/>
                </a:rPr>
                <a:t>Incrementar el sueldo en un 25%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Verdana"/>
              </a:rPr>
              <a:t>Protocolo Two Phase Commi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683" name=""/>
          <p:cNvGraphicFramePr/>
          <p:nvPr/>
        </p:nvGraphicFramePr>
        <p:xfrm>
          <a:off x="998640" y="2173320"/>
          <a:ext cx="7848360" cy="3944880"/>
        </p:xfrm>
        <a:graphic>
          <a:graphicData uri="http://schemas.openxmlformats.org/drawingml/2006/table">
            <a:tbl>
              <a:tblPr/>
              <a:tblGrid>
                <a:gridCol w="4259160"/>
                <a:gridCol w="3589200"/>
              </a:tblGrid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l usuario inicia una transacción en el sitio C. El sitio C envía el trabajo respectivo a cada sitio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jecuta el trabajo en envía un repl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uando el usuario envía el commit, C envía un mensaje Prepararse a Commit a los sitio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i un participante es capaz de realizar el commit, envía a C un voto SI. Si no puede, envía un voto NO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i todos los votos fueron SI, se prepara un commit y envía un mensaje commit a todos. Si al menos un voto fue NO, envía el mensaje ABORT y se aborta la transacción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uando se recibe un commit, se realiza el commit de la transacción y se envía un ACK. Si recibe un ABORT, lo realiza y envía un ACK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spués de recibir todos los ACK´s, realiza el término de la transacción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4" name=""/>
          <p:cNvSpPr/>
          <p:nvPr/>
        </p:nvSpPr>
        <p:spPr>
          <a:xfrm>
            <a:off x="1848600" y="1784520"/>
            <a:ext cx="154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Coordina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5613480" y="1754280"/>
            <a:ext cx="14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Participa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Verdana"/>
              </a:rPr>
              <a:t>Protocolo Two Phase Commi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687" name=""/>
          <p:cNvGraphicFramePr/>
          <p:nvPr/>
        </p:nvGraphicFramePr>
        <p:xfrm>
          <a:off x="998640" y="2173320"/>
          <a:ext cx="7848360" cy="3944880"/>
        </p:xfrm>
        <a:graphic>
          <a:graphicData uri="http://schemas.openxmlformats.org/drawingml/2006/table">
            <a:tbl>
              <a:tblPr/>
              <a:tblGrid>
                <a:gridCol w="4259160"/>
                <a:gridCol w="3589200"/>
              </a:tblGrid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l usuario inicia una transacción en el sitio C. El sitio C envía el trabajo respectivo a cada sitio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jecuta el trabajo en envía un repl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uando el usuario envía el commit, C envía un mensaje Prepararse a Commit a los sitio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i un participante es capaz de realizar el commit, envía a C un voto SI. Si no puede, envía un voto NO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i todos los votos fueron SI, se prepara un commit y envía un mensaje commit a todos. Si al menos un voto fue NO, envía el mensaje ABORT y se aborta la transacción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uando se recibe un commit, se realiza el commit de la transacción y se envía un ACK. Si recibe un ABORT, lo realiza y envía un ACK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spués de recibir todos los ACK´s, realiza el término de la transacción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8" name=""/>
          <p:cNvSpPr/>
          <p:nvPr/>
        </p:nvSpPr>
        <p:spPr>
          <a:xfrm>
            <a:off x="1848600" y="1784520"/>
            <a:ext cx="154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Coordina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5613480" y="1754280"/>
            <a:ext cx="14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Participa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684360" y="4005360"/>
            <a:ext cx="272880" cy="1336680"/>
          </a:xfrm>
          <a:custGeom>
            <a:avLst/>
            <a:gdLst>
              <a:gd name="textAreaLeft" fmla="*/ 174240 w 272880"/>
              <a:gd name="textAreaRight" fmla="*/ 272880 w 272880"/>
              <a:gd name="textAreaTop" fmla="*/ 34560 h 1336680"/>
              <a:gd name="textAreaBottom" fmla="*/ 1302120 h 133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6200000">
            <a:off x="-1071000" y="4514760"/>
            <a:ext cx="301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Ventana de Incertidumb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1053720" y="568080"/>
            <a:ext cx="779292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Verdana"/>
              </a:rPr>
              <a:t>Consideracion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555480" y="2058840"/>
            <a:ext cx="8399520" cy="407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Ventana de incertidumbre se produce cuando un participante vota SI a commit y no ha recibido el mensaje de commit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El coordinador no tiene incertidumbre, ya que decide instantaneamente si C o A cuando vota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¿Es necesario el último round de mensaje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Verdana"/>
              </a:rPr>
              <a:t>Problemas del 2PC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49636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Alto overhead en las transacciones locales debidos a los locks que mantiene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Es posible que se generen deadlock distribuidos (</a:t>
            </a: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Beeri and Obermarck, A resource class independent deadlock detection algorithm, VLDB 1981</a:t>
            </a: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)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Muy dependiente de las fallas de los sitios, mientras más fallas es necesario re enviar las transacciones a todos los sitios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80773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Verdana"/>
              </a:rPr>
              <a:t>Bases de Datos </a:t>
            </a:r>
            <a:br>
              <a:rPr sz="3600"/>
            </a:br>
            <a:r>
              <a:rPr b="0" lang="es-ES" sz="3600" spc="-1" strike="noStrike">
                <a:solidFill>
                  <a:srgbClr val="000000"/>
                </a:solidFill>
                <a:latin typeface="Verdana"/>
              </a:rPr>
              <a:t>Replicada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subTitle"/>
          </p:nvPr>
        </p:nvSpPr>
        <p:spPr>
          <a:xfrm>
            <a:off x="1258560" y="3933720"/>
            <a:ext cx="7010280" cy="217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Magíster en Gestión de Operacion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Departamento de Ingeniería Industria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Universidad de Chil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Derechos Reservados ©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Samuel Vara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DBMS Arquitectura ...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190760" y="1885680"/>
            <a:ext cx="4724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Recibe operaciones de transacciones y la envía al programador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En DB distribuidas es responsable en determinar que sitios deben procesar cada transacción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304920" y="1981080"/>
            <a:ext cx="381924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DBMS Arquitectura ...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4190760" y="1885680"/>
            <a:ext cx="4724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Recibe operaciones de transacciones y la envía al programador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En DB distribuidas es responsable en determinar que sitios deben procesar cada transacción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00" name="" descr=""/>
          <p:cNvPicPr/>
          <p:nvPr/>
        </p:nvPicPr>
        <p:blipFill>
          <a:blip r:embed="rId2"/>
          <a:stretch/>
        </p:blipFill>
        <p:spPr>
          <a:xfrm>
            <a:off x="304920" y="1981080"/>
            <a:ext cx="381924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Mayor Disponibilid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46040" y="2044440"/>
            <a:ext cx="8508960" cy="40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Fallas reducen la posibilidad de realizar operaciones distribuidas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Estrategia de replicar datos permite obtener una alta disponibilidad frente a falla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703" name=""/>
          <p:cNvGrpSpPr/>
          <p:nvPr/>
        </p:nvGrpSpPr>
        <p:grpSpPr>
          <a:xfrm>
            <a:off x="2373480" y="4005360"/>
            <a:ext cx="5943600" cy="2057400"/>
            <a:chOff x="2373480" y="4005360"/>
            <a:chExt cx="5943600" cy="2057400"/>
          </a:xfrm>
        </p:grpSpPr>
        <p:sp>
          <p:nvSpPr>
            <p:cNvPr id="704" name=""/>
            <p:cNvSpPr/>
            <p:nvPr/>
          </p:nvSpPr>
          <p:spPr>
            <a:xfrm>
              <a:off x="2373480" y="4462560"/>
              <a:ext cx="761760" cy="457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Pro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4202280" y="5529600"/>
              <a:ext cx="533160" cy="457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7478640" y="5529600"/>
              <a:ext cx="838440" cy="457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Mkg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6183360" y="4462560"/>
              <a:ext cx="838080" cy="685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Mkgt,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RRH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3363840" y="4005360"/>
              <a:ext cx="2438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Times New Roman"/>
                </a:rPr>
                <a:t>Incrementar el sueldo en un 25%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 flipH="1" flipV="1">
              <a:off x="3058920" y="4843800"/>
              <a:ext cx="114300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V="1">
              <a:off x="4888080" y="4919400"/>
              <a:ext cx="137160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4888080" y="5834160"/>
              <a:ext cx="2438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5878440" y="5605560"/>
              <a:ext cx="304920" cy="457200"/>
            </a:xfrm>
            <a:prstGeom prst="flowChartCollat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11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400" spc="-1" strike="noStrike">
                <a:solidFill>
                  <a:srgbClr val="000000"/>
                </a:solidFill>
                <a:latin typeface="Verdana"/>
              </a:rPr>
              <a:t>Algoritmos de Control de Réplica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394920" y="1844280"/>
            <a:ext cx="828036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Permiten mantener la consistencia entre las diferentes réplicas existe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Existen dos tipos: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Verdana"/>
              </a:rPr>
              <a:t>Optimistas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: el sistema debe estar disponible siempre, si hay problemas, ellos se resuelven cuando se conecten nuevamente los sitio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Verdana"/>
              </a:rPr>
              <a:t>Pesimistas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: la consistencia de los datos se debe garantizar, aun cuando no exista disponibilidad en algunos caso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Verdana"/>
              </a:rPr>
              <a:t>ACR Pesimista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17240" y="2057400"/>
            <a:ext cx="8537400" cy="40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400" spc="-1" strike="noStrike">
                <a:solidFill>
                  <a:srgbClr val="000000"/>
                </a:solidFill>
                <a:latin typeface="Verdana"/>
              </a:rPr>
              <a:t>Hay de dos tipos: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Estáticos: Sitio primario, Mayoría de Votos, Quorum Consensus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Dinámicos: Token, Votos Dinámicos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Verdana"/>
              </a:rPr>
              <a:t>Sitio Primari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8280" y="2099880"/>
            <a:ext cx="553572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El sitio A siempre es usado de referente, es decir, cualquier sitio debe tener acceso a A para realizar cambios en los dato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Si el sitio A no está disponible, el sistema completo tiene disponibilidad CERO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9" name=""/>
          <p:cNvSpPr/>
          <p:nvPr/>
        </p:nvSpPr>
        <p:spPr>
          <a:xfrm>
            <a:off x="6670080" y="3054240"/>
            <a:ext cx="168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A   B    C   D   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6304680" y="4406760"/>
            <a:ext cx="97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A  B  C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7835040" y="4406760"/>
            <a:ext cx="59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D  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 flipH="1">
            <a:off x="6716880" y="3463920"/>
            <a:ext cx="668160" cy="982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7399440" y="3478320"/>
            <a:ext cx="723960" cy="9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Verdana"/>
              </a:rPr>
              <a:t>Mayorí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250560" y="1844280"/>
            <a:ext cx="5591160" cy="441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Cada sitio recibe un voto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Cuando se separan, el grupo que tiene la mayoría (n/2+1) votos puede realizar la actualizació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Nota: entre dos actualizaciones sucesivas, siempre hay un sitio en comú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6" name=""/>
          <p:cNvSpPr/>
          <p:nvPr/>
        </p:nvSpPr>
        <p:spPr>
          <a:xfrm>
            <a:off x="6022800" y="2101680"/>
            <a:ext cx="192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A    B    C    D     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5860080" y="2989440"/>
            <a:ext cx="234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A   B   C              D    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5878080" y="3998880"/>
            <a:ext cx="252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A            B   C   D         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252480" y="5295960"/>
            <a:ext cx="204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A   B   E          C   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 flipH="1">
            <a:off x="6291000" y="2523960"/>
            <a:ext cx="655560" cy="45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946920" y="2511360"/>
            <a:ext cx="914400" cy="519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 flipH="1">
            <a:off x="5964120" y="3357720"/>
            <a:ext cx="300240" cy="62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278400" y="3370320"/>
            <a:ext cx="858960" cy="682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 flipH="1">
            <a:off x="7178400" y="3330720"/>
            <a:ext cx="777960" cy="736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7969320" y="3359160"/>
            <a:ext cx="396720" cy="708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5923080" y="4367160"/>
            <a:ext cx="560160" cy="941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 flipH="1">
            <a:off x="6620040" y="4340160"/>
            <a:ext cx="599760" cy="95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 flipH="1">
            <a:off x="6932160" y="4340160"/>
            <a:ext cx="1460520" cy="95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7219800" y="4352760"/>
            <a:ext cx="804960" cy="97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Verdana"/>
              </a:rPr>
              <a:t>Mayoría …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378000" y="2031840"/>
            <a:ext cx="8508960" cy="391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Puede existir el caso de una falla y cero disponibilidad (condición estática de regla de actualización)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Cuando hay cero disponibilidad y se vuelve a la posibilidad de actualizar, ¿quién (sitio) tiene la última versión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Solución: se asigna un VN (version number) y cada vez que se realiza un update VN se incrementa en 1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Verdana"/>
              </a:rPr>
              <a:t>Mayorí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3" name=""/>
          <p:cNvSpPr/>
          <p:nvPr/>
        </p:nvSpPr>
        <p:spPr>
          <a:xfrm>
            <a:off x="822240" y="1844640"/>
            <a:ext cx="192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A    B    C    D     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659520" y="2732040"/>
            <a:ext cx="234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A   B   C              D    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677520" y="3741840"/>
            <a:ext cx="252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A            B   C   D         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493560" y="5024520"/>
            <a:ext cx="307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A      B         E           C   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 flipH="1">
            <a:off x="1090440" y="2266920"/>
            <a:ext cx="655920" cy="45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1746360" y="2254320"/>
            <a:ext cx="914400" cy="519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 flipH="1">
            <a:off x="763560" y="3100320"/>
            <a:ext cx="300240" cy="627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1077840" y="3112920"/>
            <a:ext cx="858960" cy="68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 flipH="1">
            <a:off x="1978200" y="3073320"/>
            <a:ext cx="777600" cy="736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2768760" y="3102120"/>
            <a:ext cx="396720" cy="707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 flipH="1">
            <a:off x="655200" y="4110120"/>
            <a:ext cx="66600" cy="995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 flipH="1">
            <a:off x="1228680" y="4110120"/>
            <a:ext cx="449280" cy="955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 flipH="1">
            <a:off x="1951200" y="4083120"/>
            <a:ext cx="1241280" cy="1009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2019240" y="4095720"/>
            <a:ext cx="804960" cy="96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695520" y="5718240"/>
            <a:ext cx="269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A   C   D               B         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682560" y="5349960"/>
            <a:ext cx="136440" cy="42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 flipH="1">
            <a:off x="1186920" y="5376960"/>
            <a:ext cx="1870200" cy="43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1282680" y="5364000"/>
            <a:ext cx="1201680" cy="40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2087640" y="5349960"/>
            <a:ext cx="1201680" cy="43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3417480" y="1893600"/>
            <a:ext cx="5149800" cy="41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¿cuándo es posible realizar un update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¿cuál es la VN en cada caso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Verdana"/>
              </a:rPr>
              <a:t>Quorum Consensu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0040" y="2003400"/>
            <a:ext cx="8454960" cy="41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Es una generalización del método de mayorí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Se le asignan votos a cada sitio con la condición que la suma sea impa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Si los sitios reunidos tienen la mitad más un voto, entonces realizan el updat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Se realiza cuando la disponibilidad de los sitios es diferent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Verdana"/>
              </a:rPr>
              <a:t>Voto Dinámic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46040" y="2017800"/>
            <a:ext cx="8508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Corrige el problema de casos de cero disponibilidad del modelo estátic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Existen dos variabl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VN (version number) corresponde a la versión de actualizació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SC (sites cardinality) corresponde al número de sitios necesarios para realizar la actualizació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3T21:57:31Z</dcterms:created>
  <dc:creator>CCC</dc:creator>
  <dc:description/>
  <dc:language>en-US</dc:language>
  <cp:lastModifiedBy>Samuel</cp:lastModifiedBy>
  <dcterms:modified xsi:type="dcterms:W3CDTF">2005-09-19T16:32:29Z</dcterms:modified>
  <cp:revision>75</cp:revision>
  <dc:subject/>
  <dc:title>Architecture Design </dc:title>
</cp:coreProperties>
</file>