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30a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"/>
          <p:cNvSpPr/>
          <p:nvPr/>
        </p:nvSpPr>
        <p:spPr>
          <a:xfrm>
            <a:off x="971640" y="652140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Lucida Sans"/>
              </a:rPr>
              <a:t>IN72K – Tecnologías de información y rediseño de 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../../../Local%20Settings/Temporary%20Internet%20Files/IN73M/web/DatosBodega.xls" TargetMode="Externa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826920" y="1916280"/>
            <a:ext cx="74901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Lucida Sans"/>
              </a:rPr>
              <a:t>IN72k</a:t>
            </a:r>
            <a:br>
              <a:rPr sz="7200"/>
            </a:b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Tecnologías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 de </a:t>
            </a: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información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 y rediseño de </a:t>
            </a: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procesos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Auxiliar 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0" y="6165360"/>
            <a:ext cx="9072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"/>
              </a:rPr>
              <a:t>07 de Septiembre de 200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"/>
          <p:cNvSpPr/>
          <p:nvPr/>
        </p:nvSpPr>
        <p:spPr>
          <a:xfrm>
            <a:off x="5076720" y="5157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Prof. Aux.: Matías Pulido S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mpulido@dii.uchile.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4680" y="2938320"/>
            <a:ext cx="9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4360" y="765000"/>
          <a:ext cx="83844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765000"/>
                    <a:ext cx="8384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0" y="836640"/>
          <a:ext cx="4454640" cy="914400"/>
        </p:xfrm>
        <a:graphic>
          <a:graphicData uri="http://schemas.openxmlformats.org/drawingml/2006/table">
            <a:tbl>
              <a:tblPr/>
              <a:tblGrid>
                <a:gridCol w="944640"/>
                <a:gridCol w="3510000"/>
              </a:tblGrid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NewsGoth Lt BT"/>
                          <a:ea typeface="Times New Roman"/>
                        </a:rPr>
                        <a:t>FACULTAD DE CIENCIAS FÍSICAS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O 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íster en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ón de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iseño de Dat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2320" y="177336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Objetivo: generar un modelo de datos que permita almacenar los datos </a:t>
            </a:r>
            <a:r>
              <a:rPr b="0" lang="es-CL" sz="2400" spc="-1" strike="noStrike">
                <a:solidFill>
                  <a:srgbClr val="000099"/>
                </a:solidFill>
                <a:latin typeface="Lucida Sans"/>
              </a:rPr>
              <a:t>sin innecesaria redundancia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 y con fácil acceso a ell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Caso 1: Todo en un sola entidad (ej. alumno – curs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Caso 2: Todos los atributos son entidades separables (ej. nombre – apellido – curso; los sujetos son las relacion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¿Cómo sabemos cuál es la mejor manera de representar los datos identificados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Evitar Problemas Tipos (3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8856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roblema 1: Información Repetid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uponga una entidad Banco = (nombre_sucursal, activos, ciudad, #créditos, cliente, cantidad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 desea agregar un crédito a una sucursal y cliente existen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Repetir información NO es deseable, ya que requiere espacio y presenta problemas al actualizar (hay que repetirla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"/>
          <p:cNvSpPr/>
          <p:nvPr/>
        </p:nvSpPr>
        <p:spPr>
          <a:xfrm>
            <a:off x="871560" y="382428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47320" y="394488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 repetir nombre_sucursal, activos y ciu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1680" y="566640"/>
            <a:ext cx="8218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roblema 2: Inhabilidad de Representación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92200" y="1844640"/>
            <a:ext cx="808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La representación basada en Banco NO permite representar una SUCURSAL directament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Una alternativa es introducir valores NULL, pero son difíciles de manej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¿Qué significan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¿Cómo los uso para extraer información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7240" y="958320"/>
            <a:ext cx="7886880" cy="5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roblema 3: Pérdida de Información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1782360"/>
            <a:ext cx="8202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El diseño basado en BANCO es malo y nos gustaría descomponerlo para mejorar su calida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n embargo un diseño descuidado puede generar problem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uponga que BANCO es descompuesto e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ucursal = (nombre_sucursal, activos, ciuda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Crédito = (nombre_sucursal, #crédito, cliente, cantida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A su vez, Crédito es descompuesto e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925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Cantidad = (cantidad, clien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925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Préstamo = (nombre_sucursal, #crédito, cantida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925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296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No se puede reconstruir Crédito!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Criterios en el Diseñ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48400" y="2109960"/>
            <a:ext cx="8851320" cy="3429000"/>
            <a:chOff x="248400" y="2109960"/>
            <a:chExt cx="8851320" cy="3429000"/>
          </a:xfrm>
        </p:grpSpPr>
        <p:sp>
          <p:nvSpPr>
            <p:cNvPr id="80" name=""/>
            <p:cNvSpPr/>
            <p:nvPr/>
          </p:nvSpPr>
          <p:spPr>
            <a:xfrm>
              <a:off x="3331800" y="2109960"/>
              <a:ext cx="243864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Ent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41440" y="4548240"/>
              <a:ext cx="190476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Entidad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84640" y="4471920"/>
              <a:ext cx="1904760" cy="106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Entidad</a:t>
              </a:r>
              <a:r>
                <a:rPr b="0" lang="es-CL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179160" y="3024360"/>
              <a:ext cx="1219320" cy="1447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98840" y="3024360"/>
              <a:ext cx="1523880" cy="1371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70640" y="2414520"/>
              <a:ext cx="0" cy="3048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112840" y="2185920"/>
              <a:ext cx="0" cy="3353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16360" y="2765520"/>
              <a:ext cx="1683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Reduc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Redunda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8400" y="2460600"/>
              <a:ext cx="1811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Preserv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de 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Depend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13400" y="3732120"/>
              <a:ext cx="16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in pérdid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odelo de Datos Conceptual Canónico (MDCC)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781280"/>
            <a:ext cx="8124840" cy="42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a forma canónica del modelo de datos conceptual es aquella en qu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l modelo está normalizado (5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Lucida San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 FN / Codd),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No hay datos redundantes 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preservan las dependencias de los dat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Representa todas las reglas del negoc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l modelo está optimizado para el almacenamient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pperplate30ab"/>
              </a:rPr>
              <a:t>Modelo Lógico</a:t>
            </a:r>
            <a:r>
              <a:rPr b="0" lang="es-ES_tradnl" sz="4400" spc="-1" strike="noStrike">
                <a:solidFill>
                  <a:srgbClr val="000000"/>
                </a:solidFill>
                <a:latin typeface="Copperplate30ab"/>
              </a:rPr>
              <a:t> de Datos 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20560" y="4165200"/>
            <a:ext cx="83822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Tecnologías de Información y Rediseño de Proces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Magíster en Gestión de Operacion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Lucida Sans"/>
              </a:rPr>
              <a:t>Universidad de Chile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Lucida Sans"/>
              </a:rPr>
              <a:t>Derechos reservados ©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17560" y="1993680"/>
            <a:ext cx="764064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l punto de partida es el MDC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Identificar </a:t>
            </a:r>
            <a:r>
              <a:rPr b="0" lang="es-ES_tradnl" sz="2400" spc="-1" strike="noStrike">
                <a:solidFill>
                  <a:srgbClr val="000099"/>
                </a:solidFill>
                <a:latin typeface="Lucida Sans"/>
              </a:rPr>
              <a:t>requerimientos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 relevan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Cuantificar los </a:t>
            </a:r>
            <a:r>
              <a:rPr b="0" lang="es-ES_tradnl" sz="2400" spc="-1" strike="noStrike">
                <a:solidFill>
                  <a:srgbClr val="000099"/>
                </a:solidFill>
                <a:latin typeface="Lucida Sans"/>
              </a:rPr>
              <a:t>accesos lógic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gregar </a:t>
            </a:r>
            <a:r>
              <a:rPr b="0" lang="es-ES_tradnl" sz="2400" spc="-1" strike="noStrike">
                <a:solidFill>
                  <a:srgbClr val="000099"/>
                </a:solidFill>
                <a:latin typeface="Lucida Sans"/>
              </a:rPr>
              <a:t>redundancia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, optimizando el modelo para el acces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Requerimient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15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deben estimar los promedios de ocurrencias de los registr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identifican los requerimientos relevantes hacia el sistema, especificando sus parámetr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ntradas, Salid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Volumen de dat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Tiempo de respuest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Accesos Lógic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15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analiza la trayector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cuantifica el nivel de accesos lógic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puede buscar minimiz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Tiempos de respuesta (nivel de servicio definid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Tiempo de CPU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spacio en disc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Tránsito sobre la estructur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genda 7 Septiembre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DCC ( Modelo de datos conceptual canónico 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LD ( Modelo Lógico de datos 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FD ( Modelo Físico de datos 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Lenguaje SQ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jemplo en Power Design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Accesos Lógicos ...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41160" y="1715760"/>
            <a:ext cx="7926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"/>
              </a:rPr>
              <a:t>Nivel de accesos lógicos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"/>
              </a:rPr>
              <a:t>Nivel de servicio/Redundancia</a:t>
            </a: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82520" y="2271600"/>
            <a:ext cx="7586640" cy="503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479680" y="3516480"/>
            <a:ext cx="6488280" cy="26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Redundanci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1160" y="1692000"/>
            <a:ext cx="79261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busca aumentar la eficiencia del modelo, </a:t>
            </a:r>
            <a:r>
              <a:rPr b="0" lang="es-ES_tradnl" sz="2400" spc="-1" strike="noStrike">
                <a:solidFill>
                  <a:srgbClr val="000099"/>
                </a:solidFill>
                <a:latin typeface="Lucida Sans"/>
              </a:rPr>
              <a:t>optimizándolo para el acces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puede agregar redundancia a través d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dición de relacion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Incorporar datos redundan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gregar entidades resúmen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nalizar alternativas de procesamient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pperplate30ab"/>
              </a:rPr>
              <a:t>Modelo Físico</a:t>
            </a:r>
            <a:r>
              <a:rPr b="0" lang="es-ES_tradnl" sz="4400" spc="-1" strike="noStrike">
                <a:solidFill>
                  <a:srgbClr val="000000"/>
                </a:solidFill>
                <a:latin typeface="Copperplate30ab"/>
              </a:rPr>
              <a:t> de Datos 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20560" y="4165200"/>
            <a:ext cx="83822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Tecnologías de Información y Rediseño de Proces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Magíster en Gestión de Operacion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Lucida Sans"/>
              </a:rPr>
              <a:t>Universidad de Chile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Lucida Sans"/>
              </a:rPr>
              <a:t>Derechos reservados ©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8520" y="1982880"/>
            <a:ext cx="769932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l objetivo es mapear el MLD sobre las estructuras que soporta la B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nfoque de BD Relacion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as entidades se convierten en tabl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os atributos se convierten en camp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os identificadores se convierten en llaves primarias (PK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as relaciones se representan llevando la PK de la entidad del lado 1 a la entidad del lado N, convirtiéndose en una llave foránea (FK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Consideraciones Tecnológica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8520" y="1982880"/>
            <a:ext cx="769932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incorporan los tipos de dat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Tablas muy grandes que escapan a los clusters de la BD, pueden ser dividid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ccesos en los cuales el administrador (DBMS) es malo (tecnología) pueden ser mejorados con redundanc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crean índices más allá de las llav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DBM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3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rogramas computacionales encargados de almacenar, recuperar y modificar informa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Usan interfaces al usuario para realizar las operaciones anteriores eficientemen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Tipos de Administradores de B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Relacional (Oracle, Informix, Sybase, Acces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Orientada a Objetos (Object Store)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Orientada a Restricciones (Ccub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pperplate30ab"/>
              </a:rPr>
              <a:t>Structured Query Languaje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opperplate30ab"/>
              </a:rPr>
              <a:t>(SQL)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4266720"/>
            <a:ext cx="784872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Departamento de Ingeniería Industria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Lenguaje SQL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Lenguaje donde se combinan elementos en las instrucciones para crear, actualizar y manipular las bases de datos.</a:t>
            </a: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lementos principal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omando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láusula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Operadore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Funciones de agregad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Lenguaje SQL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La sintaxis básica de una consulta de selección es la siguiente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Lucida Sans"/>
                <a:ea typeface="Times New Roman"/>
              </a:rPr>
              <a:t>SELECT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* </a:t>
            </a:r>
            <a:r>
              <a:rPr b="0" lang="en-GB" sz="2000" spc="-1" strike="noStrike">
                <a:solidFill>
                  <a:srgbClr val="008000"/>
                </a:solidFill>
                <a:latin typeface="Lucida Sans"/>
                <a:ea typeface="Times New Roman"/>
              </a:rPr>
              <a:t>FROM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Empleados </a:t>
            </a:r>
            <a:r>
              <a:rPr b="0" lang="en-GB" sz="2000" spc="-1" strike="noStrike">
                <a:solidFill>
                  <a:srgbClr val="008000"/>
                </a:solidFill>
                <a:latin typeface="Lucida Sans"/>
                <a:ea typeface="Times New Roman"/>
              </a:rPr>
              <a:t>WHERE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Edad &gt; 25 </a:t>
            </a:r>
            <a:r>
              <a:rPr b="0" lang="en-GB" sz="2000" spc="-1" strike="noStrike">
                <a:solidFill>
                  <a:srgbClr val="008000"/>
                </a:solidFill>
                <a:latin typeface="Lucida Sans"/>
                <a:ea typeface="Times New Roman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Edad &lt; 50;</a:t>
            </a:r>
            <a:r>
              <a:rPr b="0" lang="en-GB" sz="2000" spc="-1" strike="noStrike">
                <a:solidFill>
                  <a:srgbClr val="008000"/>
                </a:solidFill>
                <a:latin typeface="Lucida San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3068640"/>
            <a:ext cx="1150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0360" y="4437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3068640"/>
            <a:ext cx="1150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3068640"/>
            <a:ext cx="1150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44370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áus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3573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3573360"/>
            <a:ext cx="863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780000" y="357336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2997360"/>
            <a:ext cx="11512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59640" y="350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1440" y="4365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pperplate30ab"/>
              </a:rPr>
              <a:t>Power Designer (SQL)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4266720"/>
            <a:ext cx="784872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Departamento de Ingeniería Industria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907560"/>
            <a:ext cx="6746760" cy="7081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odelo de Dat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351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Modelar el negocio (reglas, información y restricciones) desde el punto de vista de los datos relevantes a las decisiones del sistema de administrac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specificar los requerimientos de información (datos a almacenar por el sistema en su parte computacional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Power Designer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Herramienta case para modelos de datos, de negocios, orientados a objetos, entre otr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utomatizado para la conversió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3429000"/>
            <a:ext cx="21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elo con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3429000"/>
            <a:ext cx="153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elo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35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573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364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C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  <a:ea typeface="굴림"/>
              </a:rPr>
              <a:t>Los antecedentes de las entradas y salidas de productos de una bodega se entregan en la planilla anexa (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Lucida Sans"/>
                <a:ea typeface="굴림"/>
                <a:hlinkClick r:id="rId2"/>
              </a:rPr>
              <a:t>DatosBodega.xls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  <a:ea typeface="굴림"/>
              </a:rPr>
              <a:t>), la descripción de dichos antecedentes corresponde a la siguient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굴림"/>
              </a:rPr>
              <a:t>Item: corresponde al producto específic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굴림"/>
              </a:rPr>
              <a:t>Tipo: Si se trata de un ingreso o egres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굴림"/>
              </a:rPr>
              <a:t>Valor: La cantidad de productos que salen o entra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굴림"/>
              </a:rPr>
              <a:t>Mes, corresponde al mes donde se realizó la operación (ingreso o egreso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굴림"/>
              </a:rPr>
              <a:t>Año, es el año de la operació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C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e pide lo siguient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onstruir un MDCC en Syb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onstruir una base de dato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Poblar la base de dato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Realizar consultas sobre la base de datos construid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C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2060640"/>
            <a:ext cx="2252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modelo concep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3141720"/>
            <a:ext cx="2305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model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4149720"/>
            <a:ext cx="2232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instrucciones SQL para crear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544500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r instruc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4797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8520" y="5013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6" idx="2"/>
            <a:endCxn id="147" idx="0"/>
          </p:cNvCxnSpPr>
          <p:nvPr/>
        </p:nvCxnSpPr>
        <p:spPr>
          <a:xfrm flipH="1">
            <a:off x="1510560" y="3792600"/>
            <a:ext cx="3708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5" idx="2"/>
            <a:endCxn id="146" idx="0"/>
          </p:cNvCxnSpPr>
          <p:nvPr/>
        </p:nvCxnSpPr>
        <p:spPr>
          <a:xfrm>
            <a:off x="1522440" y="2711160"/>
            <a:ext cx="2592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7" idx="3"/>
            <a:endCxn id="150" idx="1"/>
          </p:cNvCxnSpPr>
          <p:nvPr/>
        </p:nvCxnSpPr>
        <p:spPr>
          <a:xfrm>
            <a:off x="2627280" y="4613400"/>
            <a:ext cx="650160" cy="5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50" idx="1"/>
            <a:endCxn id="148" idx="3"/>
          </p:cNvCxnSpPr>
          <p:nvPr/>
        </p:nvCxnSpPr>
        <p:spPr>
          <a:xfrm flipH="1">
            <a:off x="2626920" y="5197320"/>
            <a:ext cx="65016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5148360" y="206064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48360" y="278136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lamiento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357336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ul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48" idx="2"/>
          </p:cNvCxnSpPr>
          <p:nvPr/>
        </p:nvCxnSpPr>
        <p:spPr>
          <a:xfrm>
            <a:off x="1511280" y="6095520"/>
            <a:ext cx="10872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/>
          <p:nvPr/>
        </p:nvCxnSpPr>
        <p:spPr>
          <a:xfrm>
            <a:off x="1619280" y="6453000"/>
            <a:ext cx="30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/>
          <p:nvPr/>
        </p:nvCxnSpPr>
        <p:spPr>
          <a:xfrm flipV="1">
            <a:off x="4642920" y="1699560"/>
            <a:ext cx="1080" cy="475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/>
          <p:nvPr/>
        </p:nvCxnSpPr>
        <p:spPr>
          <a:xfrm>
            <a:off x="4643280" y="1699920"/>
            <a:ext cx="165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endCxn id="155" idx="0"/>
          </p:cNvCxnSpPr>
          <p:nvPr/>
        </p:nvCxnSpPr>
        <p:spPr>
          <a:xfrm flipH="1">
            <a:off x="6275160" y="1773360"/>
            <a:ext cx="259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5" idx="2"/>
            <a:endCxn id="156" idx="0"/>
          </p:cNvCxnSpPr>
          <p:nvPr/>
        </p:nvCxnSpPr>
        <p:spPr>
          <a:xfrm>
            <a:off x="6275160" y="2436480"/>
            <a:ext cx="10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6" idx="2"/>
            <a:endCxn id="157" idx="0"/>
          </p:cNvCxnSpPr>
          <p:nvPr/>
        </p:nvCxnSpPr>
        <p:spPr>
          <a:xfrm>
            <a:off x="6275160" y="315720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Modelo conceptual de dat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38080" y="1905120"/>
          <a:ext cx="7543800" cy="455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905120"/>
                    <a:ext cx="75438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C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2060640"/>
            <a:ext cx="2252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modelo concep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3141720"/>
            <a:ext cx="230508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model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4149720"/>
            <a:ext cx="2232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instrucciones SQL para crear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544500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r instruc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797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8520" y="5013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0" idx="2"/>
            <a:endCxn id="171" idx="0"/>
          </p:cNvCxnSpPr>
          <p:nvPr/>
        </p:nvCxnSpPr>
        <p:spPr>
          <a:xfrm flipH="1">
            <a:off x="1510560" y="3792600"/>
            <a:ext cx="3708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9" idx="2"/>
            <a:endCxn id="170" idx="0"/>
          </p:cNvCxnSpPr>
          <p:nvPr/>
        </p:nvCxnSpPr>
        <p:spPr>
          <a:xfrm>
            <a:off x="1522440" y="2711160"/>
            <a:ext cx="2592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1" idx="3"/>
            <a:endCxn id="174" idx="1"/>
          </p:cNvCxnSpPr>
          <p:nvPr/>
        </p:nvCxnSpPr>
        <p:spPr>
          <a:xfrm>
            <a:off x="2627280" y="4613400"/>
            <a:ext cx="650160" cy="5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4" idx="1"/>
            <a:endCxn id="172" idx="3"/>
          </p:cNvCxnSpPr>
          <p:nvPr/>
        </p:nvCxnSpPr>
        <p:spPr>
          <a:xfrm flipH="1">
            <a:off x="2626920" y="5197320"/>
            <a:ext cx="65016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5148360" y="206064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48360" y="278136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lamiento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357336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ul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2" idx="2"/>
          </p:cNvCxnSpPr>
          <p:nvPr/>
        </p:nvCxnSpPr>
        <p:spPr>
          <a:xfrm>
            <a:off x="1511280" y="6095520"/>
            <a:ext cx="10872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" name=""/>
          <p:cNvCxnSpPr/>
          <p:nvPr/>
        </p:nvCxnSpPr>
        <p:spPr>
          <a:xfrm>
            <a:off x="1619280" y="6453000"/>
            <a:ext cx="30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" name=""/>
          <p:cNvCxnSpPr/>
          <p:nvPr/>
        </p:nvCxnSpPr>
        <p:spPr>
          <a:xfrm flipV="1">
            <a:off x="4642920" y="1699560"/>
            <a:ext cx="1080" cy="475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/>
          <p:nvPr/>
        </p:nvCxnSpPr>
        <p:spPr>
          <a:xfrm>
            <a:off x="4643280" y="1699920"/>
            <a:ext cx="165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endCxn id="179" idx="0"/>
          </p:cNvCxnSpPr>
          <p:nvPr/>
        </p:nvCxnSpPr>
        <p:spPr>
          <a:xfrm flipH="1">
            <a:off x="6275160" y="1773360"/>
            <a:ext cx="259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79" idx="2"/>
            <a:endCxn id="180" idx="0"/>
          </p:cNvCxnSpPr>
          <p:nvPr/>
        </p:nvCxnSpPr>
        <p:spPr>
          <a:xfrm>
            <a:off x="6275160" y="2436480"/>
            <a:ext cx="10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0" idx="2"/>
            <a:endCxn id="181" idx="0"/>
          </p:cNvCxnSpPr>
          <p:nvPr/>
        </p:nvCxnSpPr>
        <p:spPr>
          <a:xfrm>
            <a:off x="6275160" y="315720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845080" y="328464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trl+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Modelo físico de dat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38080" y="1981080"/>
          <a:ext cx="7315200" cy="405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981080"/>
                    <a:ext cx="731520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C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2060640"/>
            <a:ext cx="2252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modelo concep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3141720"/>
            <a:ext cx="2305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model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4149720"/>
            <a:ext cx="223200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instrucciones SQL para crear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44500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r instruc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797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8520" y="5013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5" idx="2"/>
            <a:endCxn id="196" idx="0"/>
          </p:cNvCxnSpPr>
          <p:nvPr/>
        </p:nvCxnSpPr>
        <p:spPr>
          <a:xfrm flipH="1">
            <a:off x="1510560" y="3792600"/>
            <a:ext cx="3708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4" idx="2"/>
            <a:endCxn id="195" idx="0"/>
          </p:cNvCxnSpPr>
          <p:nvPr/>
        </p:nvCxnSpPr>
        <p:spPr>
          <a:xfrm>
            <a:off x="1522440" y="2711160"/>
            <a:ext cx="2592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6" idx="3"/>
            <a:endCxn id="199" idx="1"/>
          </p:cNvCxnSpPr>
          <p:nvPr/>
        </p:nvCxnSpPr>
        <p:spPr>
          <a:xfrm>
            <a:off x="2627280" y="4613400"/>
            <a:ext cx="650160" cy="5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9" idx="1"/>
            <a:endCxn id="197" idx="3"/>
          </p:cNvCxnSpPr>
          <p:nvPr/>
        </p:nvCxnSpPr>
        <p:spPr>
          <a:xfrm flipH="1">
            <a:off x="2626920" y="5197320"/>
            <a:ext cx="65016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5148360" y="206064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48360" y="278136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lamiento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48360" y="357336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ul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97" idx="2"/>
          </p:cNvCxnSpPr>
          <p:nvPr/>
        </p:nvCxnSpPr>
        <p:spPr>
          <a:xfrm>
            <a:off x="1511280" y="6095520"/>
            <a:ext cx="10872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/>
          <p:nvPr/>
        </p:nvCxnSpPr>
        <p:spPr>
          <a:xfrm>
            <a:off x="1619280" y="6453000"/>
            <a:ext cx="30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/>
          <p:nvPr/>
        </p:nvCxnSpPr>
        <p:spPr>
          <a:xfrm flipV="1">
            <a:off x="4642920" y="1699560"/>
            <a:ext cx="1080" cy="475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/>
          <p:nvPr/>
        </p:nvCxnSpPr>
        <p:spPr>
          <a:xfrm>
            <a:off x="4643280" y="1699920"/>
            <a:ext cx="165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endCxn id="204" idx="0"/>
          </p:cNvCxnSpPr>
          <p:nvPr/>
        </p:nvCxnSpPr>
        <p:spPr>
          <a:xfrm flipH="1">
            <a:off x="6275160" y="1773360"/>
            <a:ext cx="259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4" idx="2"/>
            <a:endCxn id="205" idx="0"/>
          </p:cNvCxnSpPr>
          <p:nvPr/>
        </p:nvCxnSpPr>
        <p:spPr>
          <a:xfrm>
            <a:off x="6275160" y="2436480"/>
            <a:ext cx="10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5" idx="2"/>
            <a:endCxn id="206" idx="0"/>
          </p:cNvCxnSpPr>
          <p:nvPr/>
        </p:nvCxnSpPr>
        <p:spPr>
          <a:xfrm>
            <a:off x="6275160" y="315720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2845080" y="422100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trl+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Generación instrucciones para crear DB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648180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C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2060640"/>
            <a:ext cx="2252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modelo concep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3141720"/>
            <a:ext cx="2305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model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4149720"/>
            <a:ext cx="2232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instrucciones SQL para crear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544500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r instruc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4797360"/>
            <a:ext cx="91440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78520" y="5013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9" idx="2"/>
            <a:endCxn id="220" idx="0"/>
          </p:cNvCxnSpPr>
          <p:nvPr/>
        </p:nvCxnSpPr>
        <p:spPr>
          <a:xfrm flipH="1">
            <a:off x="1510560" y="3792600"/>
            <a:ext cx="3708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8" idx="2"/>
            <a:endCxn id="219" idx="0"/>
          </p:cNvCxnSpPr>
          <p:nvPr/>
        </p:nvCxnSpPr>
        <p:spPr>
          <a:xfrm>
            <a:off x="1522440" y="2711160"/>
            <a:ext cx="2592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0" idx="3"/>
            <a:endCxn id="223" idx="1"/>
          </p:cNvCxnSpPr>
          <p:nvPr/>
        </p:nvCxnSpPr>
        <p:spPr>
          <a:xfrm>
            <a:off x="2627280" y="4613400"/>
            <a:ext cx="650160" cy="5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3" idx="1"/>
            <a:endCxn id="221" idx="3"/>
          </p:cNvCxnSpPr>
          <p:nvPr/>
        </p:nvCxnSpPr>
        <p:spPr>
          <a:xfrm flipH="1">
            <a:off x="2626920" y="5197320"/>
            <a:ext cx="65016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5148360" y="206064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48360" y="278136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lamiento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48360" y="357336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ul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21" idx="2"/>
          </p:cNvCxnSpPr>
          <p:nvPr/>
        </p:nvCxnSpPr>
        <p:spPr>
          <a:xfrm>
            <a:off x="1511280" y="6095520"/>
            <a:ext cx="10872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/>
          <p:nvPr/>
        </p:nvCxnSpPr>
        <p:spPr>
          <a:xfrm>
            <a:off x="1619280" y="6453000"/>
            <a:ext cx="30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/>
          <p:nvPr/>
        </p:nvCxnSpPr>
        <p:spPr>
          <a:xfrm flipV="1">
            <a:off x="4642920" y="1699560"/>
            <a:ext cx="1080" cy="475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/>
          <p:nvPr/>
        </p:nvCxnSpPr>
        <p:spPr>
          <a:xfrm>
            <a:off x="4643280" y="1699920"/>
            <a:ext cx="165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endCxn id="228" idx="0"/>
          </p:cNvCxnSpPr>
          <p:nvPr/>
        </p:nvCxnSpPr>
        <p:spPr>
          <a:xfrm flipH="1">
            <a:off x="6275160" y="1773360"/>
            <a:ext cx="259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8" idx="2"/>
            <a:endCxn id="229" idx="0"/>
          </p:cNvCxnSpPr>
          <p:nvPr/>
        </p:nvCxnSpPr>
        <p:spPr>
          <a:xfrm>
            <a:off x="6275160" y="2436480"/>
            <a:ext cx="10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9" idx="2"/>
            <a:endCxn id="230" idx="0"/>
          </p:cNvCxnSpPr>
          <p:nvPr/>
        </p:nvCxnSpPr>
        <p:spPr>
          <a:xfrm>
            <a:off x="6275160" y="315720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643716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rquitectura de Sistema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11040" y="1646280"/>
            <a:ext cx="8832960" cy="4424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Configuración ODBC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1.En el menú Inicio de Windows, seleccione Configuración, haga clic en Panel de Control y, después, haga doble clic en Orígenes de datos ODBC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2.En la ficha DSN de sistema, haga clic en Agregar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3.Seleccione Controlador de Microsoft Access (*.mdb) y haga clic en Finalizar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4.Escriba “IN72k"en el cuadro Data Source Name(Nombre de origen de datos) y, a continuación, haga clic en Select(Seleccionar), bajo Database(Base de datos)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Configuración ODBC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5.En el cuadro de diálogo Select Database(Seleccionar base de datos), seleccione la base de datos con la que desea trabajar (en esta etapa será una DB vacía). Haga clic en Aceptar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6.Haga clic en Aceptar en el cuadro de diálogo ODBC Microsoft Access Setup(Configuración de ODBC para Microsoft Access)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7.Haga clic en Aceptar en el cuadro de diálogo Administrador de orígenes de datos ODBC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C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2060640"/>
            <a:ext cx="2252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modelo concep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3141720"/>
            <a:ext cx="2305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model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4149720"/>
            <a:ext cx="2232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instrucciones SQL para crear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5445000"/>
            <a:ext cx="2232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r instruc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4797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8520" y="5013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4" idx="2"/>
            <a:endCxn id="245" idx="0"/>
          </p:cNvCxnSpPr>
          <p:nvPr/>
        </p:nvCxnSpPr>
        <p:spPr>
          <a:xfrm flipH="1">
            <a:off x="1510560" y="3792600"/>
            <a:ext cx="3708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3" idx="2"/>
            <a:endCxn id="244" idx="0"/>
          </p:cNvCxnSpPr>
          <p:nvPr/>
        </p:nvCxnSpPr>
        <p:spPr>
          <a:xfrm>
            <a:off x="1522440" y="2711160"/>
            <a:ext cx="2592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5" idx="3"/>
            <a:endCxn id="248" idx="1"/>
          </p:cNvCxnSpPr>
          <p:nvPr/>
        </p:nvCxnSpPr>
        <p:spPr>
          <a:xfrm>
            <a:off x="2627280" y="4613400"/>
            <a:ext cx="650160" cy="5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1"/>
            <a:endCxn id="246" idx="3"/>
          </p:cNvCxnSpPr>
          <p:nvPr/>
        </p:nvCxnSpPr>
        <p:spPr>
          <a:xfrm flipH="1">
            <a:off x="2626920" y="5197320"/>
            <a:ext cx="65016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5148360" y="206064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278136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lamiento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357336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ul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46" idx="2"/>
          </p:cNvCxnSpPr>
          <p:nvPr/>
        </p:nvCxnSpPr>
        <p:spPr>
          <a:xfrm>
            <a:off x="1511280" y="6095520"/>
            <a:ext cx="10872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"/>
          <p:cNvCxnSpPr/>
          <p:nvPr/>
        </p:nvCxnSpPr>
        <p:spPr>
          <a:xfrm>
            <a:off x="1619280" y="6453000"/>
            <a:ext cx="30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/>
          <p:nvPr/>
        </p:nvCxnSpPr>
        <p:spPr>
          <a:xfrm flipV="1">
            <a:off x="4642920" y="1699560"/>
            <a:ext cx="1080" cy="475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>
            <a:off x="4643280" y="1699920"/>
            <a:ext cx="165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endCxn id="253" idx="0"/>
          </p:cNvCxnSpPr>
          <p:nvPr/>
        </p:nvCxnSpPr>
        <p:spPr>
          <a:xfrm flipH="1">
            <a:off x="6275160" y="1773360"/>
            <a:ext cx="259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3" idx="2"/>
            <a:endCxn id="254" idx="0"/>
          </p:cNvCxnSpPr>
          <p:nvPr/>
        </p:nvCxnSpPr>
        <p:spPr>
          <a:xfrm>
            <a:off x="6275160" y="2436480"/>
            <a:ext cx="10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4" idx="2"/>
            <a:endCxn id="255" idx="0"/>
          </p:cNvCxnSpPr>
          <p:nvPr/>
        </p:nvCxnSpPr>
        <p:spPr>
          <a:xfrm>
            <a:off x="6275160" y="315720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Correr instruccione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4321080" cy="39099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314960" y="1844640"/>
            <a:ext cx="4829040" cy="37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C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2060640"/>
            <a:ext cx="2252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modelo concep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3141720"/>
            <a:ext cx="2305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model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4149720"/>
            <a:ext cx="2232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instrucciones SQL para crear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544500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r instruc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4797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8520" y="5013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68" idx="2"/>
            <a:endCxn id="269" idx="0"/>
          </p:cNvCxnSpPr>
          <p:nvPr/>
        </p:nvCxnSpPr>
        <p:spPr>
          <a:xfrm flipH="1">
            <a:off x="1510560" y="3792600"/>
            <a:ext cx="3708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7" idx="2"/>
            <a:endCxn id="268" idx="0"/>
          </p:cNvCxnSpPr>
          <p:nvPr/>
        </p:nvCxnSpPr>
        <p:spPr>
          <a:xfrm>
            <a:off x="1522440" y="2711160"/>
            <a:ext cx="2592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9" idx="3"/>
            <a:endCxn id="272" idx="1"/>
          </p:cNvCxnSpPr>
          <p:nvPr/>
        </p:nvCxnSpPr>
        <p:spPr>
          <a:xfrm>
            <a:off x="2627280" y="4613400"/>
            <a:ext cx="650160" cy="5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1"/>
            <a:endCxn id="270" idx="3"/>
          </p:cNvCxnSpPr>
          <p:nvPr/>
        </p:nvCxnSpPr>
        <p:spPr>
          <a:xfrm flipH="1">
            <a:off x="2626920" y="5197320"/>
            <a:ext cx="65016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5148360" y="2060640"/>
            <a:ext cx="22525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2781360"/>
            <a:ext cx="22525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lamiento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357336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ul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0" idx="2"/>
          </p:cNvCxnSpPr>
          <p:nvPr/>
        </p:nvCxnSpPr>
        <p:spPr>
          <a:xfrm>
            <a:off x="1511280" y="6095520"/>
            <a:ext cx="10872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/>
          <p:nvPr/>
        </p:nvCxnSpPr>
        <p:spPr>
          <a:xfrm>
            <a:off x="1619280" y="6453000"/>
            <a:ext cx="30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" name=""/>
          <p:cNvCxnSpPr/>
          <p:nvPr/>
        </p:nvCxnSpPr>
        <p:spPr>
          <a:xfrm flipV="1">
            <a:off x="4642920" y="1699560"/>
            <a:ext cx="1080" cy="475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"/>
          <p:cNvCxnSpPr/>
          <p:nvPr/>
        </p:nvCxnSpPr>
        <p:spPr>
          <a:xfrm>
            <a:off x="4643280" y="1699920"/>
            <a:ext cx="165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" name=""/>
          <p:cNvCxnSpPr>
            <a:endCxn id="277" idx="0"/>
          </p:cNvCxnSpPr>
          <p:nvPr/>
        </p:nvCxnSpPr>
        <p:spPr>
          <a:xfrm flipH="1">
            <a:off x="6275160" y="1773360"/>
            <a:ext cx="259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7" idx="2"/>
            <a:endCxn id="278" idx="0"/>
          </p:cNvCxnSpPr>
          <p:nvPr/>
        </p:nvCxnSpPr>
        <p:spPr>
          <a:xfrm>
            <a:off x="6275160" y="2436480"/>
            <a:ext cx="10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2"/>
            <a:endCxn id="279" idx="0"/>
          </p:cNvCxnSpPr>
          <p:nvPr/>
        </p:nvCxnSpPr>
        <p:spPr>
          <a:xfrm>
            <a:off x="6275160" y="315720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Base de datos relacional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762120" y="2209680"/>
          <a:ext cx="7467480" cy="211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209680"/>
                    <a:ext cx="74674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C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2060640"/>
            <a:ext cx="2252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modelo concep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3141720"/>
            <a:ext cx="2305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model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4149720"/>
            <a:ext cx="2232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instrucciones SQL para crear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544500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r instruc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4797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8520" y="5013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92" idx="2"/>
            <a:endCxn id="293" idx="0"/>
          </p:cNvCxnSpPr>
          <p:nvPr/>
        </p:nvCxnSpPr>
        <p:spPr>
          <a:xfrm flipH="1">
            <a:off x="1510560" y="3792600"/>
            <a:ext cx="3708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91" idx="2"/>
            <a:endCxn id="292" idx="0"/>
          </p:cNvCxnSpPr>
          <p:nvPr/>
        </p:nvCxnSpPr>
        <p:spPr>
          <a:xfrm>
            <a:off x="1522440" y="2711160"/>
            <a:ext cx="2592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3"/>
            <a:endCxn id="296" idx="1"/>
          </p:cNvCxnSpPr>
          <p:nvPr/>
        </p:nvCxnSpPr>
        <p:spPr>
          <a:xfrm>
            <a:off x="2627280" y="4613400"/>
            <a:ext cx="650160" cy="5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6" idx="1"/>
            <a:endCxn id="294" idx="3"/>
          </p:cNvCxnSpPr>
          <p:nvPr/>
        </p:nvCxnSpPr>
        <p:spPr>
          <a:xfrm flipH="1">
            <a:off x="2626920" y="5197320"/>
            <a:ext cx="65016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5148360" y="206064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48360" y="2781360"/>
            <a:ext cx="2252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lamiento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3573360"/>
            <a:ext cx="22525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ul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294" idx="2"/>
          </p:cNvCxnSpPr>
          <p:nvPr/>
        </p:nvCxnSpPr>
        <p:spPr>
          <a:xfrm>
            <a:off x="1511280" y="6095520"/>
            <a:ext cx="10872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/>
          <p:nvPr/>
        </p:nvCxnSpPr>
        <p:spPr>
          <a:xfrm>
            <a:off x="1619280" y="6453000"/>
            <a:ext cx="30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/>
          <p:nvPr/>
        </p:nvCxnSpPr>
        <p:spPr>
          <a:xfrm flipV="1">
            <a:off x="4642920" y="1699560"/>
            <a:ext cx="1080" cy="475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/>
          <p:nvPr/>
        </p:nvCxnSpPr>
        <p:spPr>
          <a:xfrm>
            <a:off x="4643280" y="1699920"/>
            <a:ext cx="165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endCxn id="301" idx="0"/>
          </p:cNvCxnSpPr>
          <p:nvPr/>
        </p:nvCxnSpPr>
        <p:spPr>
          <a:xfrm flipH="1">
            <a:off x="6275160" y="1773360"/>
            <a:ext cx="259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1" idx="2"/>
            <a:endCxn id="302" idx="0"/>
          </p:cNvCxnSpPr>
          <p:nvPr/>
        </p:nvCxnSpPr>
        <p:spPr>
          <a:xfrm>
            <a:off x="6275160" y="2436480"/>
            <a:ext cx="10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2" idx="2"/>
            <a:endCxn id="303" idx="0"/>
          </p:cNvCxnSpPr>
          <p:nvPr/>
        </p:nvCxnSpPr>
        <p:spPr>
          <a:xfrm>
            <a:off x="6275160" y="315720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6615000" cy="8431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odelo Entidad-Relación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7200" y="2076480"/>
            <a:ext cx="7705440" cy="3946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ntida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Una entidad es un objeto (sin métodos) que es distinguible de otros (elementos de los cuales 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IA deberá mantener informació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Rela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Una relación (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"/>
              </a:rPr>
              <a:t>link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) es un mapeo de restricciones que expresa el número de entidades a la cual otra entidad puede estar asociada (asociación lógica entre entidades, dada por las reglas del negoci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120" y="1699920"/>
            <a:ext cx="8153640" cy="43196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ntida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ujeto (independiente del tiemp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vento (depósito en cta c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Identificadores (</a:t>
            </a: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únicos o compuesto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ógic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Naturalez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Cardinalida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129440" y="1846440"/>
            <a:ext cx="1398600" cy="207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0" r="3031" b="0"/>
          <a:stretch/>
        </p:blipFill>
        <p:spPr>
          <a:xfrm>
            <a:off x="4273560" y="5716440"/>
            <a:ext cx="3502080" cy="333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rcRect l="0" t="0" r="4798" b="0"/>
          <a:stretch/>
        </p:blipFill>
        <p:spPr>
          <a:xfrm>
            <a:off x="4902120" y="5095800"/>
            <a:ext cx="3548160" cy="389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odelo Entidad-Relación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8040" y="1761840"/>
            <a:ext cx="8159760" cy="4172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ntidades </a:t>
            </a:r>
            <a:r>
              <a:rPr b="0" lang="es-ES_tradnl" sz="2400" spc="-1" strike="noStrike">
                <a:solidFill>
                  <a:srgbClr val="000099"/>
                </a:solidFill>
                <a:latin typeface="Lucida Sans"/>
              </a:rPr>
              <a:t>Débiles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 (dependientes) y </a:t>
            </a:r>
            <a:r>
              <a:rPr b="0" lang="es-ES_tradnl" sz="2400" spc="-1" strike="noStrike">
                <a:solidFill>
                  <a:srgbClr val="000099"/>
                </a:solidFill>
                <a:latin typeface="Lucida Sans"/>
              </a:rPr>
              <a:t>Fuer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"/>
            </a:endParaRPr>
          </a:p>
          <a:p>
            <a:pPr lvl="1" marL="705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buClr>
                <a:srgbClr val="0000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Lucida Sans"/>
              </a:rPr>
              <a:t>Especialización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 (especifica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de atributos desde una entida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uperior) y </a:t>
            </a:r>
            <a:r>
              <a:rPr b="0" lang="es-ES_tradnl" sz="2400" spc="-1" strike="noStrike">
                <a:solidFill>
                  <a:srgbClr val="000099"/>
                </a:solidFill>
                <a:latin typeface="Lucida Sans"/>
              </a:rPr>
              <a:t>Herencia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 (l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tributos de una entida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uperior son traspasados 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us entidades inferior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635120" y="2413080"/>
            <a:ext cx="4890960" cy="858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32520" y="3487680"/>
            <a:ext cx="2636640" cy="2603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971280" y="907920"/>
            <a:ext cx="6615000" cy="8431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odelo Entidad-Relación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907920"/>
            <a:ext cx="7921440" cy="781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Fuentes de Información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766520"/>
            <a:ext cx="8053560" cy="4343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Decisiones y Accion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Funciones, Actividades y Procedimient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alidas y entradas del SI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Formularios, Documentos y Archiv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ustantivos son candidatos a entidades y Verbos, para relacion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leccionar 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guimiento de 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"/>
              </a:rPr>
              <a:t>ordenes de compr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Cobranza de 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"/>
              </a:rPr>
              <a:t>facturas moros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"/>
          <p:cNvSpPr/>
          <p:nvPr/>
        </p:nvSpPr>
        <p:spPr>
          <a:xfrm>
            <a:off x="4489560" y="3382920"/>
            <a:ext cx="164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pperplate30ab"/>
              </a:rPr>
              <a:t>Diseño Conceptual de Datos (Canónico)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20560" y="4165200"/>
            <a:ext cx="83822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Tecnologías de Información y Rediseño de Proces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Magíster en Gestión de Operacion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Lucida Sans"/>
              </a:rPr>
              <a:t>Universidad de Chile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Lucida Sans"/>
              </a:rPr>
              <a:t>Derechos reservados ©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19:24:10Z</dcterms:created>
  <dc:creator>Laura Bergells</dc:creator>
  <dc:description>Visit www.maniactive.com for Free PowerPoint Templates.</dc:description>
  <dc:language>en-US</dc:language>
  <cp:lastModifiedBy>Matías</cp:lastModifiedBy>
  <dcterms:modified xsi:type="dcterms:W3CDTF">2005-09-07T18:26:08Z</dcterms:modified>
  <cp:revision>419</cp:revision>
  <dc:subject/>
  <dc:title>Lead Follow-Up: Hot, Warm &amp; Cold  CRM Conference,  October 2001 </dc:title>
</cp:coreProperties>
</file>