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58240" y="0"/>
            <a:ext cx="10857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184320" y="641520"/>
            <a:ext cx="8807400" cy="563868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62000" y="939960"/>
            <a:ext cx="8775720" cy="55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66"/>
                </a:solidFill>
                <a:latin typeface="Arial"/>
              </a:rPr>
              <a:t>Magíster en Gestión de Oper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Tecnologías de la Información y Rediseño de Proce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Evaluación y Contexto para la Mejora de Procesos de Negoc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333399"/>
                </a:solidFill>
                <a:latin typeface="Arial"/>
              </a:rPr>
              <a:t>Equipo:</a:t>
            </a:r>
            <a:r>
              <a:rPr b="1" i="1" lang="es-ES" sz="15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1500" spc="-1" strike="noStrike">
                <a:solidFill>
                  <a:srgbClr val="333399"/>
                </a:solidFill>
                <a:latin typeface="Arial"/>
              </a:rPr>
              <a:t>Verónica More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1500" spc="-1" strike="noStrike">
                <a:solidFill>
                  <a:srgbClr val="333399"/>
                </a:solidFill>
                <a:latin typeface="Arial"/>
              </a:rPr>
              <a:t>Cristián Foix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1500" spc="-1" strike="noStrike">
                <a:solidFill>
                  <a:srgbClr val="333399"/>
                </a:solidFill>
                <a:latin typeface="Arial"/>
              </a:rPr>
              <a:t>Martín Quinter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6120" y="1830240"/>
            <a:ext cx="8305920" cy="414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85960" y="55404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25680" y="2641680"/>
            <a:ext cx="4952880" cy="24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1800" y="3022560"/>
            <a:ext cx="204444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40560" y="4749840"/>
            <a:ext cx="120636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e</a:t>
            </a:r>
            <a:r>
              <a:rPr b="1" lang="es-BO" sz="2400" spc="-1" strike="noStrike">
                <a:solidFill>
                  <a:srgbClr val="ffffff"/>
                </a:solidFill>
                <a:latin typeface="Times New Roman"/>
              </a:rPr>
              <a:t>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84720" y="3390840"/>
            <a:ext cx="3035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0000"/>
                </a:solidFill>
                <a:latin typeface="Times New Roman"/>
              </a:rPr>
              <a:t>EVALUACION INICIAL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48000" y="2336760"/>
            <a:ext cx="130824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022560"/>
            <a:ext cx="191772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ros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58920" y="4749840"/>
            <a:ext cx="204480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68760" y="4203720"/>
            <a:ext cx="2869920" cy="17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Times New Roman"/>
              </a:rPr>
              <a:t>Proceso eficiente y re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¿El proceso utiliza recursos que serían mejor destin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¿Contribuye a alcanzar mis metas y las de la empre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46120" y="1830240"/>
            <a:ext cx="8305920" cy="414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85960" y="55404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25680" y="2641680"/>
            <a:ext cx="4952880" cy="24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3022560"/>
            <a:ext cx="204444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40560" y="4749840"/>
            <a:ext cx="120636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e</a:t>
            </a:r>
            <a:r>
              <a:rPr b="1" lang="es-BO" sz="2400" spc="-1" strike="noStrike">
                <a:solidFill>
                  <a:srgbClr val="ffffff"/>
                </a:solidFill>
                <a:latin typeface="Times New Roman"/>
              </a:rPr>
              <a:t>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84720" y="3390840"/>
            <a:ext cx="3035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0000"/>
                </a:solidFill>
                <a:latin typeface="Times New Roman"/>
              </a:rPr>
              <a:t>EVALUACION INICIAL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48000" y="2336760"/>
            <a:ext cx="130824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3022560"/>
            <a:ext cx="191772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ros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58920" y="4749840"/>
            <a:ext cx="204480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040" y="3746520"/>
            <a:ext cx="2349720" cy="20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Gobierno y agencias regulad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Comunidad y público en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Asociaciones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01772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147600"/>
            <a:ext cx="834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Facilitadores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Arial"/>
              </a:rPr>
              <a:t>Evaluación final comportamiento del proc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11680" y="574200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37360" y="450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Tecnologías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47840" y="2414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Motivación e 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1680" y="1271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47840" y="450684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Políticas y reg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37360" y="24145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84400" y="1968120"/>
            <a:ext cx="3235320" cy="3600720"/>
            <a:chOff x="2984400" y="1968120"/>
            <a:chExt cx="3235320" cy="3600720"/>
          </a:xfrm>
        </p:grpSpPr>
        <p:sp>
          <p:nvSpPr>
            <p:cNvPr id="118" name=""/>
            <p:cNvSpPr/>
            <p:nvPr/>
          </p:nvSpPr>
          <p:spPr>
            <a:xfrm rot="16200000">
              <a:off x="2824200" y="2149200"/>
              <a:ext cx="3562200" cy="3219480"/>
            </a:xfrm>
            <a:prstGeom prst="hexagon">
              <a:avLst>
                <a:gd name="adj" fmla="val 27661"/>
                <a:gd name="vf" fmla="val 115470"/>
              </a:avLst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05480" y="1974960"/>
              <a:ext cx="0" cy="359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95560" y="2882880"/>
              <a:ext cx="321948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95560" y="2882880"/>
              <a:ext cx="3219480" cy="17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4400" y="28828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0360" y="28702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844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5846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9844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5846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7360" y="2895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19320" y="464832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101772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800" y="147600"/>
            <a:ext cx="834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Facilitadores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Arial"/>
              </a:rPr>
              <a:t>Evaluación final comportamiento del proc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11680" y="574200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37360" y="450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Tecnologías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47840" y="2414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Motivación e 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11680" y="1271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7840" y="450684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Políticas y reg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37360" y="24145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84400" y="1968120"/>
            <a:ext cx="3235320" cy="3600720"/>
            <a:chOff x="2984400" y="1968120"/>
            <a:chExt cx="3235320" cy="3600720"/>
          </a:xfrm>
        </p:grpSpPr>
        <p:sp>
          <p:nvSpPr>
            <p:cNvPr id="139" name=""/>
            <p:cNvSpPr/>
            <p:nvPr/>
          </p:nvSpPr>
          <p:spPr>
            <a:xfrm rot="16200000">
              <a:off x="2824200" y="2149200"/>
              <a:ext cx="3562200" cy="3219480"/>
            </a:xfrm>
            <a:prstGeom prst="hexagon">
              <a:avLst>
                <a:gd name="adj" fmla="val 27661"/>
                <a:gd name="vf" fmla="val 115470"/>
              </a:avLst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05480" y="1974960"/>
              <a:ext cx="0" cy="359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995560" y="2882880"/>
              <a:ext cx="321948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95560" y="2882880"/>
              <a:ext cx="3219480" cy="17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84400" y="28828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10360" y="28702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844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5846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9844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45846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97360" y="2895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9320" y="464832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295960" y="5753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4707000"/>
            <a:ext cx="2133720" cy="181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tap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ed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uellos de Botell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érdi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efici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101772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1800" y="147600"/>
            <a:ext cx="834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Facilitadores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Arial"/>
              </a:rPr>
              <a:t>Evaluación final comportamiento del proc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1680" y="574200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37360" y="450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Tecnologías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7840" y="2414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Motivación e 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11680" y="1271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47840" y="450684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Políticas y reg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37360" y="24145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84400" y="1968120"/>
            <a:ext cx="3235320" cy="3600720"/>
            <a:chOff x="2984400" y="1968120"/>
            <a:chExt cx="3235320" cy="3600720"/>
          </a:xfrm>
        </p:grpSpPr>
        <p:sp>
          <p:nvSpPr>
            <p:cNvPr id="162" name=""/>
            <p:cNvSpPr/>
            <p:nvPr/>
          </p:nvSpPr>
          <p:spPr>
            <a:xfrm rot="16200000">
              <a:off x="2824200" y="2149200"/>
              <a:ext cx="3562200" cy="3219480"/>
            </a:xfrm>
            <a:prstGeom prst="hexagon">
              <a:avLst>
                <a:gd name="adj" fmla="val 27661"/>
                <a:gd name="vf" fmla="val 115470"/>
              </a:avLst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5480" y="1974960"/>
              <a:ext cx="0" cy="359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995560" y="2882880"/>
              <a:ext cx="321948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95560" y="2882880"/>
              <a:ext cx="3219480" cy="17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84400" y="28828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0360" y="28702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44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5846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9844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45846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97360" y="2895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19320" y="464832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295960" y="5753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76640" y="4573440"/>
            <a:ext cx="2133720" cy="181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ste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terfa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nciona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form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utomat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101772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1800" y="147600"/>
            <a:ext cx="834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Facilitadores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Arial"/>
              </a:rPr>
              <a:t>Evaluación final comportamiento del proc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1680" y="574200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7360" y="450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Tecnologías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47840" y="2414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Motivación e 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11680" y="1271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47840" y="450684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Políticas y reg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37360" y="24145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984400" y="1968120"/>
            <a:ext cx="3235320" cy="3600720"/>
            <a:chOff x="2984400" y="1968120"/>
            <a:chExt cx="3235320" cy="3600720"/>
          </a:xfrm>
        </p:grpSpPr>
        <p:sp>
          <p:nvSpPr>
            <p:cNvPr id="185" name=""/>
            <p:cNvSpPr/>
            <p:nvPr/>
          </p:nvSpPr>
          <p:spPr>
            <a:xfrm rot="16200000">
              <a:off x="2824200" y="2149200"/>
              <a:ext cx="3562200" cy="3219480"/>
            </a:xfrm>
            <a:prstGeom prst="hexagon">
              <a:avLst>
                <a:gd name="adj" fmla="val 27661"/>
                <a:gd name="vf" fmla="val 115470"/>
              </a:avLst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05480" y="1974960"/>
              <a:ext cx="0" cy="359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995560" y="2882880"/>
              <a:ext cx="321948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95560" y="2882880"/>
              <a:ext cx="3219480" cy="17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84400" y="28828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10360" y="28702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844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5846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9844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45846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97360" y="2895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19320" y="464832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295960" y="5753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2668680"/>
            <a:ext cx="2133720" cy="95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ivel de Motiv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vitar Sistemas de Incentivos perver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101772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1800" y="147600"/>
            <a:ext cx="834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Facilitadores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Arial"/>
              </a:rPr>
              <a:t>Evaluación final comportamiento del proc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1680" y="574200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37360" y="450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Tecnologías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47840" y="2414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Motivación e 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11680" y="1271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7840" y="450684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Políticas y reg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24145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984400" y="1968120"/>
            <a:ext cx="3235320" cy="3600720"/>
            <a:chOff x="2984400" y="1968120"/>
            <a:chExt cx="3235320" cy="3600720"/>
          </a:xfrm>
        </p:grpSpPr>
        <p:sp>
          <p:nvSpPr>
            <p:cNvPr id="208" name=""/>
            <p:cNvSpPr/>
            <p:nvPr/>
          </p:nvSpPr>
          <p:spPr>
            <a:xfrm rot="16200000">
              <a:off x="2824200" y="2149200"/>
              <a:ext cx="3562200" cy="3219480"/>
            </a:xfrm>
            <a:prstGeom prst="hexagon">
              <a:avLst>
                <a:gd name="adj" fmla="val 27661"/>
                <a:gd name="vf" fmla="val 115470"/>
              </a:avLst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05480" y="1974960"/>
              <a:ext cx="0" cy="359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995560" y="2882880"/>
              <a:ext cx="321948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95560" y="2882880"/>
              <a:ext cx="3219480" cy="17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84400" y="28828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10360" y="28702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844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5846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9844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45846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7360" y="2895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9320" y="464832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295960" y="5753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4880" y="1271520"/>
            <a:ext cx="2133360" cy="1935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mpacto de la estructura organizac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abi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tren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indic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101772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1800" y="147600"/>
            <a:ext cx="834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Facilitadores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Arial"/>
              </a:rPr>
              <a:t>Evaluación final comportamiento del proc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11680" y="574200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37360" y="450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Tecnologías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47840" y="2414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Motivación e 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11680" y="1271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47840" y="450684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Políticas y reg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37360" y="24145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984400" y="1968120"/>
            <a:ext cx="3235320" cy="3600720"/>
            <a:chOff x="2984400" y="1968120"/>
            <a:chExt cx="3235320" cy="3600720"/>
          </a:xfrm>
        </p:grpSpPr>
        <p:sp>
          <p:nvSpPr>
            <p:cNvPr id="231" name=""/>
            <p:cNvSpPr/>
            <p:nvPr/>
          </p:nvSpPr>
          <p:spPr>
            <a:xfrm rot="16200000">
              <a:off x="2824200" y="2149200"/>
              <a:ext cx="3562200" cy="3219480"/>
            </a:xfrm>
            <a:prstGeom prst="hexagon">
              <a:avLst>
                <a:gd name="adj" fmla="val 27661"/>
                <a:gd name="vf" fmla="val 115470"/>
              </a:avLst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05480" y="1974960"/>
              <a:ext cx="0" cy="359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95560" y="2882880"/>
              <a:ext cx="321948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95560" y="2882880"/>
              <a:ext cx="3219480" cy="17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84400" y="28828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0360" y="28702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844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5846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9844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5846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97360" y="2895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19320" y="464832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295960" y="5753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70280" y="4408560"/>
            <a:ext cx="213336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mpacto de directrices de la empre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01772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800" y="147600"/>
            <a:ext cx="834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Facilitadores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Arial"/>
              </a:rPr>
              <a:t>Evaluación final comportamiento del proces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11680" y="574200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37360" y="450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Tecnologías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47840" y="2414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Motivación e 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1680" y="127152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47840" y="450684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808080"/>
                </a:solidFill>
                <a:latin typeface="Arial"/>
              </a:rPr>
              <a:t>Políticas y reg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37360" y="241452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984400" y="1968120"/>
            <a:ext cx="3235320" cy="3600720"/>
            <a:chOff x="2984400" y="1968120"/>
            <a:chExt cx="3235320" cy="3600720"/>
          </a:xfrm>
        </p:grpSpPr>
        <p:sp>
          <p:nvSpPr>
            <p:cNvPr id="254" name=""/>
            <p:cNvSpPr/>
            <p:nvPr/>
          </p:nvSpPr>
          <p:spPr>
            <a:xfrm rot="16200000">
              <a:off x="2824200" y="2149200"/>
              <a:ext cx="3562200" cy="3219480"/>
            </a:xfrm>
            <a:prstGeom prst="hexagon">
              <a:avLst>
                <a:gd name="adj" fmla="val 27661"/>
                <a:gd name="vf" fmla="val 115470"/>
              </a:avLst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05480" y="1974960"/>
              <a:ext cx="0" cy="359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995560" y="2882880"/>
              <a:ext cx="321948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95560" y="2882880"/>
              <a:ext cx="3219480" cy="177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4400" y="28828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10360" y="287028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844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584600" y="4648320"/>
              <a:ext cx="1635120" cy="90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9844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4584600" y="1968120"/>
              <a:ext cx="163512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97360" y="2895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19320" y="464832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295960" y="5753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16320" y="2351160"/>
            <a:ext cx="21337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mpacto de la infraestructura en el trabajo, en 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33520" y="88416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432480" y="4191120"/>
            <a:ext cx="2192400" cy="21286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76280" y="223920"/>
            <a:ext cx="828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Situación Actual: ¿Por qué Cambiar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7360" y="1033560"/>
            <a:ext cx="7924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s-ES_tradnl" sz="2500" spc="-1" strike="noStrike">
                <a:solidFill>
                  <a:srgbClr val="000066"/>
                </a:solidFill>
                <a:latin typeface="Times New Roman"/>
              </a:rPr>
              <a:t>A Case for Action:</a:t>
            </a:r>
            <a:r>
              <a:rPr b="0" lang="es-ES_tradnl" sz="2500" spc="-1" strike="noStrike">
                <a:solidFill>
                  <a:srgbClr val="000066"/>
                </a:solidFill>
                <a:latin typeface="Times New Roman"/>
              </a:rPr>
              <a:t> Una razón para el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s-ES_tradnl" sz="2500" spc="-1" strike="noStrike">
                <a:solidFill>
                  <a:srgbClr val="3333cc"/>
                </a:solidFill>
                <a:latin typeface="Times New Roman"/>
              </a:rPr>
              <a:t>Establecer el sentido de Urgencia por el Camb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7640" y="238428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ontexto de Nego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640" y="290520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¿cómo ha cambiado el mundo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95360" y="1346040"/>
            <a:ext cx="8305920" cy="4368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610000" y="47628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57360" y="157176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Times New Roman"/>
              </a:rPr>
              <a:t>Estructura para la Evaluación de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_tradnl" sz="3000" spc="-1" strike="noStrike">
                <a:solidFill>
                  <a:srgbClr val="3333cc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EADA</a:t>
            </a:r>
            <a:r>
              <a:rPr b="0" lang="es-ES_tradnl" sz="3000" spc="-1" strike="noStrike">
                <a:solidFill>
                  <a:srgbClr val="3333cc"/>
                </a:solidFill>
                <a:latin typeface="Times New Roman"/>
              </a:rPr>
              <a:t> del Proceso de Negoci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Times New Roman"/>
              </a:rPr>
              <a:t>Análisis del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MBIENTE</a:t>
            </a:r>
            <a:r>
              <a:rPr b="0" lang="es-ES_tradnl" sz="3000" spc="-1" strike="noStrike">
                <a:solidFill>
                  <a:srgbClr val="3333cc"/>
                </a:solidFill>
                <a:latin typeface="Times New Roman"/>
              </a:rPr>
              <a:t> en que se inserta el Proceso de Negoci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Times New Roman"/>
              </a:rPr>
              <a:t>Síntesis de Ideas Clav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Times New Roman"/>
              </a:rPr>
              <a:t>Conclusion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88416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6280" y="223920"/>
            <a:ext cx="828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Situación Actual: ¿Por qué Cambiar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7360" y="1033560"/>
            <a:ext cx="7924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s-ES_tradnl" sz="2500" spc="-1" strike="noStrike">
                <a:solidFill>
                  <a:srgbClr val="000066"/>
                </a:solidFill>
                <a:latin typeface="Times New Roman"/>
              </a:rPr>
              <a:t>A Case for Action:</a:t>
            </a:r>
            <a:r>
              <a:rPr b="0" lang="es-ES_tradnl" sz="2500" spc="-1" strike="noStrike">
                <a:solidFill>
                  <a:srgbClr val="000066"/>
                </a:solidFill>
                <a:latin typeface="Times New Roman"/>
              </a:rPr>
              <a:t>  Una razón para el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s-ES_tradnl" sz="2500" spc="-1" strike="noStrike">
                <a:solidFill>
                  <a:srgbClr val="3333cc"/>
                </a:solidFill>
                <a:latin typeface="Times New Roman"/>
              </a:rPr>
              <a:t>Establecer el sentido de Urgencia por el Camb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238428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- Contexto de Nego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7640" y="2946240"/>
            <a:ext cx="40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Problemas Exter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640" y="3479760"/>
            <a:ext cx="69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¿qué nuevos requerimientos tiene nuestros clientes, nuestros proveedores, la comunidad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432480" y="4191120"/>
            <a:ext cx="2192400" cy="212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33520" y="88416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6280" y="223920"/>
            <a:ext cx="828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Situación Actual: ¿Por qué Cambiar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8560" y="238428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- Contexto de Nego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8560" y="2946240"/>
            <a:ext cx="40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- Problemas Exter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8560" y="351792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Problemas Inter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4880" y="4048200"/>
            <a:ext cx="55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¿qué desafíos establecen los dueños?, ¿qué necesidades tienen nuestros trabajadores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432480" y="4191120"/>
            <a:ext cx="2192400" cy="21286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57360" y="1033560"/>
            <a:ext cx="7924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s-ES_tradnl" sz="2500" spc="-1" strike="noStrike">
                <a:solidFill>
                  <a:srgbClr val="000066"/>
                </a:solidFill>
                <a:latin typeface="Times New Roman"/>
              </a:rPr>
              <a:t>A Case for Action:</a:t>
            </a:r>
            <a:r>
              <a:rPr b="0" lang="es-ES_tradnl" sz="2500" spc="-1" strike="noStrike">
                <a:solidFill>
                  <a:srgbClr val="000066"/>
                </a:solidFill>
                <a:latin typeface="Times New Roman"/>
              </a:rPr>
              <a:t> Una razón para el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s-ES_tradnl" sz="2500" spc="-1" strike="noStrike">
                <a:solidFill>
                  <a:srgbClr val="3333cc"/>
                </a:solidFill>
                <a:latin typeface="Times New Roman"/>
              </a:rPr>
              <a:t>Establecer el sentido de Urgencia por el Camb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3520" y="88416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6280" y="223920"/>
            <a:ext cx="828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Situación Actual: ¿Por qué Cambiar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8560" y="238428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- Contexto de Nego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8560" y="2946240"/>
            <a:ext cx="40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- Problemas Exter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8560" y="351792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- Problemas Inter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6720" y="414972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Diagnó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960" y="4743360"/>
            <a:ext cx="55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¿cuál debe ser el foco de los esfuerzos? (prelimin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432480" y="4191120"/>
            <a:ext cx="2192400" cy="2128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7360" y="1033560"/>
            <a:ext cx="7924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s-ES_tradnl" sz="2500" spc="-1" strike="noStrike">
                <a:solidFill>
                  <a:srgbClr val="000066"/>
                </a:solidFill>
                <a:latin typeface="Times New Roman"/>
              </a:rPr>
              <a:t>A Case for Action:</a:t>
            </a:r>
            <a:r>
              <a:rPr b="0" lang="es-ES_tradnl" sz="2500" spc="-1" strike="noStrike">
                <a:solidFill>
                  <a:srgbClr val="000066"/>
                </a:solidFill>
                <a:latin typeface="Times New Roman"/>
              </a:rPr>
              <a:t> Una razón para el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s-ES_tradnl" sz="2500" spc="-1" strike="noStrike">
                <a:solidFill>
                  <a:srgbClr val="3333cc"/>
                </a:solidFill>
                <a:latin typeface="Times New Roman"/>
              </a:rPr>
              <a:t>Establecer el sentido de Urgencia por el Camb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33520" y="884160"/>
            <a:ext cx="830556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6280" y="223920"/>
            <a:ext cx="828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Situación Actual: ¿Por qué Cambiar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8560" y="238428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25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- Contexto de Nego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8560" y="2946240"/>
            <a:ext cx="40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- Problemas Exter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8560" y="351792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- Problemas Inter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8560" y="414972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- Diagnó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560" y="5178600"/>
            <a:ext cx="55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¿a qué nos exponemos si no cambia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8560" y="468936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onsecuencias de la in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432480" y="4191120"/>
            <a:ext cx="2192400" cy="21286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57360" y="1033560"/>
            <a:ext cx="7924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s-ES_tradnl" sz="2500" spc="-1" strike="noStrike">
                <a:solidFill>
                  <a:srgbClr val="000066"/>
                </a:solidFill>
                <a:latin typeface="Times New Roman"/>
              </a:rPr>
              <a:t>A Case for Action:</a:t>
            </a:r>
            <a:r>
              <a:rPr b="0" lang="es-ES_tradnl" sz="2500" spc="-1" strike="noStrike">
                <a:solidFill>
                  <a:srgbClr val="000066"/>
                </a:solidFill>
                <a:latin typeface="Times New Roman"/>
              </a:rPr>
              <a:t> Una razón para el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es-ES_tradnl" sz="2500" spc="-1" strike="noStrike">
                <a:solidFill>
                  <a:srgbClr val="3333cc"/>
                </a:solidFill>
                <a:latin typeface="Times New Roman"/>
              </a:rPr>
              <a:t>Establecer el sentido de Urgencia por el Camb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66560" y="685800"/>
            <a:ext cx="8305920" cy="5626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907920" y="3924360"/>
            <a:ext cx="2192400" cy="21286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1905120" y="963720"/>
            <a:ext cx="6438960" cy="2554200"/>
            <a:chOff x="1905120" y="963720"/>
            <a:chExt cx="6438960" cy="2554200"/>
          </a:xfrm>
        </p:grpSpPr>
        <p:sp>
          <p:nvSpPr>
            <p:cNvPr id="311" name=""/>
            <p:cNvSpPr/>
            <p:nvPr/>
          </p:nvSpPr>
          <p:spPr>
            <a:xfrm>
              <a:off x="1905120" y="1042920"/>
              <a:ext cx="3809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000" spc="-1" strike="noStrike">
                  <a:solidFill>
                    <a:srgbClr val="3333cc"/>
                  </a:solidFill>
                  <a:latin typeface="Arial"/>
                </a:rPr>
                <a:t>VISIÓN: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000" spc="-1" strike="noStrike">
                  <a:solidFill>
                    <a:srgbClr val="3333cc"/>
                  </a:solidFill>
                  <a:latin typeface="Arial"/>
                </a:rPr>
                <a:t>Situación Desead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5734080" y="963720"/>
              <a:ext cx="2610000" cy="25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"/>
          <p:cNvSpPr/>
          <p:nvPr/>
        </p:nvSpPr>
        <p:spPr>
          <a:xfrm rot="19875000">
            <a:off x="3000240" y="3669840"/>
            <a:ext cx="2667240" cy="495360"/>
          </a:xfrm>
          <a:prstGeom prst="rightArrow">
            <a:avLst>
              <a:gd name="adj1" fmla="val 50000"/>
              <a:gd name="adj2" fmla="val 134611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63760" y="497376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ff0000"/>
                </a:solidFill>
                <a:latin typeface="Arial"/>
              </a:rPr>
              <a:t>Situación Actu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66560" y="685800"/>
            <a:ext cx="8305920" cy="5911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6280" y="223920"/>
            <a:ext cx="828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0000"/>
                </a:solidFill>
                <a:latin typeface="Arial"/>
              </a:rPr>
              <a:t>Difundir la necesidad de Cambio: Cuadro Resum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347840" y="905040"/>
            <a:ext cx="6562800" cy="556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4320" y="2813040"/>
            <a:ext cx="8807400" cy="175248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1840" y="2887560"/>
            <a:ext cx="877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Ambiente en que se inserta el Proceso de Negoc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57200" y="1805040"/>
            <a:ext cx="8305920" cy="452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2280" y="554040"/>
            <a:ext cx="72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El Ambiente y su importa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7760" y="2171880"/>
            <a:ext cx="6972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 proceso está inserto en un ambiente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sonas poseen habilidades, cultura, intereses y actitudes establec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ctores ambientales son críticos para el éxito del     rediseño de un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oftware para planificación fores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bradores autom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543480" y="2438280"/>
            <a:ext cx="2158920" cy="4216680"/>
          </a:xfrm>
          <a:prstGeom prst="upArrow">
            <a:avLst>
              <a:gd name="adj1" fmla="val 50000"/>
              <a:gd name="adj2" fmla="val 4882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6080" y="122400"/>
            <a:ext cx="72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Defin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496680" y="5104080"/>
            <a:ext cx="22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26080" y="132084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¿ Qué hace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24560" y="1854360"/>
            <a:ext cx="25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¿ Quiénes somos    para hacerl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4160" y="5295960"/>
            <a:ext cx="36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¿ Por qué un cliente nos debería preferi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9360" y="609588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¿ Cómo nos deferenciam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3086280"/>
            <a:ext cx="24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¿ Qué logros debo conseguir para cumplir la 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608280" y="851040"/>
            <a:ext cx="2031840" cy="2094840"/>
            <a:chOff x="3608280" y="851040"/>
            <a:chExt cx="2031840" cy="2094840"/>
          </a:xfrm>
        </p:grpSpPr>
        <p:grpSp>
          <p:nvGrpSpPr>
            <p:cNvPr id="332" name=""/>
            <p:cNvGrpSpPr/>
            <p:nvPr/>
          </p:nvGrpSpPr>
          <p:grpSpPr>
            <a:xfrm>
              <a:off x="3608280" y="851040"/>
              <a:ext cx="2031840" cy="2094840"/>
              <a:chOff x="3608280" y="851040"/>
              <a:chExt cx="2031840" cy="2094840"/>
            </a:xfrm>
          </p:grpSpPr>
          <p:sp>
            <p:nvSpPr>
              <p:cNvPr id="333" name=""/>
              <p:cNvSpPr/>
              <p:nvPr/>
            </p:nvSpPr>
            <p:spPr>
              <a:xfrm>
                <a:off x="3790440" y="1118880"/>
                <a:ext cx="166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0000"/>
                    </a:solidFill>
                    <a:latin typeface="Times New Roman"/>
                  </a:rPr>
                  <a:t>MI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08280" y="851040"/>
                <a:ext cx="2031840" cy="20948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42200" y="1085760"/>
                <a:ext cx="1764000" cy="162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90880" y="1305360"/>
                <a:ext cx="1466280" cy="1182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3876120" y="1671840"/>
              <a:ext cx="149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</a:rPr>
                <a:t>MI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92560" y="3581280"/>
            <a:ext cx="2654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805040"/>
            <a:ext cx="8305920" cy="3898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2280" y="554040"/>
            <a:ext cx="72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Disciplinas Estratég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77760" y="2209680"/>
            <a:ext cx="69724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Las compañías líderes presentan 3 ti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XCELENCIA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LIDERAZGO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PREOCUPACION POR 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Times New Roman"/>
              </a:rPr>
              <a:t>Importante: Elegir una para potenciar sobre las otras 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4320" y="2813040"/>
            <a:ext cx="8807400" cy="175248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2887560"/>
            <a:ext cx="877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Evaluación de la Situación Actual y deseada del Procesos de Negoc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57200" y="1512720"/>
            <a:ext cx="8305920" cy="5080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280" y="554040"/>
            <a:ext cx="72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Creencias y 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52560" y="1968480"/>
            <a:ext cx="72896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Cultura: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s-MX" sz="2400" spc="-1" strike="noStrike">
                <a:solidFill>
                  <a:srgbClr val="3333cc"/>
                </a:solidFill>
                <a:latin typeface="Times New Roman"/>
              </a:rPr>
              <a:t>Conjunto de patrones, costumbres, sentimientos, actitudes 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Rediseño exitoso de un proceso requiere contemp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Factores culturales en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Éxitos o fracas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Forma de toma de decisiones. ¿Quiénes particip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Aversión al riesg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Times New Roman"/>
              </a:rPr>
              <a:t>Ejemplos: Gestión de Salud en Chuquicam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1855800"/>
            <a:ext cx="8305920" cy="4711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2280" y="554040"/>
            <a:ext cx="72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Competencias Nucleares</a:t>
            </a: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52560" y="2158920"/>
            <a:ext cx="7289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66"/>
                </a:solidFill>
                <a:latin typeface="Times New Roman"/>
              </a:rPr>
              <a:t>¿ EN QUE SOMOS REALMENTE BUEN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Competencia Nuclear: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Competencias Clave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Empresas world class identifican a lo más 5 o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Se quiere lograr un posicionamiento adec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es-MX" sz="2400" spc="-1" strike="noStrike">
                <a:solidFill>
                  <a:srgbClr val="3333cc"/>
                </a:solidFill>
                <a:latin typeface="Times New Roman"/>
              </a:rPr>
              <a:t>Ejemplos: XEROX en compu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i="1" lang="es-MX" sz="2400" spc="-1" strike="noStrike">
                <a:solidFill>
                  <a:srgbClr val="3333cc"/>
                </a:solidFill>
                <a:latin typeface="Times New Roman"/>
              </a:rPr>
              <a:t>3M en artículos de escri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0880" y="933480"/>
            <a:ext cx="7518600" cy="562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2006640"/>
            <a:ext cx="5994360" cy="3479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68760" y="2984400"/>
            <a:ext cx="2743200" cy="15242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73320" y="13208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55880" y="4521240"/>
            <a:ext cx="1384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TR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78240" y="269244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ACILIT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81520" y="4546440"/>
            <a:ext cx="1638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01920" y="37083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TUACION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07040" y="5511960"/>
            <a:ext cx="1054080" cy="2919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CULT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17720" y="5511960"/>
            <a:ext cx="1447920" cy="4899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DEFINICIONES ESTRATEGIC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17920" y="5867280"/>
            <a:ext cx="1485720" cy="4899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COMPETENCIAS NUCLEA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1240" y="139680"/>
            <a:ext cx="45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deas Princip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49640" y="2335320"/>
            <a:ext cx="3781440" cy="84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CESO DE NEGOCI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0880" y="933480"/>
            <a:ext cx="7518600" cy="562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43000" y="2006640"/>
            <a:ext cx="5994360" cy="3479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68760" y="2984400"/>
            <a:ext cx="2743200" cy="15242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55880" y="4521240"/>
            <a:ext cx="1384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METR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78240" y="269244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ACILIT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81520" y="4546440"/>
            <a:ext cx="1638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01920" y="37083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ITUACION DESE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1240" y="139680"/>
            <a:ext cx="45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deas Princip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249640" y="2335320"/>
            <a:ext cx="3781440" cy="84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CESO DE NEGOCIOS: VI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73320" y="13208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07040" y="5511960"/>
            <a:ext cx="1054080" cy="2919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CULT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17720" y="5511960"/>
            <a:ext cx="1447920" cy="4899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DEFINICIONES ESTRATEGIC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5867280"/>
            <a:ext cx="1485720" cy="4899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COMPETENCIAS NUCLEA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817640"/>
            <a:ext cx="8305560" cy="3530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7800" y="947880"/>
            <a:ext cx="38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Mét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5160" y="2043000"/>
            <a:ext cx="792504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99"/>
              </a:spcBef>
              <a:spcAft>
                <a:spcPts val="1199"/>
              </a:spcAft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Times New Roman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−"/>
              <a:tabLst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Times New Roman"/>
              </a:rPr>
              <a:t>Nos permiten identificar los </a:t>
            </a:r>
            <a:r>
              <a:rPr b="0" lang="es-ES_tradnl" sz="3000" spc="-1" strike="noStrike">
                <a:solidFill>
                  <a:srgbClr val="000066"/>
                </a:solidFill>
                <a:latin typeface="Times New Roman"/>
              </a:rPr>
              <a:t>procesos claves</a:t>
            </a:r>
            <a:r>
              <a:rPr b="0" lang="es-ES_tradnl" sz="3000" spc="-1" strike="noStrike">
                <a:solidFill>
                  <a:srgbClr val="3333cc"/>
                </a:solidFill>
                <a:latin typeface="Times New Roman"/>
              </a:rPr>
              <a:t> y su </a:t>
            </a:r>
            <a:r>
              <a:rPr b="0" lang="es-ES_tradnl" sz="3000" spc="-1" strike="noStrike">
                <a:solidFill>
                  <a:srgbClr val="000066"/>
                </a:solidFill>
                <a:latin typeface="Times New Roman"/>
              </a:rPr>
              <a:t>desempe</a:t>
            </a:r>
            <a:r>
              <a:rPr b="0" lang="es-BO" sz="3000" spc="-1" strike="noStrike">
                <a:solidFill>
                  <a:srgbClr val="000066"/>
                </a:solidFill>
                <a:latin typeface="Times New Roman"/>
              </a:rPr>
              <a:t>ño</a:t>
            </a:r>
            <a:r>
              <a:rPr b="0" lang="es-ES_tradnl" sz="3000" spc="-1" strike="noStrike">
                <a:solidFill>
                  <a:srgbClr val="000066"/>
                </a:solidFill>
                <a:latin typeface="Times New Roman"/>
              </a:rPr>
              <a:t> actu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−"/>
              <a:tabLst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0" lang="es-ES_tradnl" sz="3000" spc="-1" strike="noStrike">
                <a:solidFill>
                  <a:srgbClr val="3333cc"/>
                </a:solidFill>
                <a:latin typeface="Times New Roman"/>
              </a:rPr>
              <a:t>Definen los parámetros de </a:t>
            </a:r>
            <a:r>
              <a:rPr b="0" lang="es-ES_tradnl" sz="3000" spc="-1" strike="noStrike">
                <a:solidFill>
                  <a:srgbClr val="000066"/>
                </a:solidFill>
                <a:latin typeface="Times New Roman"/>
              </a:rPr>
              <a:t>evaluación del redis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817640"/>
            <a:ext cx="8305560" cy="4495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0760" y="94788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Mét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5160" y="2043000"/>
            <a:ext cx="792504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99"/>
              </a:spcBef>
              <a:spcAft>
                <a:spcPts val="1199"/>
              </a:spcAft>
              <a:buClr>
                <a:srgbClr val="000066"/>
              </a:buClr>
              <a:buFont typeface="Times New Roman"/>
              <a:buChar char="•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Times New Roman"/>
              </a:rPr>
              <a:t>Algunas m</a:t>
            </a:r>
            <a:r>
              <a:rPr b="0" lang="es-BO" sz="3000" spc="-1" strike="noStrike">
                <a:solidFill>
                  <a:srgbClr val="000066"/>
                </a:solidFill>
                <a:latin typeface="Times New Roman"/>
              </a:rPr>
              <a:t>étricas</a:t>
            </a:r>
            <a:r>
              <a:rPr b="0" lang="es-ES_tradnl" sz="30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olumen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tidad de nuevo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iempo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cl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antidad de personas, organizaciones, lu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ficiencia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centaje de desecho, d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Font typeface="Times New Roman"/>
              <a:buChar char="•"/>
              <a:tabLst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sto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defectos, reelaboración.</a:t>
            </a: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46120" y="1830240"/>
            <a:ext cx="8305920" cy="414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85960" y="55404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25680" y="2641680"/>
            <a:ext cx="4952880" cy="24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1800" y="3022560"/>
            <a:ext cx="2044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40560" y="4749840"/>
            <a:ext cx="120636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e</a:t>
            </a:r>
            <a:r>
              <a:rPr b="1" lang="es-BO" sz="2400" spc="-1" strike="noStrike">
                <a:solidFill>
                  <a:srgbClr val="ffffff"/>
                </a:solidFill>
                <a:latin typeface="Times New Roman"/>
              </a:rPr>
              <a:t>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84720" y="3390840"/>
            <a:ext cx="3035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0000"/>
                </a:solidFill>
                <a:latin typeface="Times New Roman"/>
              </a:rPr>
              <a:t>EVALUACION INICIAL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48000" y="2336760"/>
            <a:ext cx="13082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3022560"/>
            <a:ext cx="191772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ros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58920" y="4749840"/>
            <a:ext cx="20448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46120" y="1830240"/>
            <a:ext cx="8305920" cy="414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85960" y="55404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25680" y="2641680"/>
            <a:ext cx="4952880" cy="24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1800" y="3022560"/>
            <a:ext cx="204444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40560" y="4749840"/>
            <a:ext cx="120636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e</a:t>
            </a:r>
            <a:r>
              <a:rPr b="1" lang="es-BO" sz="2400" spc="-1" strike="noStrike">
                <a:solidFill>
                  <a:srgbClr val="ffffff"/>
                </a:solidFill>
                <a:latin typeface="Times New Roman"/>
              </a:rPr>
              <a:t>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84720" y="3390840"/>
            <a:ext cx="3035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0000"/>
                </a:solidFill>
                <a:latin typeface="Times New Roman"/>
              </a:rPr>
              <a:t>EVALUACION INICIAL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48000" y="2336760"/>
            <a:ext cx="13082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3022560"/>
            <a:ext cx="191772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ros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58920" y="4749840"/>
            <a:ext cx="204480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07120" y="1039680"/>
            <a:ext cx="2629080" cy="271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Times New Roman"/>
              </a:rPr>
              <a:t>¿Se le esta entregando lo que realmente quiere?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¿Le importo a la empre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¿Puede ajustar su servicio para cumplir mis necesi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46120" y="1830240"/>
            <a:ext cx="8305920" cy="414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85960" y="55404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25680" y="2641680"/>
            <a:ext cx="4952880" cy="24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1800" y="3022560"/>
            <a:ext cx="2044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0560" y="4749840"/>
            <a:ext cx="120636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e</a:t>
            </a:r>
            <a:r>
              <a:rPr b="1" lang="es-BO" sz="2400" spc="-1" strike="noStrike">
                <a:solidFill>
                  <a:srgbClr val="ffffff"/>
                </a:solidFill>
                <a:latin typeface="Times New Roman"/>
              </a:rPr>
              <a:t>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84720" y="3390840"/>
            <a:ext cx="3035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0000"/>
                </a:solidFill>
                <a:latin typeface="Times New Roman"/>
              </a:rPr>
              <a:t>EVALUACION INICIAL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48000" y="2336760"/>
            <a:ext cx="130824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3022560"/>
            <a:ext cx="191772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ros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58920" y="4749840"/>
            <a:ext cx="204480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1409760"/>
            <a:ext cx="269244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¿Existen formas alternativas para ejecutar las tareas que realiz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¿El proceso ayuda a alcanzar las metas?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46120" y="1830240"/>
            <a:ext cx="8305920" cy="414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85960" y="55404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25680" y="2641680"/>
            <a:ext cx="4952880" cy="246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1800" y="3022560"/>
            <a:ext cx="204444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0560" y="4749840"/>
            <a:ext cx="120636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ue</a:t>
            </a:r>
            <a:r>
              <a:rPr b="1" lang="es-BO" sz="2400" spc="-1" strike="noStrike">
                <a:solidFill>
                  <a:srgbClr val="ffffff"/>
                </a:solidFill>
                <a:latin typeface="Times New Roman"/>
              </a:rPr>
              <a:t>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84720" y="3390840"/>
            <a:ext cx="3035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ff0000"/>
                </a:solidFill>
                <a:latin typeface="Times New Roman"/>
              </a:rPr>
              <a:t>EVALUACION INICIAL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000" y="2336760"/>
            <a:ext cx="130824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3022560"/>
            <a:ext cx="1917720" cy="459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ros gru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58920" y="4749840"/>
            <a:ext cx="20448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06760" y="4089240"/>
            <a:ext cx="279432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Times New Roman"/>
              </a:rPr>
              <a:t>El grado de relación que se tiene. Cómo se puede llegar a un acuer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Times New Roman"/>
              </a:rPr>
              <a:t>¿Cuán fácil es trabajar con nosotros y no con el res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8T17:05:33Z</dcterms:created>
  <dc:creator>Bill Bocic</dc:creator>
  <dc:description/>
  <dc:language>en-US</dc:language>
  <cp:lastModifiedBy>Samuel</cp:lastModifiedBy>
  <cp:lastPrinted>2002-08-06T22:10:37Z</cp:lastPrinted>
  <dcterms:modified xsi:type="dcterms:W3CDTF">2003-04-02T21:53:07Z</dcterms:modified>
  <cp:revision>244</cp:revision>
  <dc:subject>Propuesta</dc:subject>
  <dc:title>Tecsa Equipos y Hormigones</dc:title>
</cp:coreProperties>
</file>