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9A22-5E74-4981-9FF8-E4E707F6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756C-515A-46B3-9B40-4E9DD0F4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F83-5411-46C6-B4B3-B71724E3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27BF-764F-4B0C-990F-AF482DEA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6A5-B936-4592-B03D-652FC971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12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7C16-5F39-43F0-AE91-6CADC609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EA39-3AF7-4DB5-9D8C-02B5EDA1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051-57A1-4A88-AD06-5CC4337D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684D-52AD-4227-86F8-248BB545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1AF-089C-411E-8142-E5097DE7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508-E19F-45C3-89F7-CE431B3D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D01-5B82-4FF9-977B-5FE667EC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12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"/>
          <p:cNvSpPr/>
          <p:nvPr/>
        </p:nvSpPr>
        <p:spPr>
          <a:xfrm>
            <a:off x="1042920" y="623736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2679840" y="6180120"/>
            <a:ext cx="58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-603360"/>
            <a:ext cx="9140760" cy="6851520"/>
            <a:chOff x="0" y="-60336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233360"/>
              <a:ext cx="9140760" cy="5014800"/>
              <a:chOff x="0" y="123336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23336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23336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90000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22364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22364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-603360"/>
              <a:ext cx="8588160" cy="6851520"/>
              <a:chOff x="552600" y="-60336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-60336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196668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22364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156672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49968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22364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266D-BE14-40AF-AFCD-8E3BFD3E6653}" type="datetime">
              <a:rPr b="0" lang="es-ES" sz="1000" spc="-1" strike="noStrike">
                <a:solidFill>
                  <a:srgbClr val="ffffff"/>
                </a:solidFill>
                <a:latin typeface="Tahoma"/>
              </a:rPr>
              <a:t>28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258F-2513-4A76-9C96-63960A17199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21648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72K, Tecnologías de Información y Rediseño de Procesos                   Otoño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0920" y="1773000"/>
            <a:ext cx="716436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eaeaea"/>
                </a:solidFill>
                <a:latin typeface="Tahoma"/>
              </a:rPr>
              <a:t>Procesos  de Negocio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594480" y="5229360"/>
            <a:ext cx="2549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fael Hasbu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an Pablo Tor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blo Guajar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50920" y="1197000"/>
            <a:ext cx="7993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: Cadenas de supermercados, panaderías y amasanderí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Medio Ambiente: Esta formado, por la competencia, clientes, la molinera San Cristóbal y las compañías que formaron, la  alianza estratég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0920" y="1197000"/>
            <a:ext cx="79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Análisis de Beneficios del Rediseño del Proceso de vent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U= pq-C(q)-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Reducción de Costos en Pap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Reducción de Costos en Horas Homb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eaeaea"/>
                </a:solidFill>
                <a:latin typeface="Tahoma"/>
              </a:rPr>
              <a:t>Aumento de las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04000" y="3500280"/>
            <a:ext cx="0" cy="2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04000" y="3573360"/>
            <a:ext cx="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50920" y="119700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Que otras tecnologías tenemos detrás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ste proceso para coordinar, las demás funciones de la empres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ER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C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Q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1116000" y="1484280"/>
            <a:ext cx="74883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ahoma"/>
              </a:rPr>
              <a:t>Gran Proble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s métodos de trabajo son definidos para la función individual, no para optimizar el modo del trabajo, mediante el cual fluye la inform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1116000" y="1268280"/>
            <a:ext cx="748836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Por que se produce este gran problem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ceptu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ces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exige que se produzca un e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arrollo de produ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tregar  un serv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unció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departamento que concentra habilidades similares y las herramientas, y tiene su propia leng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gís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ursos Hum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1258920" y="2133720"/>
            <a:ext cx="748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¿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El Customer Relationship Managment (CRM), es una función o un even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1179000" y="270828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baste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79600" y="2708280"/>
            <a:ext cx="14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12720" y="2708280"/>
            <a:ext cx="21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3429000"/>
            <a:ext cx="5977080" cy="936720"/>
          </a:xfrm>
          <a:prstGeom prst="rightArrow">
            <a:avLst>
              <a:gd name="adj1" fmla="val 50000"/>
              <a:gd name="adj2" fmla="val 159522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54040" y="2021040"/>
            <a:ext cx="28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Tahoma"/>
              </a:rPr>
              <a:t>Departam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479736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Proceso De Negoci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28240" y="1341360"/>
            <a:ext cx="64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Diferencia entre función y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1116000" y="1484280"/>
            <a:ext cx="74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Otras Característica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d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utomat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ive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entes: internos y exter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1116000" y="148428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Razones para focalizarse en los clie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debe ser satisf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debe ser evalu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cliente es el pegamento del proces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116000" y="1484280"/>
            <a:ext cx="748836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66"/>
                </a:solidFill>
                <a:latin typeface="Tahoma"/>
              </a:rPr>
              <a:t>Casos Rea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Impuestos Intern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Carnet de Ident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aeaea"/>
                </a:solidFill>
                <a:latin typeface="Tahoma"/>
              </a:rPr>
              <a:t>Amaz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403280" y="1916280"/>
            <a:ext cx="727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Qué es un Proceso de Negoci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lementos Claves en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terminación del Alcance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ición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men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31880" y="134136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OBJE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1116000" y="1484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maz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25400" y="249228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67840" y="3789360"/>
            <a:ext cx="127044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Ban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96560" y="249228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6" idx="1"/>
            <a:endCxn id="274" idx="3"/>
          </p:cNvCxnSpPr>
          <p:nvPr/>
        </p:nvCxnSpPr>
        <p:spPr>
          <a:xfrm flipH="1">
            <a:off x="3192120" y="2766600"/>
            <a:ext cx="237384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8" name=""/>
          <p:cNvCxnSpPr>
            <a:stCxn id="279" idx="3"/>
            <a:endCxn id="275" idx="1"/>
          </p:cNvCxnSpPr>
          <p:nvPr/>
        </p:nvCxnSpPr>
        <p:spPr>
          <a:xfrm>
            <a:off x="3169800" y="4063680"/>
            <a:ext cx="246780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0" name=""/>
          <p:cNvCxnSpPr>
            <a:stCxn id="281" idx="1"/>
            <a:endCxn id="282" idx="3"/>
          </p:cNvCxnSpPr>
          <p:nvPr/>
        </p:nvCxnSpPr>
        <p:spPr>
          <a:xfrm flipH="1">
            <a:off x="3265200" y="5287680"/>
            <a:ext cx="2372400" cy="108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79" name=""/>
          <p:cNvSpPr/>
          <p:nvPr/>
        </p:nvSpPr>
        <p:spPr>
          <a:xfrm>
            <a:off x="1708920" y="378936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68200" y="5013360"/>
            <a:ext cx="14302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98480" y="501336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13680" y="2492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85320" y="3789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85320" y="508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1116000" y="1484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maz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49400" y="2492280"/>
            <a:ext cx="1546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du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99040" y="3213000"/>
            <a:ext cx="282492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rreo Pri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80360" y="2637000"/>
            <a:ext cx="157932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3" idx="1"/>
          </p:cNvCxnSpPr>
          <p:nvPr/>
        </p:nvCxnSpPr>
        <p:spPr>
          <a:xfrm flipH="1" flipV="1">
            <a:off x="2541240" y="2795400"/>
            <a:ext cx="721440" cy="69264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96" name=""/>
          <p:cNvCxnSpPr>
            <a:endCxn id="294" idx="1"/>
          </p:cNvCxnSpPr>
          <p:nvPr/>
        </p:nvCxnSpPr>
        <p:spPr>
          <a:xfrm flipV="1">
            <a:off x="5997240" y="2910960"/>
            <a:ext cx="1369080" cy="53280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97" name=""/>
          <p:cNvCxnSpPr>
            <a:stCxn id="292" idx="2"/>
          </p:cNvCxnSpPr>
          <p:nvPr/>
        </p:nvCxnSpPr>
        <p:spPr>
          <a:xfrm>
            <a:off x="1821960" y="3053880"/>
            <a:ext cx="1467720" cy="489600"/>
          </a:xfrm>
          <a:prstGeom prst="straightConnector1">
            <a:avLst/>
          </a:prstGeom>
          <a:ln w="60480">
            <a:solidFill>
              <a:srgbClr val="ffffff"/>
            </a:solidFill>
            <a:miter/>
            <a:tailEnd len="med" type="arrow" w="med"/>
          </a:ln>
        </p:spPr>
      </p:cxn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1116000" y="1341360"/>
            <a:ext cx="7488360" cy="59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lientes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ente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tudio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dquisición del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sarrollo del Produ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ente intern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cursos Hum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formá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3348000" y="2276640"/>
            <a:ext cx="2158920" cy="18716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48000" y="3573360"/>
            <a:ext cx="2158920" cy="18716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09320" y="2205000"/>
            <a:ext cx="29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 Ext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79160" y="393372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liente Int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96080" y="353376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Sinergiz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48000" y="126828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Cl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1116000" y="1341360"/>
            <a:ext cx="748836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Criterios de Definición de Lim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1.-EL proceso es evidente, pero no se reali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.-El cliente ve los procesos mas fácil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1116000" y="1341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ALCANCE DE UN PROCESO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87280" y="2421000"/>
            <a:ext cx="653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fine qué se considera importante para un Proceso de Negocio, por lo tanto, determina  qué debe ser incluido dentro del Proceso de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ENMARCANDO UN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06920" y="2060640"/>
            <a:ext cx="6334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ombre del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ventos que lo desencaden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sultados Log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lientes que reciben los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tros socios y resultados esper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ENMARCANDO UN PROCES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7720" y="2492280"/>
            <a:ext cx="655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talle de activ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ctores y R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ecanismos que soportan el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uración y frecuencia del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elación con otros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1116000" y="1341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Tahoma"/>
              </a:rPr>
              <a:t>MAPA GLOBAL DE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05640" y="189000"/>
            <a:ext cx="227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042920" y="1916280"/>
            <a:ext cx="78487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 un Set de Procesos de tipos similares que están relacionados, es decir, existen flujos significativos entre ellos, generalmente flujos de inform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Se utiliza para visualizar con claridad las modificaciones que genera en el mapa global un cambio en el Proceso de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628280"/>
            <a:ext cx="7164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Identificando el Proceso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1619280" y="2060640"/>
            <a:ext cx="7076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¿Dónde empez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truir un Mapa Global de Proc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ottom up: Identificación de actividades y “encadenamiento”  en un proc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entajas:  Detalle que se requi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xisten buenos analistas de deta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p Down: Identificación de los procesos más importantes a través de descomposición progres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1239840" y="3460680"/>
            <a:ext cx="124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23400" y="3141720"/>
            <a:ext cx="237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1440" y="3141720"/>
            <a:ext cx="28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Metodología 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c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35000" y="1773360"/>
            <a:ext cx="293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ncep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Fundamen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0920" y="4653000"/>
            <a:ext cx="316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dentificación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4" idx="3"/>
            <a:endCxn id="126" idx="1"/>
          </p:cNvCxnSpPr>
          <p:nvPr/>
        </p:nvCxnSpPr>
        <p:spPr>
          <a:xfrm flipV="1">
            <a:off x="3317760" y="2245680"/>
            <a:ext cx="1326240" cy="1369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29" name=""/>
          <p:cNvCxnSpPr>
            <a:stCxn id="124" idx="3"/>
            <a:endCxn id="125" idx="1"/>
          </p:cNvCxnSpPr>
          <p:nvPr/>
        </p:nvCxnSpPr>
        <p:spPr>
          <a:xfrm>
            <a:off x="3317760" y="3614400"/>
            <a:ext cx="118368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30" name=""/>
          <p:cNvCxnSpPr>
            <a:stCxn id="124" idx="3"/>
            <a:endCxn id="127" idx="1"/>
          </p:cNvCxnSpPr>
          <p:nvPr/>
        </p:nvCxnSpPr>
        <p:spPr>
          <a:xfrm>
            <a:off x="3317760" y="3614760"/>
            <a:ext cx="1326240" cy="15120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3569400" y="1268280"/>
            <a:ext cx="23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Árbol Lóg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1619280" y="1844640"/>
            <a:ext cx="7076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 a paso del Bottom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ormenta de ideas (brainsto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rticipan to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Material para empezar a trabaj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Lo básico de Tormenta de ide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 límite es el cie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ero críticas y evalu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Apreciar de 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ealizar una síntesis f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ventos de la Tormenta de ideas (brainstorm mileston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Identificar eventos, pues es más fácil, para luego ENGLOBARLOS en un proceso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or ejemplo: contrato establecido, pago recibido, 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02080" y="1268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Botto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1619280" y="1557360"/>
            <a:ext cx="707688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Paso a paso del Bottom up (continuació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lacionar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Renombrar en formato de verb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Por ej: Reservación, aceptación, fijar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Agrupar los eventos relacionando salidas y entrad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secuenciarlo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Identificar “cardinalidad” de cada rel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03280" y="465300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59280" y="465300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156360" y="472428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667640" y="4724280"/>
            <a:ext cx="79200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03200" y="4724280"/>
            <a:ext cx="103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dentific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spe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11280" y="4941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941720"/>
            <a:ext cx="1511280" cy="0"/>
          </a:xfrm>
          <a:prstGeom prst="line">
            <a:avLst/>
          </a:prstGeom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93080" y="4941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69880" y="4746600"/>
            <a:ext cx="53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j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716240" y="4746600"/>
            <a:ext cx="8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alcu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u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7480" y="4724280"/>
            <a:ext cx="10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rden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mbarq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16680" y="450864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91280" y="458136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M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3880" y="5589720"/>
            <a:ext cx="66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:1  Se tendrán varias ordenes de embarque antes de que se calcule la deu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46800" y="1125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Botto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"/>
          <p:cNvSpPr/>
          <p:nvPr/>
        </p:nvSpPr>
        <p:spPr>
          <a:xfrm>
            <a:off x="6877080" y="476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72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47640" y="1557360"/>
            <a:ext cx="70772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Ensamb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Agrupar aquellos eventos de cardinalidad 1:1 secuen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Los eventos de cardinalidad 1:M y M:1 no pueden seguir la anterior regla debido a que existen diferencias en cuanto a tiempos de ev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* Ventaja de la regla: Pequeñas actividades “nombran” actividad princip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09640" y="4319640"/>
            <a:ext cx="8654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365640" y="431964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33400" y="4386240"/>
            <a:ext cx="103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dentific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spe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17640" y="4608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76240" y="4413240"/>
            <a:ext cx="53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j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i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23040" y="417528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78360" y="4319640"/>
            <a:ext cx="8650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34000" y="4319640"/>
            <a:ext cx="86544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89520" y="4386240"/>
            <a:ext cx="104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ee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86360" y="4608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87560" y="4386240"/>
            <a:ext cx="10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stable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ntac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91760" y="417528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54560" y="45831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59960" y="414972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4076640"/>
            <a:ext cx="806616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795080" y="431496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DQUIRI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N CL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11640" y="5373720"/>
            <a:ext cx="4753080" cy="35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651640" y="5445000"/>
            <a:ext cx="17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SATISFACER ORDE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29272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06920" y="508464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1: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1619280" y="1406520"/>
            <a:ext cx="7076880" cy="53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Nombrar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Verbos de acción preferentem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Que de cuenta del RESULT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No confundirlos con funciones o departam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Recordar que: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Proceso esta asociado con cambio de estad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j: Recibimiento de embarq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tado final: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Recibido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en vez de </a:t>
            </a:r>
            <a:r>
              <a:rPr b="0" i="1" lang="es-ES" sz="2200" spc="-1" strike="noStrike">
                <a:solidFill>
                  <a:srgbClr val="ffffff"/>
                </a:solidFill>
                <a:latin typeface="Tahoma"/>
              </a:rPr>
              <a:t>pendi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* Incluir manuales y pasos de los procesos para necesidades futur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1547640" y="1413000"/>
            <a:ext cx="707724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dentificar el evento gatillan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Necesario para establecer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Lími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Puntos de partid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onfeccionar diagrama de navegació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Evento gatillante = Acción de un ACTO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Identificar aquellos que son eventos “protocolos”, aquellos que existen solo por burocraci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dentificar clien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No confundir objetivo (lo que se quiere lograr) con resultado (lo que se “obtiene” de un proces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¿Quiénes se benefician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* ¿Qué resultados se esperan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73240" y="1006560"/>
            <a:ext cx="566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ahoma"/>
              </a:rPr>
              <a:t>Identificación de evento y clien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2195640" y="1628640"/>
            <a:ext cx="5832360" cy="60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entificar eventos principales del proces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ra hacer más claro el objetivo del     proces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entificar ro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* Identificar aquellas trabajos relacionados con lo procesos de negocios identificad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* Los roles pueden ser externos: clientes, proveedore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43520" y="1150920"/>
            <a:ext cx="55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Tahoma"/>
              </a:rPr>
              <a:t>Identificación de Eventos y Ro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1476360" y="1252440"/>
            <a:ext cx="707724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Identificando un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Técnicas de identificación: Mapa global y Bottom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Bottom 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Tormenta de ideas -&gt; Material para trabaj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ción de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lacionar even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nsamblar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Nombrar proces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r evento gatillante -&gt; Mapa de naveg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Identificar cliente y ro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1476360" y="1252440"/>
            <a:ext cx="70772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os casos analizados en el paper y discutidos en clases hay una serie de errores, que se comet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ajo nivel conceptual de lo que significa un proceso de nego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confunden conceptos bás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 hay un análisis global del problema a solucion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s compañías no entienden que el principal factor a resolver son las personas y no la tecn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1476360" y="1252440"/>
            <a:ext cx="70772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ntajas de usar un enfoque hacia el cl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jora de los proces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 ventajas competitivas sobre el resto de la competencia (posibilidad de monopol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tiene una perspectiva clara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ianzas estratégicas entre compañ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"/>
          <p:cNvSpPr/>
          <p:nvPr/>
        </p:nvSpPr>
        <p:spPr>
          <a:xfrm>
            <a:off x="1476360" y="1252440"/>
            <a:ext cx="707724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comend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alizar todos los rediseños de proces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omando en cuenta la ecu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U=pq-c(q)-c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116000" y="1484280"/>
            <a:ext cx="748836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roceso de Negoc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Un proceso de negocios es un conjunto de tareas de trabajo interrelacionadas, iniciadas en respuesta a un evento, que logra un resultado especifico para el cliente del proceso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1476360" y="1252440"/>
            <a:ext cx="70772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Mala Noti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 menos las empresas Chilenas tienen en promedio malas practicas, en comparación con el resto del mundo, en el ámbito 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ee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ent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8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1476360" y="1252440"/>
            <a:ext cx="7077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Buenas Noti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y un nicho de mercado,  de varios millones de dólares, involucrados en el rediseños de procesos, de las empresa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042920" y="148428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020000" y="1628640"/>
            <a:ext cx="1584360" cy="151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010640" y="321300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molin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042920" y="1773360"/>
            <a:ext cx="1944720" cy="151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7093080" y="32846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92080" y="3357720"/>
            <a:ext cx="21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Cadena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supermerc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924360" y="4005360"/>
            <a:ext cx="1871640" cy="151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3276720" y="2205000"/>
            <a:ext cx="3024000" cy="485640"/>
          </a:xfrm>
          <a:prstGeom prst="leftRightArrow">
            <a:avLst>
              <a:gd name="adj1" fmla="val 50000"/>
              <a:gd name="adj2" fmla="val 12396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263700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edidos Vía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84480" y="574344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anader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54760" y="4797360"/>
            <a:ext cx="29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Pedidos medi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otra v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4005360"/>
            <a:ext cx="1871640" cy="718920"/>
          </a:xfrm>
          <a:custGeom>
            <a:avLst/>
            <a:gdLst>
              <a:gd name="textAreaLeft" fmla="*/ 867600 w 1871640"/>
              <a:gd name="textAreaRight" fmla="*/ 1644840 w 1871640"/>
              <a:gd name="textAreaTop" fmla="*/ 535320 h 718920"/>
              <a:gd name="textAreaBottom" fmla="*/ 631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8706"/>
                </a:moveTo>
                <a:lnTo>
                  <a:pt x="16086" y="18706"/>
                </a:lnTo>
                <a:lnTo>
                  <a:pt x="16086" y="10013"/>
                </a:lnTo>
                <a:lnTo>
                  <a:pt x="13466" y="10013"/>
                </a:lnTo>
                <a:lnTo>
                  <a:pt x="17533" y="0"/>
                </a:lnTo>
                <a:lnTo>
                  <a:pt x="21600" y="10013"/>
                </a:lnTo>
                <a:lnTo>
                  <a:pt x="18980" y="10013"/>
                </a:lnTo>
                <a:lnTo>
                  <a:pt x="189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4480" y="1125360"/>
            <a:ext cx="31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Medio Amb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1042920" y="2060640"/>
            <a:ext cx="8101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1.-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l Resultado de la Apli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isminuir los tiempos de entre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umentar el nivel de resp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2.-El Cliente: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umento del tiempo de respu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3.-El trigger: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gún pedido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05120" y="1341360"/>
            <a:ext cx="68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042920" y="1484280"/>
            <a:ext cx="64850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.-Las tare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baste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lmacena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ntrol de Inve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Ventas y atención a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Despa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5.-Interrel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oordinación entre las      t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28080" y="1125360"/>
            <a:ext cx="68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de un proceso de Nego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2050920" y="83664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Tahoma"/>
              </a:rPr>
              <a:t>Elementos Constitu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1773360"/>
            <a:ext cx="4578480" cy="4248000"/>
          </a:xfrm>
          <a:prstGeom prst="ellipse">
            <a:avLst/>
          </a:prstGeom>
          <a:solidFill>
            <a:srgbClr val="00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514600"/>
            <a:ext cx="2558880" cy="2558880"/>
          </a:xfrm>
          <a:prstGeom prst="triangle">
            <a:avLst>
              <a:gd name="adj" fmla="val 49986"/>
            </a:avLst>
          </a:prstGeom>
          <a:solidFill>
            <a:srgbClr val="ffff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2133720"/>
            <a:ext cx="42552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4876920"/>
            <a:ext cx="42516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4876920"/>
            <a:ext cx="425520" cy="425160"/>
          </a:xfrm>
          <a:prstGeom prst="ellipse">
            <a:avLst/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0360" y="5229360"/>
            <a:ext cx="99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g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4600" y="175248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86920" y="5229360"/>
            <a:ext cx="170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cn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0920" y="2924280"/>
            <a:ext cx="248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8920" y="3068640"/>
            <a:ext cx="248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3733920"/>
            <a:ext cx="419040" cy="3999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59840" y="4076640"/>
            <a:ext cx="1259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c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3645000"/>
            <a:ext cx="1141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9280" y="386064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80360" y="3645000"/>
            <a:ext cx="1141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8920" y="3860640"/>
            <a:ext cx="11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1197000"/>
            <a:ext cx="716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2660760" y="2962440"/>
            <a:ext cx="674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533520" cy="93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971640" y="189000"/>
          <a:ext cx="4608360" cy="823680"/>
        </p:xfrm>
        <a:graphic>
          <a:graphicData uri="http://schemas.openxmlformats.org/drawingml/2006/table">
            <a:tbl>
              <a:tblPr/>
              <a:tblGrid>
                <a:gridCol w="812880"/>
                <a:gridCol w="3795480"/>
              </a:tblGrid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VERSIDAD DE CH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cultad de Ciencias Físicas y Mate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artamento de Ingeniería Industr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187280" y="1268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50920" y="1197000"/>
            <a:ext cx="7993080" cy="76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Producto : Harina de trigo, arroz, avena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subprodu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Gente: Vendedores de 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Empresa, y el resto de los emple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ecnología: Palm, Teléfo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elul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6680" y="18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aso Soft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00160" y="1157400"/>
            <a:ext cx="72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Elementos Constitu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04:23:25Z</dcterms:created>
  <dc:creator>hasbul</dc:creator>
  <dc:description/>
  <dc:language>en-US</dc:language>
  <cp:lastModifiedBy>Samuel</cp:lastModifiedBy>
  <dcterms:modified xsi:type="dcterms:W3CDTF">2003-03-24T21:16:02Z</dcterms:modified>
  <cp:revision>31</cp:revision>
  <dc:subject/>
  <dc:title> Procesos  de Negoci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94905270</vt:r8>
  </property>
  <property fmtid="{D5CDD505-2E9C-101B-9397-08002B2CF9AE}" pid="3" name="_AuthorEmail">
    <vt:lpwstr>hasbunj@vtr.net</vt:lpwstr>
  </property>
  <property fmtid="{D5CDD505-2E9C-101B-9397-08002B2CF9AE}" pid="4" name="_AuthorEmailDisplayName">
    <vt:lpwstr>Rafael Hasbun</vt:lpwstr>
  </property>
  <property fmtid="{D5CDD505-2E9C-101B-9397-08002B2CF9AE}" pid="5" name="_EmailSubject">
    <vt:lpwstr>Rafael Hasbun, in72k, Presentación</vt:lpwstr>
  </property>
  <property fmtid="{D5CDD505-2E9C-101B-9397-08002B2CF9AE}" pid="6" name="_PreviousAdHocReviewCycleID">
    <vt:r8>1450680906</vt:r8>
  </property>
  <property fmtid="{D5CDD505-2E9C-101B-9397-08002B2CF9AE}" pid="7" name="_ReviewingToolsShownOnce">
    <vt:lpwstr/>
  </property>
</Properties>
</file>