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78D-8BCE-4C2A-95F0-AB230B9D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8AB-B81C-4498-A808-32F163AC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C19-2F93-4F33-A2A6-C1DAE9A5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EDD6-CFB5-4CFE-9674-61114DCC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579-3373-43C4-B668-F66AC8FE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12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206-C9EE-44E9-8295-C1348D76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D58-2A0D-4E6F-9E85-CD64FE72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933-03EA-4EA9-9B7F-7D71777D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260-FFF9-4419-B065-E59B8CA2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877-2A20-4135-A380-2AE28B5B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B7A1-513C-44F4-8143-749D5843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7CA-B71C-4024-8FF4-DDAEAC9A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12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"/>
          <p:cNvSpPr/>
          <p:nvPr/>
        </p:nvSpPr>
        <p:spPr>
          <a:xfrm>
            <a:off x="1042920" y="623736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2679840" y="6180120"/>
            <a:ext cx="58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-603360"/>
            <a:ext cx="9140760" cy="6851520"/>
            <a:chOff x="0" y="-60336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233360"/>
              <a:ext cx="9140760" cy="5014800"/>
              <a:chOff x="0" y="123336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23336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23336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90000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22364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22364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-603360"/>
              <a:ext cx="8588160" cy="6851520"/>
              <a:chOff x="552600" y="-60336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-60336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196668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22364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156672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49968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22364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35EC-56A6-42F9-951E-94133684CB6B}" type="datetime">
              <a:rPr b="0" lang="es-ES" sz="1000" spc="-1" strike="noStrike">
                <a:solidFill>
                  <a:srgbClr val="ffffff"/>
                </a:solidFill>
                <a:latin typeface="Tahoma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1327-A4AD-4D87-968B-819DC45E631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21648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72K, Tecnologías de Información y Rediseño de Procesos                   Otoño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0920" y="1773000"/>
            <a:ext cx="716436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ahoma"/>
              </a:rPr>
              <a:t>Procesos  de Negocio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94480" y="5229360"/>
            <a:ext cx="2549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fael Hasbu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an Pablo Tor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blo Guajar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50920" y="1197000"/>
            <a:ext cx="7993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: Cadenas de supermercados, panaderías y amasanderí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edio Ambiente: Esta formado, por la competencia, clientes, la molinera San Cristóbal y las compañías que formaron, la  alianza estratég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1197000"/>
            <a:ext cx="79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Análisis de Beneficios del Rediseño del Proceso de ve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U= pq-C(q)-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Reducción de Costos en Pa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Reducción de Costos en Horas Hom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Aumento de las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04000" y="350028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4000" y="3573360"/>
            <a:ext cx="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50920" y="119700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Que otras tecnologías tenemos detrás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ste proceso para coordinar, las demás funciones de la empres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ER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C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Q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116000" y="1484280"/>
            <a:ext cx="74883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ahoma"/>
              </a:rPr>
              <a:t>Gran Proble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s métodos de trabajo son definidos para la función individual, no para optimizar el modo del trabajo, mediante el cual fluye l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1116000" y="1268280"/>
            <a:ext cx="74883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Por que se produce este gran problem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ceptu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ces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exige que se produzca un e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arrollo de produ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regar  un serv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unció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departamento que concentra habilidades similares y las herramientas, y tiene su propia leng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gís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258920" y="2133720"/>
            <a:ext cx="74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l Customer Relationship Managment (CRM), es una función o un even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1179000" y="270828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bast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600" y="270828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2720" y="270828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3429000"/>
            <a:ext cx="5977080" cy="936720"/>
          </a:xfrm>
          <a:prstGeom prst="rightArrow">
            <a:avLst>
              <a:gd name="adj1" fmla="val 50000"/>
              <a:gd name="adj2" fmla="val 159522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54040" y="2021040"/>
            <a:ext cx="28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Departa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79736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Proceso De Negoci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28240" y="1341360"/>
            <a:ext cx="64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iferencia entre función y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116000" y="148428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Otras Característica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d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utomat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ive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entes: internos y exte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1116000" y="148428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Razones para focalizarse en los cli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debe ser satisf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debe ser evalu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es el pegamento del proces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116000" y="1484280"/>
            <a:ext cx="748836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66"/>
                </a:solidFill>
                <a:latin typeface="Tahoma"/>
              </a:rPr>
              <a:t>Casos Re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Impuestos Intern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Carnet de Ident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maz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403280" y="1916280"/>
            <a:ext cx="72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es un Proceso de Negoc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ementos Claves en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terminación del Alcance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en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31880" y="134136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OBJE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111600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maz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25400" y="249228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67840" y="3789360"/>
            <a:ext cx="127044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n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96560" y="249228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6" idx="1"/>
            <a:endCxn id="274" idx="3"/>
          </p:cNvCxnSpPr>
          <p:nvPr/>
        </p:nvCxnSpPr>
        <p:spPr>
          <a:xfrm flipH="1">
            <a:off x="3192120" y="2766600"/>
            <a:ext cx="237384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8" name=""/>
          <p:cNvCxnSpPr>
            <a:stCxn id="279" idx="3"/>
            <a:endCxn id="275" idx="1"/>
          </p:cNvCxnSpPr>
          <p:nvPr/>
        </p:nvCxnSpPr>
        <p:spPr>
          <a:xfrm>
            <a:off x="3169800" y="4063680"/>
            <a:ext cx="246780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0" name=""/>
          <p:cNvCxnSpPr>
            <a:stCxn id="281" idx="1"/>
            <a:endCxn id="282" idx="3"/>
          </p:cNvCxnSpPr>
          <p:nvPr/>
        </p:nvCxnSpPr>
        <p:spPr>
          <a:xfrm flipH="1">
            <a:off x="3265200" y="5287680"/>
            <a:ext cx="237240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79" name=""/>
          <p:cNvSpPr/>
          <p:nvPr/>
        </p:nvSpPr>
        <p:spPr>
          <a:xfrm>
            <a:off x="1708920" y="378936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68200" y="501336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98480" y="501336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3680" y="2492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8532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8532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111600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maz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49400" y="249228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99040" y="3213000"/>
            <a:ext cx="28249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rre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80360" y="2637000"/>
            <a:ext cx="15793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3" idx="1"/>
          </p:cNvCxnSpPr>
          <p:nvPr/>
        </p:nvCxnSpPr>
        <p:spPr>
          <a:xfrm flipH="1" flipV="1">
            <a:off x="2541240" y="2795400"/>
            <a:ext cx="721440" cy="69264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6" name=""/>
          <p:cNvCxnSpPr>
            <a:endCxn id="294" idx="1"/>
          </p:cNvCxnSpPr>
          <p:nvPr/>
        </p:nvCxnSpPr>
        <p:spPr>
          <a:xfrm flipV="1">
            <a:off x="5997240" y="2910960"/>
            <a:ext cx="1369080" cy="53280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7" name=""/>
          <p:cNvCxnSpPr>
            <a:stCxn id="292" idx="2"/>
          </p:cNvCxnSpPr>
          <p:nvPr/>
        </p:nvCxnSpPr>
        <p:spPr>
          <a:xfrm>
            <a:off x="1821960" y="3053880"/>
            <a:ext cx="1467720" cy="48960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116000" y="1341360"/>
            <a:ext cx="748836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entes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udio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quisición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arrollo del Produ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 intern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form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3348000" y="2276640"/>
            <a:ext cx="2158920" cy="18716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73360"/>
            <a:ext cx="2158920" cy="1871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09320" y="220500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 Ex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79160" y="393372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 In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96080" y="353376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inergiz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0" y="12682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l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1116000" y="1341360"/>
            <a:ext cx="748836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riterios de Definición de Lim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1.-EL proceso es evidente, pero no se re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.-El cliente ve los procesos mas fácil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1116000" y="1341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ALCANCE DE UN PROCES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2421000"/>
            <a:ext cx="653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e qué se considera importante para un Proceso de Negocio, por lo tanto, determina  qué debe ser incluido dentro del Proceso de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ENMARCANDO UN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06920" y="2060640"/>
            <a:ext cx="633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mbre del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ventos que lo desencade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sultados Log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lientes que reciben los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ros socios y resultados espe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ENMARCANDO UN PROCES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7720" y="2492280"/>
            <a:ext cx="655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talle de activ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ores y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anismos que soportan 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ción y frecuencia d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lación con otros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MAPA GLOBAL DE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2920" y="1916280"/>
            <a:ext cx="78487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Set de Procesos de tipos similares que están relacionados, es decir, existen flujos significativos entre ellos, generalmente flujos de inform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utiliza para visualizar con claridad las modificaciones que genera en el mapa global un cambio en el Proceso de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628280"/>
            <a:ext cx="716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Identificando el Proceso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1619280" y="2060640"/>
            <a:ext cx="707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Dónde empez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truir un Mapa Global de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ottom up: Identificación de actividades y “encadenamiento”  en un proc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entajas:  Detalle que se requi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xisten buenos analistas de deta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p Down: Identificación de los procesos más importantes a través de descomposición progres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1239840" y="3460680"/>
            <a:ext cx="124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3400" y="3141720"/>
            <a:ext cx="237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1440" y="3141720"/>
            <a:ext cx="28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etodología 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c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35000" y="1773360"/>
            <a:ext cx="29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ncep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undamen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0920" y="4653000"/>
            <a:ext cx="316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dentificac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126" idx="1"/>
          </p:cNvCxnSpPr>
          <p:nvPr/>
        </p:nvCxnSpPr>
        <p:spPr>
          <a:xfrm flipV="1">
            <a:off x="3317760" y="2245680"/>
            <a:ext cx="1326240" cy="1369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29" name=""/>
          <p:cNvCxnSpPr>
            <a:stCxn id="124" idx="3"/>
            <a:endCxn id="125" idx="1"/>
          </p:cNvCxnSpPr>
          <p:nvPr/>
        </p:nvCxnSpPr>
        <p:spPr>
          <a:xfrm>
            <a:off x="3317760" y="3614400"/>
            <a:ext cx="11836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30" name=""/>
          <p:cNvCxnSpPr>
            <a:stCxn id="124" idx="3"/>
            <a:endCxn id="127" idx="1"/>
          </p:cNvCxnSpPr>
          <p:nvPr/>
        </p:nvCxnSpPr>
        <p:spPr>
          <a:xfrm>
            <a:off x="3317760" y="3614760"/>
            <a:ext cx="1326240" cy="15120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3569400" y="126828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Árbol Ló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1619280" y="1844640"/>
            <a:ext cx="70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 a paso del Bottom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ormenta de ideas (brainsto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rticipan to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terial para empezar a trabaj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Lo básico de Tormenta de ide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límite es el cie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ero críticas y evalu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preciar de 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alizar una síntesis f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ventos de la Tormenta de ideas (brainstorm milesto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dentificar eventos, pues es más fácil, para luego ENGLOBARLOS en un proceso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r ejemplo: contrato establecido, pago recibido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02080" y="1268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1619280" y="1557360"/>
            <a:ext cx="707688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aso a paso del Bottom up (continuació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lacionar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Renombrar en formato de verb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or ej: Reservación, aceptación, fijar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Agrupar los eventos relacionando salidas y entra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secuenciarlo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Identificar “cardinalidad” de cada rel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465300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59280" y="465300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56360" y="472428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67640" y="4724280"/>
            <a:ext cx="7920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03200" y="472428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dentifi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spe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11280" y="4941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94172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93080" y="4941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69880" y="474660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j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716240" y="4746600"/>
            <a:ext cx="8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alcu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7480" y="4724280"/>
            <a:ext cx="10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den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mbarq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16680" y="45086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91280" y="458136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3880" y="5589720"/>
            <a:ext cx="66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:1  Se tendrán varias ordenes de embarque antes de que se calcule la de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46800" y="1125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6877080" y="476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72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47640" y="1557360"/>
            <a:ext cx="70772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Ensamb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Agrupar aquellos eventos de cardinalidad 1:1 secuen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Los eventos de cardinalidad 1:M y M:1 no pueden seguir la anterior regla debido a que existen diferencias en cuanto a tiempos de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Ventaja de la regla: Pequeñas actividades “nombran” actividad princi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09640" y="4319640"/>
            <a:ext cx="86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65640" y="431964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33400" y="438624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dentifi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spe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17640" y="4608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76240" y="441324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j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23040" y="417528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78360" y="431964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34000" y="4319640"/>
            <a:ext cx="86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89520" y="4386240"/>
            <a:ext cx="10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86360" y="4608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87560" y="4386240"/>
            <a:ext cx="10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stable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ta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91760" y="417528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54560" y="45831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59960" y="414972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4076640"/>
            <a:ext cx="806616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795080" y="431496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DQUIR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N CL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11640" y="5373720"/>
            <a:ext cx="4753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51640" y="5445000"/>
            <a:ext cx="17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ATISFACER ORD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927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6920" y="508464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1619280" y="1406520"/>
            <a:ext cx="707688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Nombrar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Verbos de acción preferentem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Que de cuenta del RESULT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No confundirlos con funciones o departam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Recordar que: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Proceso esta asociado con cambio de est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j: Recibimiento de embarq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tado final: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Recibido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en vez de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pendi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Incluir manuales y pasos de los procesos para necesidades futur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1547640" y="1413000"/>
            <a:ext cx="707724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dentificar el evento gatillan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Necesario para establecer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Lími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Puntos de partid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onfeccionar diagrama de navegació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Evento gatillante = Acción de un 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Identificar aquellos que son eventos “protocolos”, aquellos que existen solo por burocraci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dentificar clien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No confundir objetivo (lo que se quiere lograr) con resultado (lo que se “obtiene” de un proces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¿Quiénes se beneficia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¿Qué resultados se espera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73240" y="1006560"/>
            <a:ext cx="566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ahoma"/>
              </a:rPr>
              <a:t>Identificación de evento y clie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2195640" y="1628640"/>
            <a:ext cx="583236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car eventos principales del proce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ra hacer más claro el objetivo del     proce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car ro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* Identificar aquellas trabajos relacionados con lo procesos de negocios identificad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* Los roles pueden ser externos: clientes, proveedore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43520" y="1150920"/>
            <a:ext cx="55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ahoma"/>
              </a:rPr>
              <a:t>Identificación de Eventos y Ro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1476360" y="1252440"/>
            <a:ext cx="707724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Identificando un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Técnicas de identificación: Mapa global y Botto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Botto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Tormenta de ideas -&gt; Material para trabaj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ción de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lacionar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nsamblar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Nombrar proces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r evento gatillante -&gt; Mapa de naveg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r cliente y ro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1476360" y="1252440"/>
            <a:ext cx="7077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casos analizados en el paper y discutidos en clases hay una serie de errores, que se comet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ajo nivel conceptual de lo que significa un proceso de nego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confunden conceptos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un análisis global del problema a solucion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compañías no entienden que el principal factor a resolver son las personas y no la 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1476360" y="1252440"/>
            <a:ext cx="70772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ntajas de usar un enfoque hacia el cl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jora de los 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 ventajas competitivas sobre el resto de la competencia (posibilidad de monopol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iene una perspectiva clara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ianzas estratégicas entre compañ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>
            <a:off x="1476360" y="1252440"/>
            <a:ext cx="70772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comend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alizar todos los rediseños de proces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mando en cuenta la ecu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U=pq-c(q)-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116000" y="1484280"/>
            <a:ext cx="748836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roceso de Negoc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Un proceso de negocios es un conjunto de tareas de trabajo interrelacionadas, iniciadas en respuesta a un evento, que logra un resultado especifico para el cliente del proces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1476360" y="1252440"/>
            <a:ext cx="70772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ala Noti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 menos las empresas Chilenas tienen en promedio malas practicas, en comparación con el resto del mundo, en el ámbito 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ent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1476360" y="1252440"/>
            <a:ext cx="70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Buenas Noti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y un nicho de mercado,  de varios millones de dólares, involucrados en el rediseños de procesos, de las empres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042920" y="148428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20000" y="1628640"/>
            <a:ext cx="158436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010640" y="32130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olin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042920" y="1773360"/>
            <a:ext cx="1944720" cy="151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7093080" y="3284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2080" y="3357720"/>
            <a:ext cx="21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Cadena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supermer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924360" y="4005360"/>
            <a:ext cx="187164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3276720" y="2205000"/>
            <a:ext cx="3024000" cy="485640"/>
          </a:xfrm>
          <a:prstGeom prst="leftRightArrow">
            <a:avLst>
              <a:gd name="adj1" fmla="val 50000"/>
              <a:gd name="adj2" fmla="val 12396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263700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edidos Vía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84480" y="574344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anade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54760" y="4797360"/>
            <a:ext cx="29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edidos medi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tra v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4005360"/>
            <a:ext cx="1871640" cy="718920"/>
          </a:xfrm>
          <a:custGeom>
            <a:avLst/>
            <a:gdLst>
              <a:gd name="textAreaLeft" fmla="*/ 867600 w 1871640"/>
              <a:gd name="textAreaRight" fmla="*/ 1644840 w 1871640"/>
              <a:gd name="textAreaTop" fmla="*/ 535320 h 718920"/>
              <a:gd name="textAreaBottom" fmla="*/ 631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8706"/>
                </a:moveTo>
                <a:lnTo>
                  <a:pt x="16086" y="18706"/>
                </a:lnTo>
                <a:lnTo>
                  <a:pt x="16086" y="10013"/>
                </a:lnTo>
                <a:lnTo>
                  <a:pt x="13466" y="10013"/>
                </a:lnTo>
                <a:lnTo>
                  <a:pt x="17533" y="0"/>
                </a:lnTo>
                <a:lnTo>
                  <a:pt x="21600" y="10013"/>
                </a:lnTo>
                <a:lnTo>
                  <a:pt x="18980" y="10013"/>
                </a:lnTo>
                <a:lnTo>
                  <a:pt x="189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4480" y="112536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Medi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1042920" y="2060640"/>
            <a:ext cx="8101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1.-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Resultado de la Apli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isminuir los tiempos de entre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umentar el nivel de res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.-El Cliente: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umento del tiempo de res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3.-El trigger: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ún pedido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5120" y="134136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042920" y="1484280"/>
            <a:ext cx="64850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.-Las tar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bast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macena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ntrol de Inve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Ventas y atención a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espa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5.-Interrel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ordinación entre las      t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28080" y="1125360"/>
            <a:ext cx="68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2050920" y="83664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Tahoma"/>
              </a:rPr>
              <a:t>Elementos Constitu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1773360"/>
            <a:ext cx="4578480" cy="4248000"/>
          </a:xfrm>
          <a:prstGeom prst="ellipse">
            <a:avLst/>
          </a:prstGeom>
          <a:solidFill>
            <a:srgbClr val="00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514600"/>
            <a:ext cx="2558880" cy="2558880"/>
          </a:xfrm>
          <a:prstGeom prst="triangle">
            <a:avLst>
              <a:gd name="adj" fmla="val 49986"/>
            </a:avLst>
          </a:prstGeom>
          <a:solidFill>
            <a:srgbClr val="ffff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2133720"/>
            <a:ext cx="42552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4876920"/>
            <a:ext cx="42516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4876920"/>
            <a:ext cx="42552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5229360"/>
            <a:ext cx="99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4600" y="175248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6920" y="5229360"/>
            <a:ext cx="170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0920" y="292428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8920" y="306864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3733920"/>
            <a:ext cx="419040" cy="399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59840" y="4076640"/>
            <a:ext cx="1259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645000"/>
            <a:ext cx="1141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9280" y="38606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80360" y="3645000"/>
            <a:ext cx="1141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8920" y="38606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50920" y="1197000"/>
            <a:ext cx="799308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to : Harina de trigo, arroz, avena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ubprodu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Gente: Vendedores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mpresa, y el resto de los emple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ecnología: Palm, Teléfo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elu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00160" y="1157400"/>
            <a:ext cx="72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Constitu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04:23:25Z</dcterms:created>
  <dc:creator>hasbul</dc:creator>
  <dc:description/>
  <dc:language>en-US</dc:language>
  <cp:lastModifiedBy>Samuel</cp:lastModifiedBy>
  <dcterms:modified xsi:type="dcterms:W3CDTF">2003-03-24T21:16:02Z</dcterms:modified>
  <cp:revision>31</cp:revision>
  <dc:subject/>
  <dc:title> Procesos  de Negoc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94905270</vt:r8>
  </property>
  <property fmtid="{D5CDD505-2E9C-101B-9397-08002B2CF9AE}" pid="3" name="_AuthorEmail">
    <vt:lpwstr>hasbunj@vtr.net</vt:lpwstr>
  </property>
  <property fmtid="{D5CDD505-2E9C-101B-9397-08002B2CF9AE}" pid="4" name="_AuthorEmailDisplayName">
    <vt:lpwstr>Rafael Hasbun</vt:lpwstr>
  </property>
  <property fmtid="{D5CDD505-2E9C-101B-9397-08002B2CF9AE}" pid="5" name="_EmailSubject">
    <vt:lpwstr>Rafael Hasbun, in72k, Presentación</vt:lpwstr>
  </property>
  <property fmtid="{D5CDD505-2E9C-101B-9397-08002B2CF9AE}" pid="6" name="_PreviousAdHocReviewCycleID">
    <vt:r8>1450680906</vt:r8>
  </property>
  <property fmtid="{D5CDD505-2E9C-101B-9397-08002B2CF9AE}" pid="7" name="_ReviewingToolsShownOnce">
    <vt:lpwstr/>
  </property>
</Properties>
</file>