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1EC-B0F1-4CE7-9637-52536C81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68A-4342-4899-8975-CC7B0A1E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5A6-6B45-4843-9417-AE634C9F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0EB-7DC5-4D18-9490-0DC996AE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1DE-4875-4ABB-86B2-E7ADC5DF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14C-6D94-4534-9684-A4BC5F88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D40-F0BE-4378-A85B-EBD22DD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113-9FC5-4097-A7D2-9C55E1E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F05-1176-4981-A076-FC62246A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118-DC08-43B0-B7E1-7FFD3B9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283-66A8-47AC-90AA-640AEE50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033-F9C7-4D86-8AC2-67EEA481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"/>
          <p:cNvSpPr/>
          <p:nvPr/>
        </p:nvSpPr>
        <p:spPr>
          <a:xfrm>
            <a:off x="1042920" y="6237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679840" y="6180120"/>
            <a:ext cx="58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-603360"/>
            <a:ext cx="9140760" cy="6851520"/>
            <a:chOff x="0" y="-60336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233360"/>
              <a:ext cx="9140760" cy="5014800"/>
              <a:chOff x="0" y="123336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23336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23336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90000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22364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2364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-603360"/>
              <a:ext cx="8588160" cy="6851520"/>
              <a:chOff x="552600" y="-60336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-60336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96668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22364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156672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49968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22364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4F0-68F7-4346-951D-E7D00728A20C}" type="datetime">
              <a:rPr b="0" lang="es-ES" sz="10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561C-C1A9-4508-8522-BB7C5D8D390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21648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, Tecnologías de Información y Rediseño de Procesos                   Otoño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0920" y="1773000"/>
            <a:ext cx="71643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ahoma"/>
              </a:rPr>
              <a:t>Procesos  de Negoci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94480" y="5229360"/>
            <a:ext cx="2549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fael Hasb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an Pablo Tor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blo Guaja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0920" y="1197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: Cadenas de supermercados, panaderías y amasander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dio Ambiente: Esta formado, por la competencia, clientes, la molinera San Cristóbal y las compañías que formaron, la  alianza estraté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119700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Análisis de Beneficios del Rediseño del Proceso de v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U= pq-C(q)-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Horas Ho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Aumento de las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350028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357336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0920" y="119700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Que otras tecnologías tenemos detrá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ste proceso para coordinar, las demás funciones de la empres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E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Q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116000" y="1484280"/>
            <a:ext cx="74883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Gran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s métodos de trabajo son definidos para la función individual, no para optimizar el modo del trabajo, mediante el cual fluye l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116000" y="1268280"/>
            <a:ext cx="7488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Por que se produce este gran problem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pt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ces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exige que se produzca un e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 produ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gar  un serv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ió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departamento que concentra habilidades similares y las herramientas, y tiene su propia len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gí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258920" y="213372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l Customer Relationship Managment (CRM), es una función o un eve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179000" y="270828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0" y="27082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2720" y="270828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3429000"/>
            <a:ext cx="5977080" cy="936720"/>
          </a:xfrm>
          <a:prstGeom prst="rightArrow">
            <a:avLst>
              <a:gd name="adj1" fmla="val 50000"/>
              <a:gd name="adj2" fmla="val 15952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54040" y="202104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Departa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797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roceso De Negoci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28240" y="1341360"/>
            <a:ext cx="64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iferencia entre función y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116000" y="14842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Otras Característica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utomat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v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entes: internos y exte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1116000" y="1484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Razones para focalizarse en los cl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satisf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evalu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es el pegamento del proce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116000" y="1484280"/>
            <a:ext cx="748836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Tahoma"/>
              </a:rPr>
              <a:t>Casos Re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Impuestos Intern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Carnet de Ident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maz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403280" y="1916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es un Proceso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ementos Claves en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erminación del Alcance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1880" y="134136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OBJE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25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67840" y="3789360"/>
            <a:ext cx="12704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n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96560" y="249228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1"/>
            <a:endCxn id="274" idx="3"/>
          </p:cNvCxnSpPr>
          <p:nvPr/>
        </p:nvCxnSpPr>
        <p:spPr>
          <a:xfrm flipH="1">
            <a:off x="3192120" y="2766600"/>
            <a:ext cx="237384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8" name=""/>
          <p:cNvCxnSpPr>
            <a:stCxn id="279" idx="3"/>
            <a:endCxn id="275" idx="1"/>
          </p:cNvCxnSpPr>
          <p:nvPr/>
        </p:nvCxnSpPr>
        <p:spPr>
          <a:xfrm>
            <a:off x="3169800" y="4063680"/>
            <a:ext cx="24678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0" name=""/>
          <p:cNvCxnSpPr>
            <a:stCxn id="281" idx="1"/>
            <a:endCxn id="282" idx="3"/>
          </p:cNvCxnSpPr>
          <p:nvPr/>
        </p:nvCxnSpPr>
        <p:spPr>
          <a:xfrm flipH="1">
            <a:off x="3265200" y="5287680"/>
            <a:ext cx="23724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79" name=""/>
          <p:cNvSpPr/>
          <p:nvPr/>
        </p:nvSpPr>
        <p:spPr>
          <a:xfrm>
            <a:off x="1708920" y="3789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68200" y="5013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8480" y="501336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3680" y="2492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8532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8532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9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99040" y="3213000"/>
            <a:ext cx="28249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rre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0360" y="2637000"/>
            <a:ext cx="15793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3" idx="1"/>
          </p:cNvCxnSpPr>
          <p:nvPr/>
        </p:nvCxnSpPr>
        <p:spPr>
          <a:xfrm flipH="1" flipV="1">
            <a:off x="2541240" y="2795400"/>
            <a:ext cx="721440" cy="69264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6" name=""/>
          <p:cNvCxnSpPr>
            <a:endCxn id="294" idx="1"/>
          </p:cNvCxnSpPr>
          <p:nvPr/>
        </p:nvCxnSpPr>
        <p:spPr>
          <a:xfrm flipV="1">
            <a:off x="5997240" y="2910960"/>
            <a:ext cx="1369080" cy="5328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7" name=""/>
          <p:cNvCxnSpPr>
            <a:stCxn id="292" idx="2"/>
          </p:cNvCxnSpPr>
          <p:nvPr/>
        </p:nvCxnSpPr>
        <p:spPr>
          <a:xfrm>
            <a:off x="1821960" y="3053880"/>
            <a:ext cx="1467720" cy="4896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116000" y="1341360"/>
            <a:ext cx="748836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ente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udio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quisición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l 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intern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or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3348000" y="2276640"/>
            <a:ext cx="2158920" cy="18716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73360"/>
            <a:ext cx="2158920" cy="1871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09320" y="22050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Ex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7916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In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6080" y="353376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inergiz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1268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116000" y="1341360"/>
            <a:ext cx="74883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riterios de Definición de Li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.-EL proceso es evidente, pero no se re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 ve los procesos mas fácil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116000" y="1341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ALCANCE DE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2421000"/>
            <a:ext cx="653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e qué se considera importante para un Proceso de Negocio, por lo tanto, determina  qué debe ser incluido dentro d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06920" y="2060640"/>
            <a:ext cx="633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mbre del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ventos que lo desencade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sultados Log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ientes que reciben lo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os socios y resultados espe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7720" y="2492280"/>
            <a:ext cx="655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alle de ac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ores y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anismos que soportan 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ción y frecuencia d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lación con otros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MAPA GLOBAL DE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1916280"/>
            <a:ext cx="78487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Set de Procesos de tipos similares que están relacionados, es decir, existen flujos significativos entre ellos, generalmente flujos de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utiliza para visualizar con claridad las modificaciones que genera en el mapa global un cambio en 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1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Identificando el Proceso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1619280" y="2060640"/>
            <a:ext cx="707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Dónde empez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ir un Mapa Global de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ottom up: Identificación de actividades y “encadenamiento”  en un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ntajas:  Detalle que se requ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buenos analistas de deta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p Down: Identificación de los procesos más importantes a través de descomposición progre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239840" y="3460680"/>
            <a:ext cx="124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3400" y="3141720"/>
            <a:ext cx="23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1440" y="314172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todología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35000" y="1773360"/>
            <a:ext cx="29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cep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undam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0920" y="4653000"/>
            <a:ext cx="316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icac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 flipV="1">
            <a:off x="3317760" y="2245680"/>
            <a:ext cx="1326240" cy="1369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29" name=""/>
          <p:cNvCxnSpPr>
            <a:stCxn id="124" idx="3"/>
            <a:endCxn id="125" idx="1"/>
          </p:cNvCxnSpPr>
          <p:nvPr/>
        </p:nvCxnSpPr>
        <p:spPr>
          <a:xfrm>
            <a:off x="3317760" y="3614400"/>
            <a:ext cx="11836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30" name=""/>
          <p:cNvCxnSpPr>
            <a:stCxn id="124" idx="3"/>
            <a:endCxn id="127" idx="1"/>
          </p:cNvCxnSpPr>
          <p:nvPr/>
        </p:nvCxnSpPr>
        <p:spPr>
          <a:xfrm>
            <a:off x="3317760" y="3614760"/>
            <a:ext cx="1326240" cy="15120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3569400" y="126828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Árbol Ló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1619280" y="1844640"/>
            <a:ext cx="70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 a paso del Bottom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rmenta de ideas (brainsto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ticipan 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terial para empezar a traba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 básico de Tormenta de ide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límite es el ci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ero críticas y evalu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preciar de 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alizar una síntesis f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entos de la Tormenta de ideas (brainstorm milest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dentificar eventos, pues es más fácil, para luego ENGLOBARLOS en un proceso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 ejemplo: contrato establecido, pago recibido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02080" y="126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619280" y="1557360"/>
            <a:ext cx="70768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aso a paso del Bottom up (continuació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nombrar en formato de verb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or ej: Reservación, aceptación, fijar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Agrupar los eventos relacionando salidas y entr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secuenciarlo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dentificar “cardinalidad” de cada rel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9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56360" y="472428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67640" y="4724280"/>
            <a:ext cx="792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03200" y="472428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11280" y="4941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94172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93080" y="4941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69880" y="474660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16240" y="474660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lcu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7480" y="4724280"/>
            <a:ext cx="10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de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barq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6680" y="45086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1280" y="458136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3880" y="5589720"/>
            <a:ext cx="66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:1  Se tendrán varias ordenes de embarque antes de que se calcule la 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4680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6877080" y="476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7640" y="1557360"/>
            <a:ext cx="70772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Ensamb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Agrupar aquellos eventos de cardinalidad 1:1 secu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s eventos de cardinalidad 1:M y M:1 no pueden seguir la anterior regla debido a que existen diferencias en cuanto a tiempos de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Ventaja de la regla: Pequeñas actividades “nombran” actividad prin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6564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33400" y="438624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1764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76240" y="441324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2304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7836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3400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89520" y="4386240"/>
            <a:ext cx="10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8636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7560" y="438624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stable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9176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54560" y="45831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59960" y="41497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4076640"/>
            <a:ext cx="806616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795080" y="43149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QUIR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 CL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373720"/>
            <a:ext cx="4753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51640" y="5445000"/>
            <a:ext cx="17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ATISFACER OR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6920" y="508464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1619280" y="1406520"/>
            <a:ext cx="707688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Nombrar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Verbos de acción preferentem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Que de cuenta del RESUL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No confundirlos con funciones o departam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cordar que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roceso esta asociado con cambio de es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j: Recibimiento de embarq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tado final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Recibido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en vez de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end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ncluir manuales y pasos de los procesos para necesidades futu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1547640" y="1413000"/>
            <a:ext cx="707724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el evento gatilla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ecesario para establece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ími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untos de parti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nfeccionar diagrama de navegac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Evento gatillante = Acción de un 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Identificar aquellos que son eventos “protocolos”, aquellos que existen solo por burocrac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clie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o confundir objetivo (lo que se quiere lograr) con resultado (lo que se “obtiene” de un proces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iénes se benefici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é resultados se esper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73240" y="1006560"/>
            <a:ext cx="566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 y cli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195640" y="1628640"/>
            <a:ext cx="583236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eventos principales del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a hacer más claro el objetivo del    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Identificar aquellas trabajos relacionados con lo procesos de negocios identificad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Los roles pueden ser externos: clientes, proveedor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43520" y="1150920"/>
            <a:ext cx="55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s y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1476360" y="1252440"/>
            <a:ext cx="707724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Identifi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écnicas de identificación: Mapa global y 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ormenta de ideas -&gt; Material para traba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ción de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nsamblar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Nombrar proce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evento gatillante -&gt; Mapa de naveg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cliente y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1476360" y="1252440"/>
            <a:ext cx="707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casos analizados en el paper y discutidos en clases hay una serie de errores, que se come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jo nivel conceptual de lo que significa un proceso de nego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confunden 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un análisis global del problema a solucion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ompañías no entienden que el principal factor a resolver son las personas y no la 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1476360" y="1252440"/>
            <a:ext cx="7077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ntajas de usar un enfoque hacia el cl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jora de los 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 ventajas competitivas sobre el resto de la competencia (posibilidad de monopol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 una perspectiva clara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anzas estratégicas entre compañ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1476360" y="1252440"/>
            <a:ext cx="7077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comend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alizar todos los rediseños de proces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mando en cuenta la ecu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U=pq-c(q)-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116000" y="1484280"/>
            <a:ext cx="748836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ceso de Nego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Un proceso de negocios es un conjunto de tareas de trabajo interrelacionadas, iniciadas en respuesta a un evento, que logra un resultado especifico para el cliente del proces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1476360" y="1252440"/>
            <a:ext cx="70772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la No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 menos las empresas Chilenas tienen en promedio malas practicas, en comparación con el resto del mundo, en el ámbito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ent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476360" y="1252440"/>
            <a:ext cx="70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uenas Not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y un nicho de mercado,  de varios millones de dólares, involucrados en el rediseños de procesos, de las empre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042920" y="148428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20000" y="1628640"/>
            <a:ext cx="158436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010640" y="32130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li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194472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093080" y="3284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2080" y="335772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aden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supermer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24360" y="4005360"/>
            <a:ext cx="187164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276720" y="2205000"/>
            <a:ext cx="3024000" cy="485640"/>
          </a:xfrm>
          <a:prstGeom prst="leftRightArrow">
            <a:avLst>
              <a:gd name="adj1" fmla="val 50000"/>
              <a:gd name="adj2" fmla="val 12396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637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Vía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84480" y="574344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anade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54760" y="4797360"/>
            <a:ext cx="29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me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tra v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005360"/>
            <a:ext cx="1871640" cy="718920"/>
          </a:xfrm>
          <a:custGeom>
            <a:avLst/>
            <a:gdLst>
              <a:gd name="textAreaLeft" fmla="*/ 867600 w 1871640"/>
              <a:gd name="textAreaRight" fmla="*/ 1644840 w 1871640"/>
              <a:gd name="textAreaTop" fmla="*/ 535320 h 718920"/>
              <a:gd name="textAreaBottom" fmla="*/ 631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8706"/>
                </a:moveTo>
                <a:lnTo>
                  <a:pt x="16086" y="18706"/>
                </a:lnTo>
                <a:lnTo>
                  <a:pt x="16086" y="10013"/>
                </a:lnTo>
                <a:lnTo>
                  <a:pt x="13466" y="10013"/>
                </a:lnTo>
                <a:lnTo>
                  <a:pt x="17533" y="0"/>
                </a:lnTo>
                <a:lnTo>
                  <a:pt x="21600" y="10013"/>
                </a:lnTo>
                <a:lnTo>
                  <a:pt x="18980" y="10013"/>
                </a:lnTo>
                <a:lnTo>
                  <a:pt x="189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4480" y="1125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042920" y="2060640"/>
            <a:ext cx="8101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1.-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Resultado de la Apli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isminuir los tiempos d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ar el nivel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o del tiempo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.-El trigger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ún pedido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5120" y="1341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42920" y="1484280"/>
            <a:ext cx="64850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.-Las t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macen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trol de Inve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 y atención a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pa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5.-Interrel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ordinación entre las      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8080" y="1125360"/>
            <a:ext cx="68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050920" y="83664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773360"/>
            <a:ext cx="4578480" cy="4248000"/>
          </a:xfrm>
          <a:prstGeom prst="ellipse">
            <a:avLst/>
          </a:prstGeom>
          <a:solidFill>
            <a:srgbClr val="00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514600"/>
            <a:ext cx="2558880" cy="2558880"/>
          </a:xfrm>
          <a:prstGeom prst="triangle">
            <a:avLst>
              <a:gd name="adj" fmla="val 49986"/>
            </a:avLst>
          </a:prstGeom>
          <a:solidFill>
            <a:srgbClr val="ffff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1337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876920"/>
            <a:ext cx="42516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8769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522936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4600" y="175248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6920" y="522936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0920" y="292428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8920" y="306864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733920"/>
            <a:ext cx="419040" cy="399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59840" y="4076640"/>
            <a:ext cx="1259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928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92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0920" y="1197000"/>
            <a:ext cx="799308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to : Harina de trigo, arroz, avena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ub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ente: Vendedores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mpresa, y el resto de los emple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ecnología: Palm, Teléfo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el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00160" y="115740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04:23:25Z</dcterms:created>
  <dc:creator>hasbul</dc:creator>
  <dc:description/>
  <dc:language>en-US</dc:language>
  <cp:lastModifiedBy>Samuel</cp:lastModifiedBy>
  <dcterms:modified xsi:type="dcterms:W3CDTF">2003-03-24T21:16:02Z</dcterms:modified>
  <cp:revision>31</cp:revision>
  <dc:subject/>
  <dc:title> Procesos  de Negoc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4905270</vt:r8>
  </property>
  <property fmtid="{D5CDD505-2E9C-101B-9397-08002B2CF9AE}" pid="3" name="_AuthorEmail">
    <vt:lpwstr>hasbunj@vtr.net</vt:lpwstr>
  </property>
  <property fmtid="{D5CDD505-2E9C-101B-9397-08002B2CF9AE}" pid="4" name="_AuthorEmailDisplayName">
    <vt:lpwstr>Rafael Hasbun</vt:lpwstr>
  </property>
  <property fmtid="{D5CDD505-2E9C-101B-9397-08002B2CF9AE}" pid="5" name="_EmailSubject">
    <vt:lpwstr>Rafael Hasbun, in72k, Presentación</vt:lpwstr>
  </property>
  <property fmtid="{D5CDD505-2E9C-101B-9397-08002B2CF9AE}" pid="6" name="_PreviousAdHocReviewCycleID">
    <vt:r8>1450680906</vt:r8>
  </property>
  <property fmtid="{D5CDD505-2E9C-101B-9397-08002B2CF9AE}" pid="7" name="_ReviewingToolsShownOnce">
    <vt:lpwstr/>
  </property>
</Properties>
</file>