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30a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"/>
          <p:cNvSpPr/>
          <p:nvPr/>
        </p:nvSpPr>
        <p:spPr>
          <a:xfrm>
            <a:off x="971640" y="652140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Lucida Sans"/>
              </a:rPr>
              <a:t>IN72K – Tecnologías de información y rediseño de 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26920" y="1916280"/>
            <a:ext cx="7490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Sans"/>
              </a:rPr>
              <a:t>IN72k</a:t>
            </a:r>
            <a:br>
              <a:rPr sz="72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Tecnologías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información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y rediseño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proces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Auxiliar 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0" y="6165360"/>
            <a:ext cx="9072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"/>
              </a:rPr>
              <a:t>24 de Agosto de 200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"/>
          <p:cNvSpPr/>
          <p:nvPr/>
        </p:nvSpPr>
        <p:spPr>
          <a:xfrm>
            <a:off x="507672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Prof. Aux.: Matías Pulido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mpulido@dii.uchile.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4680" y="2938320"/>
            <a:ext cx="9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360" y="765000"/>
          <a:ext cx="8384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765000"/>
                    <a:ext cx="838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836640"/>
          <a:ext cx="4454640" cy="914400"/>
        </p:xfrm>
        <a:graphic>
          <a:graphicData uri="http://schemas.openxmlformats.org/drawingml/2006/table">
            <a:tbl>
              <a:tblPr/>
              <a:tblGrid>
                <a:gridCol w="944640"/>
                <a:gridCol w="351000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NewsGoth Lt BT"/>
                          <a:ea typeface="Times New Roman"/>
                        </a:rPr>
                        <a:t>FACULTAD DE CIENCIAS FÍSICAS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íster en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ón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172120" cy="516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404640"/>
            <a:ext cx="72392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Evaluación de los stakehol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(agentes involuc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267080"/>
            <a:ext cx="2514600" cy="457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377800">
            <a:off x="3924000" y="5371920"/>
            <a:ext cx="2514600" cy="457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002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348320" cy="5011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15000" y="3657600"/>
            <a:ext cx="236232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914400"/>
            <a:ext cx="236232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5029200"/>
            <a:ext cx="236232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029200"/>
            <a:ext cx="236232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Interpretando y usando la matriz: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Implicancias en gestión del cambi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25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Viabilidad del conjun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Secuencia de ejecu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Emplazamiento y modelos menta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Ritmo (gradual o rápida) y naturaleza (incremental o radical) del cambio. (uno de tre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dentificación de Cambios Relevantes</a:t>
            </a: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: Evaluación de los stakeholde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Viabilidad: coherencia y estabilidad de las prácticas</a:t>
            </a:r>
            <a:r>
              <a:rPr b="0" lang="es-MX" sz="4000" spc="-1" strike="noStrike">
                <a:solidFill>
                  <a:srgbClr val="000000"/>
                </a:solidFill>
                <a:latin typeface="Copperplate30ab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352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A mayor relaciones complementarias el proceso es más coherente y estab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952720" cy="2943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9568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coplamientos apretados o distanciados son predictores del nivel de coordinación necesario para el camb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352680" cy="28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ecuencia de ejecución: donde empezar y donde parar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as prácticas actuales poco complementadas entre si son fáciles de remove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28749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057400"/>
            <a:ext cx="4647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as prácticas “enclabadas”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son muy relevantes dado que facilitan la incorporación o desarraigo de un Nº importante de práctic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3581280"/>
            <a:ext cx="4038480" cy="237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19406400">
            <a:off x="4267080" y="4190760"/>
            <a:ext cx="17528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ecuencia de ejecución, donde empezar y donde parar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057400"/>
            <a:ext cx="4038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n la medida que tenga bloques más densos de prácticas complementarias será más difícil su camb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0574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coplamientos apretados o distanciados son predictores del nivel de coordinación necesario para el camb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14600" y="3352680"/>
            <a:ext cx="4114800" cy="30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mplazamiento y </a:t>
            </a:r>
            <a:r>
              <a:rPr b="0" lang="es-MX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delos </a:t>
            </a:r>
            <a:r>
              <a:rPr b="0" lang="es-MX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ntale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1989000"/>
            <a:ext cx="485928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mbio de los modelos mentales existentes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jetivos y valores compartidos"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ímites del sistema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tructuras causales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rizontes de tiempo relevantes"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060640"/>
            <a:ext cx="441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ran cantidad de rel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opuestas en la m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de transición indica la necesidad de aislar 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34332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451240" y="4481640"/>
            <a:ext cx="1371600" cy="217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Ritmo (gradual o rápido) y naturaleza (incremental o radical) del cambio</a:t>
            </a:r>
            <a:r>
              <a:rPr b="0" lang="es-ES" sz="3600" spc="-1" strike="noStrike">
                <a:solidFill>
                  <a:srgbClr val="000000"/>
                </a:solidFill>
                <a:latin typeface="Copperplate30a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"/>
              </a:rPr>
              <a:t>Determinado por tres factores fundamentale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 divisibilidad del proceso organizacional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a receptabilidad organizacional al cambio (asociado a su cultura)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as existencia de presiones externa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Ritmo y </a:t>
            </a:r>
            <a:r>
              <a:rPr b="0" lang="es-MX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N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turaleza del </a:t>
            </a:r>
            <a:r>
              <a:rPr b="0" lang="es-MX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mbi</a:t>
            </a:r>
            <a:r>
              <a:rPr b="0" lang="es-MX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</a:t>
            </a:r>
            <a:r>
              <a:rPr b="0" lang="es-MX" sz="3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visibilidad del </a:t>
            </a:r>
            <a:r>
              <a:rPr b="0" lang="es-MX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roceso </a:t>
            </a:r>
            <a:r>
              <a:rPr b="0" lang="es-MX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rganizacional</a:t>
            </a:r>
            <a:r>
              <a:rPr b="0" lang="es-ES" sz="3600" spc="-1" strike="noStrike">
                <a:solidFill>
                  <a:srgbClr val="000000"/>
                </a:solidFill>
                <a:latin typeface="Copperplate30ab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057400"/>
            <a:ext cx="4419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 ritmo de cambio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entro de cada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loque debe ser rápido y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ntre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os bloques lento.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j: cambio en la dirección de mane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057400"/>
            <a:ext cx="4038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a segmentación de las tareas facilita su gest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3886200" cy="3371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96960" y="4284720"/>
            <a:ext cx="11430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68560" y="4284720"/>
            <a:ext cx="11430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Ritmo y naturaleza del </a:t>
            </a:r>
            <a:r>
              <a:rPr b="0" lang="es-MX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mbi</a:t>
            </a:r>
            <a:r>
              <a:rPr b="0" lang="es-MX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</a:t>
            </a:r>
            <a:r>
              <a:rPr b="0" lang="es-MX" sz="36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br>
              <a:rPr sz="3600"/>
            </a:br>
            <a:r>
              <a:rPr b="0" lang="es-MX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precio al 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ambio (</a:t>
            </a:r>
            <a:r>
              <a:rPr b="0" lang="es-MX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rasgo 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ultura</a:t>
            </a:r>
            <a:r>
              <a:rPr b="0" lang="es-MX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</a:t>
            </a:r>
            <a:r>
              <a:rPr b="0" lang="es-MX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y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xistencia de Presiones Externas</a:t>
            </a:r>
            <a:endParaRPr b="0" lang="en-US" sz="28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2060640"/>
            <a:ext cx="439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 importancia de incorporar al error como un proceso de aprendizaje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“echando a perder se aprend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38480" y="5410080"/>
            <a:ext cx="914400" cy="571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genda 24 Agost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"/>
              </a:rPr>
              <a:t>Matriz de cambi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"/>
              </a:rPr>
              <a:t>Pasos para la construcción de la matriz de cambio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"/>
              </a:rPr>
              <a:t>Distinciones en torno a su interpretació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"/>
              </a:rPr>
              <a:t>Análisis del caso Conama y conclusion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dentificación de Cambios Relevantes</a:t>
            </a:r>
            <a:r>
              <a:rPr b="0" lang="es-MX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: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valuación stakeholders</a:t>
            </a:r>
            <a:r>
              <a:rPr b="0" lang="es-ES" sz="3200" spc="-1" strike="noStrike">
                <a:solidFill>
                  <a:srgbClr val="000000"/>
                </a:solidFill>
                <a:latin typeface="Copperplate30ab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51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13372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xplicita sus preferencias y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entra sus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xpectativas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frente al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amb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entifica la alineación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entre éllos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l camb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cilita la responsabilidad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e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"asumir" el camb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840" y="3860640"/>
            <a:ext cx="859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. Evaluaciones negativas en las prácticas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esead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s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implic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necesidad de cambiar o alinear mejor los incentiv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rementar el ritmo del cambio, evitar islas 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feudos de resistencia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0800" y="5157720"/>
            <a:ext cx="859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.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Valores dispersos en las evaluaciones de las prácticas deseadas indican prioridades diferentes y falta de una visión común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800" y="6021360"/>
            <a:ext cx="85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. Diferencias indican 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uales son los cambios más releva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Conclusiones sobre la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Matriz del Cambi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256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Herramienta para identificar la facilidad y dificultades de realizar un camb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Obliga a los participantes a “explicitar” la situación actual, el cambio deseado y su valor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Mecanismo de comunicación al interior de la organización para facilitar los cambios propuest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Dificultades en la implementación: prácticas, el signo de las interrelaciones y la elección del equipo de trabaj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so CONAM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ONAMA: Aprobación de proyectos medioambienta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3 procesos important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ecepción y verificación de documentac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esolución fi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ediseño propues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Innovación (documentos y firma electrónic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ordinación (workflow, asignación de proyecto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trol (plazo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Pregunta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valúe el rediseño propuesto en los siguie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términ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stabilidad del sistema rediseña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esistencia al cambi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n base a su respuesta, ¿recomendarí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implementar el mismo rediseño o lo modificaría en algún aspecto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etodología de Rediseño de proces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84280"/>
            <a:ext cx="5976720" cy="7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ción del modelo de negocio y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492280"/>
            <a:ext cx="5976720" cy="7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571920"/>
            <a:ext cx="5976720" cy="7920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ción de dirección(es) de cambio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579920"/>
            <a:ext cx="5976720" cy="792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antación del rediseñ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516640"/>
            <a:ext cx="5976720" cy="7920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sta en Marcha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436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5372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1268280"/>
            <a:ext cx="208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arga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iveles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10120" y="256536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ét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3429000"/>
            <a:ext cx="226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Coord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Reestruc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1484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421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88000" y="3500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429000"/>
            <a:ext cx="5545080" cy="107964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finición de dirección de cambi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spués de la evaluación del sistema actual tenemos muchas ideas de mejor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ejoras complementaria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ejoras excluyen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Qué hace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Listar rediseños posibles (combinaciones de mejoras complementaria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valuar rediseños: Métrica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ecidir dirección de cambio y rediseño a implementa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atriz de cambi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Herramienta para entender las complejas interacciones que ocurren en un proceso de cambi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Cómo incorporar tecnología en procesos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¿Cómo incorporar prácticas de trabajo que no perturben a las actuales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asos: Codelco (SAP), General Motor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Útil para evaluar rediseños desde un punto de vista de dificultad de su implement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Construcción de la Matriz del Cambi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Identificación de procesos y prácticas relev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Interacciones del sistema actual y desead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Identificar las interacciones de transi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Evaluación de los stakeholders (agentes involucrad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ara el rediseño a analizar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ediseño: Combinación de mejoras complementari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finir alcance de las mejoras: Procesos y prácticas relevant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Identificación de procesos y prácticas releva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3733920" cy="291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486400" y="2362320"/>
            <a:ext cx="2813040" cy="3352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Interacciones del sistema actual y desead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14680" y="1562040"/>
            <a:ext cx="4700520" cy="4483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528480"/>
            <a:ext cx="71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Identificar las inter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"/>
              </a:rPr>
              <a:t>de tran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3809880"/>
            <a:ext cx="2666880" cy="2514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9:24:10Z</dcterms:created>
  <dc:creator>Laura Bergells</dc:creator>
  <dc:description>Visit www.maniactive.com for Free PowerPoint Templates.</dc:description>
  <dc:language>en-US</dc:language>
  <cp:lastModifiedBy>Matias</cp:lastModifiedBy>
  <dcterms:modified xsi:type="dcterms:W3CDTF">2005-08-24T04:38:30Z</dcterms:modified>
  <cp:revision>375</cp:revision>
  <dc:subject/>
  <dc:title>Lead Follow-Up: Hot, Warm &amp; Cold  CRM Conference,  October 2001 </dc:title>
</cp:coreProperties>
</file>