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30ab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"/>
          <p:cNvSpPr/>
          <p:nvPr/>
        </p:nvSpPr>
        <p:spPr>
          <a:xfrm>
            <a:off x="971640" y="6521400"/>
            <a:ext cx="70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Lucida Sans"/>
              </a:rPr>
              <a:t>IN72K – Tecnologías de información y rediseño de 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826920" y="1916280"/>
            <a:ext cx="74901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Lucida Sans"/>
              </a:rPr>
              <a:t>IN72k</a:t>
            </a:r>
            <a:br>
              <a:rPr sz="7200"/>
            </a:br>
            <a:r>
              <a:rPr b="0" lang="es-ES" sz="2500" spc="-1" strike="noStrike">
                <a:solidFill>
                  <a:srgbClr val="000000"/>
                </a:solidFill>
                <a:latin typeface="Lucida Sans"/>
              </a:rPr>
              <a:t>Tecnologías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 de </a:t>
            </a:r>
            <a:r>
              <a:rPr b="0" lang="es-ES" sz="2500" spc="-1" strike="noStrike">
                <a:solidFill>
                  <a:srgbClr val="000000"/>
                </a:solidFill>
                <a:latin typeface="Lucida Sans"/>
              </a:rPr>
              <a:t>información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 y rediseño de </a:t>
            </a:r>
            <a:r>
              <a:rPr b="0" lang="es-ES" sz="2500" spc="-1" strike="noStrike">
                <a:solidFill>
                  <a:srgbClr val="000000"/>
                </a:solidFill>
                <a:latin typeface="Lucida Sans"/>
              </a:rPr>
              <a:t>procesos</a:t>
            </a:r>
            <a:br>
              <a:rPr sz="2500"/>
            </a:br>
            <a:br>
              <a:rPr sz="2500"/>
            </a:br>
            <a:r>
              <a:rPr b="0" lang="es-ES" sz="2500" spc="-1" strike="noStrike">
                <a:solidFill>
                  <a:srgbClr val="000000"/>
                </a:solidFill>
                <a:latin typeface="Lucida Sans"/>
              </a:rPr>
              <a:t>Auxiliar 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0" y="6165360"/>
            <a:ext cx="9072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Lucida Sans"/>
              </a:rPr>
              <a:t>17 de Agosto de 2005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"/>
          <p:cNvSpPr/>
          <p:nvPr/>
        </p:nvSpPr>
        <p:spPr>
          <a:xfrm>
            <a:off x="5076720" y="51577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"/>
              </a:rPr>
              <a:t>Prof. Aux.: Matías Pulido S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"/>
              </a:rPr>
              <a:t>mpulido@dii.uchile.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44680" y="2938320"/>
            <a:ext cx="9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44360" y="765000"/>
          <a:ext cx="838440" cy="98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765000"/>
                    <a:ext cx="83844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0" y="836640"/>
          <a:ext cx="4454640" cy="914400"/>
        </p:xfrm>
        <a:graphic>
          <a:graphicData uri="http://schemas.openxmlformats.org/drawingml/2006/table">
            <a:tbl>
              <a:tblPr/>
              <a:tblGrid>
                <a:gridCol w="944640"/>
                <a:gridCol w="3510000"/>
              </a:tblGrid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NewsGoth Lt BT"/>
                          <a:ea typeface="Times New Roman"/>
                        </a:rPr>
                        <a:t>FACULTAD DE CIENCIAS FÍSICAS Y 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AMENTO 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ENIERÍA INDUST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íster en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ión de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Cómo evaluar el impacto de los problema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egundo: ¿Qué problemas solucionar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Aquellos simples de alto impacto (killer application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844720" y="3355560"/>
            <a:ext cx="0" cy="28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720" y="616572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44720" y="3932280"/>
            <a:ext cx="3311640" cy="2233440"/>
          </a:xfrm>
          <a:custGeom>
            <a:avLst/>
            <a:gdLst/>
            <a:ahLst/>
            <a:rect l="l" t="t" r="r" b="b"/>
            <a:pathLst>
              <a:path w="2132" h="1452">
                <a:moveTo>
                  <a:pt x="0" y="1452"/>
                </a:moveTo>
                <a:cubicBezTo>
                  <a:pt x="397" y="1331"/>
                  <a:pt x="794" y="1210"/>
                  <a:pt x="998" y="998"/>
                </a:cubicBezTo>
                <a:cubicBezTo>
                  <a:pt x="1202" y="786"/>
                  <a:pt x="1036" y="347"/>
                  <a:pt x="1225" y="181"/>
                </a:cubicBezTo>
                <a:cubicBezTo>
                  <a:pt x="1414" y="15"/>
                  <a:pt x="1773" y="7"/>
                  <a:pt x="213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39720" y="342900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% mej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65360" y="618012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fuer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140360" y="5732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844720" y="5661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932360" y="414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844360" y="4076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iagrama de Paret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"/>
              </a:rPr>
              <a:t>Es una técnica gráfica, que clasifica los elemento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"/>
              </a:rPr>
              <a:t>desde el más frecuente hasta el menos frecuente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Lucida Sans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"/>
              </a:rPr>
              <a:t>Exhibir visualmente en orden de importancia, la contribución de cada elemento en el efecto total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"/>
              </a:rPr>
              <a:t>Clasificar las oportunidades de mejoramient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30360" y="1473120"/>
            <a:ext cx="7902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Lucida Sans"/>
              </a:rPr>
              <a:t>En el Departamento de Sistemas existen paralizaciones de trabajo debido a fallas de ciertas máquinas. Se decide analizar este problema para tomar decisiones encaminadas a solucionarlo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Lucida Sans"/>
              </a:rPr>
              <a:t>El personal del área enumera las principales causas que pueden estar incidiendo sobre el problem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9880" y="3048120"/>
            <a:ext cx="4540320" cy="17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Lucid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Lucida Sans"/>
              </a:rPr>
              <a:t>Interrupción de la energía eléctric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Lucid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Lucida Sans"/>
              </a:rPr>
              <a:t>Manejo incorrecto por parte del operador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Lucid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Lucida Sans"/>
              </a:rPr>
              <a:t>Programa inadecu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Lucid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Lucida Sans"/>
              </a:rPr>
              <a:t>Falta de mantenimien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Lucid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Lucida Sans"/>
              </a:rPr>
              <a:t>Virus en el sistem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Lucid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Lucida Sans"/>
              </a:rPr>
              <a:t>Otr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5445000"/>
            <a:ext cx="79023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Para constatar tales apreciaciones, se decide recolectar datos en cualquiera de los dos turnos (matutino-vespertino) de forma aleatoria durante 8 horas, en cada uno de los cuatro días determinados como periodo de recolecció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iagrama de Par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9960" y="1844640"/>
            <a:ext cx="8331120" cy="313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50480" y="1968480"/>
            <a:ext cx="714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AUS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82160" y="1882800"/>
            <a:ext cx="19965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TIEMPO DE PARALIZACIÓ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DEL TRABAJO (EN MINUTO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( f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11280" y="1943280"/>
            <a:ext cx="1769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%   RELATIVO DE TIEM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DE PARALIZ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91280" y="1943280"/>
            <a:ext cx="16002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%   RELATIVO ACUMUL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6440" y="2593800"/>
            <a:ext cx="242568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alta de mantenimi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grama inadecu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terrupción de lu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anejo incorrecto de máq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T o  t a 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1120" y="2489040"/>
            <a:ext cx="833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120" y="4470480"/>
            <a:ext cx="833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1120" y="3936960"/>
            <a:ext cx="833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120" y="3479760"/>
            <a:ext cx="833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120" y="3156120"/>
            <a:ext cx="833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120" y="2870280"/>
            <a:ext cx="833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71920" y="1838160"/>
            <a:ext cx="0" cy="312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57920" y="1879560"/>
            <a:ext cx="0" cy="308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5320" y="1838160"/>
            <a:ext cx="0" cy="313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673440" y="2593800"/>
            <a:ext cx="522360" cy="2319480"/>
            <a:chOff x="3673440" y="2593800"/>
            <a:chExt cx="522360" cy="2319480"/>
          </a:xfrm>
        </p:grpSpPr>
        <p:sp>
          <p:nvSpPr>
            <p:cNvPr id="111" name=""/>
            <p:cNvSpPr/>
            <p:nvPr/>
          </p:nvSpPr>
          <p:spPr>
            <a:xfrm>
              <a:off x="3689640" y="2593800"/>
              <a:ext cx="5061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2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1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73440" y="4086000"/>
              <a:ext cx="437400" cy="8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48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65960" y="314640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38600" y="3595680"/>
              <a:ext cx="408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502240" y="2593800"/>
            <a:ext cx="826920" cy="2479680"/>
            <a:chOff x="5502240" y="2593800"/>
            <a:chExt cx="826920" cy="2479680"/>
          </a:xfrm>
        </p:grpSpPr>
        <p:sp>
          <p:nvSpPr>
            <p:cNvPr id="116" name=""/>
            <p:cNvSpPr/>
            <p:nvPr/>
          </p:nvSpPr>
          <p:spPr>
            <a:xfrm>
              <a:off x="5502240" y="2593800"/>
              <a:ext cx="8269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41.40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23.40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02240" y="3165480"/>
              <a:ext cx="826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18.80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02240" y="3603600"/>
              <a:ext cx="826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9.20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02240" y="4063680"/>
              <a:ext cx="826920" cy="10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3.30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100.00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559640" y="2593800"/>
            <a:ext cx="827280" cy="1923840"/>
            <a:chOff x="7559640" y="2593800"/>
            <a:chExt cx="827280" cy="1923840"/>
          </a:xfrm>
        </p:grpSpPr>
        <p:sp>
          <p:nvSpPr>
            <p:cNvPr id="121" name=""/>
            <p:cNvSpPr/>
            <p:nvPr/>
          </p:nvSpPr>
          <p:spPr>
            <a:xfrm>
              <a:off x="7559640" y="2593800"/>
              <a:ext cx="827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41.40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64.80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59640" y="3165480"/>
              <a:ext cx="827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83.60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59640" y="3603600"/>
              <a:ext cx="827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92.80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59640" y="4063680"/>
              <a:ext cx="8272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100.00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703960" y="5229360"/>
            <a:ext cx="3299400" cy="1623960"/>
            <a:chOff x="2703960" y="5229360"/>
            <a:chExt cx="3299400" cy="1623960"/>
          </a:xfrm>
        </p:grpSpPr>
        <p:sp>
          <p:nvSpPr>
            <p:cNvPr id="126" name=""/>
            <p:cNvSpPr/>
            <p:nvPr/>
          </p:nvSpPr>
          <p:spPr>
            <a:xfrm>
              <a:off x="2703960" y="5229360"/>
              <a:ext cx="3299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OBTENCIÓN DE PORCENTAJE RELATIVO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3004560" y="5559480"/>
              <a:ext cx="2522160" cy="1293840"/>
              <a:chOff x="3004560" y="5559480"/>
              <a:chExt cx="2522160" cy="129384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3004560" y="5559480"/>
                <a:ext cx="2522160" cy="436680"/>
                <a:chOff x="3004560" y="5559480"/>
                <a:chExt cx="2522160" cy="4366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3004560" y="5559480"/>
                  <a:ext cx="252216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Arial"/>
                    </a:rPr>
                    <a:t>%   </a:t>
                  </a:r>
                  <a:r>
                    <a:rPr b="1" lang="es-ES_tradnl" sz="12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frecuencia de la causa X 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629880" y="5724720"/>
                  <a:ext cx="153180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Arial"/>
                    </a:rPr>
                    <a:t>total de frecuenc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3011400" y="5985000"/>
                <a:ext cx="2124000" cy="449280"/>
                <a:chOff x="3011400" y="5985000"/>
                <a:chExt cx="2124000" cy="449280"/>
              </a:xfrm>
            </p:grpSpPr>
            <p:grpSp>
              <p:nvGrpSpPr>
                <p:cNvPr id="132" name=""/>
                <p:cNvGrpSpPr/>
                <p:nvPr/>
              </p:nvGrpSpPr>
              <p:grpSpPr>
                <a:xfrm>
                  <a:off x="3011400" y="5985000"/>
                  <a:ext cx="1488960" cy="449280"/>
                  <a:chOff x="3011400" y="5985000"/>
                  <a:chExt cx="1488960" cy="44928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3011400" y="5985000"/>
                    <a:ext cx="181080" cy="27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3481200" y="6162840"/>
                    <a:ext cx="181080" cy="27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4319640" y="6162840"/>
                    <a:ext cx="180720" cy="27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" name=""/>
                <p:cNvSpPr/>
                <p:nvPr/>
              </p:nvSpPr>
              <p:spPr>
                <a:xfrm>
                  <a:off x="4954320" y="5985000"/>
                  <a:ext cx="18108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3011400" y="6404040"/>
                <a:ext cx="1971720" cy="449280"/>
                <a:chOff x="3011400" y="6404040"/>
                <a:chExt cx="1971720" cy="449280"/>
              </a:xfrm>
            </p:grpSpPr>
            <p:grpSp>
              <p:nvGrpSpPr>
                <p:cNvPr id="138" name=""/>
                <p:cNvGrpSpPr/>
                <p:nvPr/>
              </p:nvGrpSpPr>
              <p:grpSpPr>
                <a:xfrm>
                  <a:off x="3011400" y="6404040"/>
                  <a:ext cx="1488960" cy="449280"/>
                  <a:chOff x="3011400" y="6404040"/>
                  <a:chExt cx="1488960" cy="44928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3011400" y="6404040"/>
                    <a:ext cx="181080" cy="27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3481200" y="6581880"/>
                    <a:ext cx="181080" cy="27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4319640" y="6581880"/>
                    <a:ext cx="180720" cy="27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" name=""/>
                <p:cNvSpPr/>
                <p:nvPr/>
              </p:nvSpPr>
              <p:spPr>
                <a:xfrm>
                  <a:off x="4802040" y="6404040"/>
                  <a:ext cx="18108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3" name=""/>
          <p:cNvSpPr/>
          <p:nvPr/>
        </p:nvSpPr>
        <p:spPr>
          <a:xfrm>
            <a:off x="8822880" y="703404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iagrama de Par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-1800" y="1197000"/>
            <a:ext cx="4916160" cy="5059440"/>
            <a:chOff x="-1800" y="1197000"/>
            <a:chExt cx="4916160" cy="5059440"/>
          </a:xfrm>
        </p:grpSpPr>
        <p:sp>
          <p:nvSpPr>
            <p:cNvPr id="146" name=""/>
            <p:cNvSpPr/>
            <p:nvPr/>
          </p:nvSpPr>
          <p:spPr>
            <a:xfrm rot="17520000">
              <a:off x="-345240" y="5196240"/>
              <a:ext cx="1693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FALTA DE MANTEN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240" y="3281400"/>
              <a:ext cx="613080" cy="1398240"/>
            </a:xfrm>
            <a:custGeom>
              <a:avLst/>
              <a:gdLst/>
              <a:ahLst/>
              <a:rect l="l" t="t" r="r" b="b"/>
              <a:pathLst>
                <a:path w="328" h="811">
                  <a:moveTo>
                    <a:pt x="0" y="0"/>
                  </a:moveTo>
                  <a:lnTo>
                    <a:pt x="327" y="0"/>
                  </a:lnTo>
                  <a:lnTo>
                    <a:pt x="327" y="810"/>
                  </a:lnTo>
                  <a:lnTo>
                    <a:pt x="0" y="81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79360" y="3890160"/>
              <a:ext cx="626040" cy="789480"/>
            </a:xfrm>
            <a:custGeom>
              <a:avLst/>
              <a:gdLst/>
              <a:ahLst/>
              <a:rect l="l" t="t" r="r" b="b"/>
              <a:pathLst>
                <a:path w="335" h="458">
                  <a:moveTo>
                    <a:pt x="0" y="0"/>
                  </a:moveTo>
                  <a:lnTo>
                    <a:pt x="334" y="0"/>
                  </a:lnTo>
                  <a:lnTo>
                    <a:pt x="334" y="457"/>
                  </a:lnTo>
                  <a:lnTo>
                    <a:pt x="0" y="45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03960" y="4043520"/>
              <a:ext cx="618840" cy="636120"/>
            </a:xfrm>
            <a:custGeom>
              <a:avLst/>
              <a:gdLst/>
              <a:ahLst/>
              <a:rect l="l" t="t" r="r" b="b"/>
              <a:pathLst>
                <a:path w="331" h="369">
                  <a:moveTo>
                    <a:pt x="0" y="0"/>
                  </a:moveTo>
                  <a:lnTo>
                    <a:pt x="330" y="0"/>
                  </a:lnTo>
                  <a:lnTo>
                    <a:pt x="330" y="368"/>
                  </a:lnTo>
                  <a:lnTo>
                    <a:pt x="0" y="3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19200" y="4367880"/>
              <a:ext cx="622080" cy="311760"/>
            </a:xfrm>
            <a:custGeom>
              <a:avLst/>
              <a:gdLst/>
              <a:ahLst/>
              <a:rect l="l" t="t" r="r" b="b"/>
              <a:pathLst>
                <a:path w="333" h="181">
                  <a:moveTo>
                    <a:pt x="0" y="0"/>
                  </a:moveTo>
                  <a:lnTo>
                    <a:pt x="332" y="0"/>
                  </a:lnTo>
                  <a:lnTo>
                    <a:pt x="332" y="180"/>
                  </a:lnTo>
                  <a:lnTo>
                    <a:pt x="0" y="18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39840" y="4545360"/>
              <a:ext cx="622080" cy="134280"/>
            </a:xfrm>
            <a:custGeom>
              <a:avLst/>
              <a:gdLst/>
              <a:ahLst/>
              <a:rect l="l" t="t" r="r" b="b"/>
              <a:pathLst>
                <a:path w="333" h="78">
                  <a:moveTo>
                    <a:pt x="0" y="0"/>
                  </a:moveTo>
                  <a:lnTo>
                    <a:pt x="332" y="0"/>
                  </a:lnTo>
                  <a:lnTo>
                    <a:pt x="332" y="77"/>
                  </a:ln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60480" y="4569480"/>
              <a:ext cx="628200" cy="110160"/>
            </a:xfrm>
            <a:custGeom>
              <a:avLst/>
              <a:gdLst/>
              <a:ahLst/>
              <a:rect l="l" t="t" r="r" b="b"/>
              <a:pathLst>
                <a:path w="336" h="64">
                  <a:moveTo>
                    <a:pt x="0" y="0"/>
                  </a:moveTo>
                  <a:lnTo>
                    <a:pt x="335" y="0"/>
                  </a:lnTo>
                  <a:lnTo>
                    <a:pt x="335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0400" y="4678200"/>
              <a:ext cx="7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6800" y="4678200"/>
              <a:ext cx="369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9080" y="45298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-1800" y="383148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-1800" y="312768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02560" y="1393200"/>
              <a:ext cx="76320" cy="3277440"/>
              <a:chOff x="502560" y="1393200"/>
              <a:chExt cx="76320" cy="3277440"/>
            </a:xfrm>
          </p:grpSpPr>
          <p:sp>
            <p:nvSpPr>
              <p:cNvPr id="159" name=""/>
              <p:cNvSpPr/>
              <p:nvPr/>
            </p:nvSpPr>
            <p:spPr>
              <a:xfrm>
                <a:off x="578880" y="1393200"/>
                <a:ext cx="0" cy="327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2560" y="3986280"/>
                <a:ext cx="70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2560" y="3281040"/>
                <a:ext cx="70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02560" y="2622240"/>
                <a:ext cx="70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02560" y="2018880"/>
                <a:ext cx="70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502560" y="1389600"/>
              <a:ext cx="7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-1800" y="247284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-1800" y="186912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-1800" y="119700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3960" y="1493280"/>
              <a:ext cx="7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7460000">
              <a:off x="261360" y="5195880"/>
              <a:ext cx="16948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ROGRAMA INADECU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7460000">
              <a:off x="835560" y="5242320"/>
              <a:ext cx="15847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INTERRUPCIÓN DE ENERGÍA ELÉCTRI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7340000">
              <a:off x="1420560" y="5194080"/>
              <a:ext cx="16948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MANEJO INCORRECTO DEL OPERAD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7520000">
              <a:off x="2058480" y="5247360"/>
              <a:ext cx="1694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VIRUS EN EL SISTE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7520000">
              <a:off x="2661480" y="5253480"/>
              <a:ext cx="169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7760" y="4691880"/>
              <a:ext cx="504360" cy="123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84000" y="4688280"/>
              <a:ext cx="498960" cy="124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304640" y="4686840"/>
              <a:ext cx="504360" cy="124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921320" y="4683240"/>
              <a:ext cx="504360" cy="124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2538360" y="4691880"/>
              <a:ext cx="506520" cy="123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166920" y="4683240"/>
              <a:ext cx="498960" cy="124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783600" y="4688280"/>
              <a:ext cx="506520" cy="124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89040" y="1393200"/>
              <a:ext cx="0" cy="327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98400" y="4069440"/>
              <a:ext cx="7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98400" y="3405240"/>
              <a:ext cx="7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98400" y="2767680"/>
              <a:ext cx="7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98400" y="2112120"/>
              <a:ext cx="7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98400" y="1491840"/>
              <a:ext cx="7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84720" y="134856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100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84080" y="1969200"/>
              <a:ext cx="530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80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84080" y="2617560"/>
              <a:ext cx="530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60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84080" y="3252240"/>
              <a:ext cx="530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40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84080" y="3914280"/>
              <a:ext cx="530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20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77080" y="1491840"/>
              <a:ext cx="37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75880" y="2365560"/>
              <a:ext cx="74520" cy="48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36760" y="1848240"/>
              <a:ext cx="74520" cy="48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47120" y="2024280"/>
              <a:ext cx="2049120" cy="264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32280" y="1662120"/>
              <a:ext cx="74880" cy="48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83160" y="1579320"/>
              <a:ext cx="74520" cy="48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47680" y="3255480"/>
              <a:ext cx="7488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1170000" y="2393280"/>
              <a:ext cx="613080" cy="88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1820880" y="1855080"/>
              <a:ext cx="545400" cy="53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2394360" y="1668960"/>
              <a:ext cx="69012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078720" y="1596600"/>
              <a:ext cx="633600" cy="9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3733560" y="1487880"/>
              <a:ext cx="54936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360" y="145368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48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72800" y="1558800"/>
              <a:ext cx="8262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O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VIT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99040" y="1986480"/>
              <a:ext cx="0" cy="14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760" y="3488400"/>
              <a:ext cx="2374200" cy="1175760"/>
            </a:xfrm>
            <a:prstGeom prst="ellipse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5041800" y="1382760"/>
            <a:ext cx="385128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7200" indent="-18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16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Lucida Sans"/>
              </a:rPr>
              <a:t>De los pocos vitales, se deberá determinar la factibilidad de atacar és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16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Lucida Sans"/>
              </a:rPr>
              <a:t>La eliminación de estos factores disminuiría el tamaño del problema,     en aproximadamente un 80%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16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Lucida Sans"/>
              </a:rPr>
              <a:t>Se observa que el mayor tiempo de paralización del trabajo (202) corresponde a la falta de mantenimiento, siendo el 41 %  atribuible a esta cau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16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Lucida Sans"/>
              </a:rPr>
              <a:t>Si se elabora un programa de mantenimiento, se eliminará el 80 %    de las caus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818200" y="66024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¿Cuáles son las causas finales de los problemas a solucionar?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Efecto Ishikawa o espinas de pescad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"/>
              </a:rPr>
              <a:t>Representa las relaciones entre un efecto y sus causas potenciales.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"/>
              </a:rPr>
              <a:t>Las principales causas se organizan en subcategorías, de tal forma que su representación gráfica es parecida al esqueleto de un pez (espina de pescado)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Lucida Sans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"/>
              </a:rPr>
              <a:t>Analiza las relaciones de causa y efecto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"/>
              </a:rPr>
              <a:t>Comunica las relaciones de causa y efecto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"/>
              </a:rPr>
              <a:t>Facilita la solución del problema desde los síntomas hasta la solución de sus causa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¿Cuáles son las causas finales de los problemas a solucionar?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"/>
              </a:rPr>
              <a:t>Posibles factores al considerar las posibles causa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"/>
              </a:rPr>
              <a:t>Sistemas de datos e informació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"/>
              </a:rPr>
              <a:t>Medio ambien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"/>
              </a:rPr>
              <a:t>Maquinaria o Equip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"/>
              </a:rPr>
              <a:t>Medicion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"/>
              </a:rPr>
              <a:t>Mano de obra (personal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671400" y="1501920"/>
            <a:ext cx="8168760" cy="4939920"/>
            <a:chOff x="671400" y="1501920"/>
            <a:chExt cx="8168760" cy="4939920"/>
          </a:xfrm>
        </p:grpSpPr>
        <p:sp>
          <p:nvSpPr>
            <p:cNvPr id="215" name=""/>
            <p:cNvSpPr/>
            <p:nvPr/>
          </p:nvSpPr>
          <p:spPr>
            <a:xfrm>
              <a:off x="747720" y="5160960"/>
              <a:ext cx="1447560" cy="456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2400" y="1903320"/>
              <a:ext cx="1523880" cy="271440"/>
            </a:xfrm>
            <a:prstGeom prst="rect">
              <a:avLst/>
            </a:prstGeom>
            <a:solidFill>
              <a:srgbClr val="feffd6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ff3300"/>
                  </a:solidFill>
                  <a:latin typeface="Arial"/>
                </a:rPr>
                <a:t>COMPUTADO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04920" y="1903320"/>
              <a:ext cx="833760" cy="271440"/>
            </a:xfrm>
            <a:prstGeom prst="rect">
              <a:avLst/>
            </a:prstGeom>
            <a:solidFill>
              <a:srgbClr val="feffd6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ff3300"/>
                  </a:solidFill>
                  <a:latin typeface="Arial"/>
                </a:rPr>
                <a:t>CONT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671400" y="3027240"/>
              <a:ext cx="1066680" cy="761760"/>
              <a:chOff x="671400" y="3027240"/>
              <a:chExt cx="1066680" cy="761760"/>
            </a:xfrm>
          </p:grpSpPr>
          <p:sp>
            <p:nvSpPr>
              <p:cNvPr id="219" name=""/>
              <p:cNvSpPr/>
              <p:nvPr/>
            </p:nvSpPr>
            <p:spPr>
              <a:xfrm>
                <a:off x="671400" y="3027240"/>
                <a:ext cx="1066680" cy="7617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1400" y="3103200"/>
                <a:ext cx="104940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200" spc="-1" strike="noStrike">
                    <a:solidFill>
                      <a:srgbClr val="ff3300"/>
                    </a:solidFill>
                    <a:latin typeface="Arial"/>
                  </a:rPr>
                  <a:t>Fallas en el programa de cómpu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500200" y="2874960"/>
              <a:ext cx="990720" cy="532800"/>
              <a:chOff x="2500200" y="2874960"/>
              <a:chExt cx="990720" cy="532800"/>
            </a:xfrm>
          </p:grpSpPr>
          <p:sp>
            <p:nvSpPr>
              <p:cNvPr id="222" name=""/>
              <p:cNvSpPr/>
              <p:nvPr/>
            </p:nvSpPr>
            <p:spPr>
              <a:xfrm>
                <a:off x="2500200" y="2874960"/>
                <a:ext cx="990720" cy="5328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500200" y="2916000"/>
                <a:ext cx="99072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200" spc="-1" strike="noStrike">
                    <a:solidFill>
                      <a:srgbClr val="ff3300"/>
                    </a:solidFill>
                    <a:latin typeface="Arial"/>
                  </a:rPr>
                  <a:t>Error en el recuen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4616280" y="3027240"/>
              <a:ext cx="1998720" cy="636480"/>
              <a:chOff x="4616280" y="3027240"/>
              <a:chExt cx="1998720" cy="636480"/>
            </a:xfrm>
          </p:grpSpPr>
          <p:sp>
            <p:nvSpPr>
              <p:cNvPr id="225" name=""/>
              <p:cNvSpPr/>
              <p:nvPr/>
            </p:nvSpPr>
            <p:spPr>
              <a:xfrm>
                <a:off x="4675320" y="3027240"/>
                <a:ext cx="1939680" cy="4363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616280" y="3027240"/>
                <a:ext cx="193536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200" spc="-1" strike="noStrike">
                    <a:solidFill>
                      <a:srgbClr val="ff3300"/>
                    </a:solidFill>
                    <a:latin typeface="Arial"/>
                  </a:rPr>
                  <a:t>  </a:t>
                </a:r>
                <a:r>
                  <a:rPr b="1" lang="es-ES_tradnl" sz="1200" spc="-1" strike="noStrike">
                    <a:solidFill>
                      <a:srgbClr val="ff3300"/>
                    </a:solidFill>
                    <a:latin typeface="Arial"/>
                  </a:rPr>
                  <a:t>Incorrecta codific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2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es-ES_tradnl" sz="1200" spc="-1" strike="noStrike">
                    <a:solidFill>
                      <a:srgbClr val="ff3300"/>
                    </a:solidFill>
                    <a:latin typeface="Arial"/>
                  </a:rPr>
                  <a:t>del produc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5243400" y="5311800"/>
              <a:ext cx="1523880" cy="609120"/>
              <a:chOff x="5243400" y="5311800"/>
              <a:chExt cx="1523880" cy="609120"/>
            </a:xfrm>
          </p:grpSpPr>
          <p:sp>
            <p:nvSpPr>
              <p:cNvPr id="228" name=""/>
              <p:cNvSpPr/>
              <p:nvPr/>
            </p:nvSpPr>
            <p:spPr>
              <a:xfrm>
                <a:off x="5243400" y="5311800"/>
                <a:ext cx="1523880" cy="6091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275080" y="5381280"/>
                <a:ext cx="149220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200" spc="-1" strike="noStrike">
                    <a:solidFill>
                      <a:srgbClr val="ff3300"/>
                    </a:solidFill>
                    <a:latin typeface="Arial"/>
                  </a:rPr>
                  <a:t>Dificultad para localizar la piez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1577880" y="6170400"/>
              <a:ext cx="1612800" cy="271440"/>
            </a:xfrm>
            <a:prstGeom prst="rect">
              <a:avLst/>
            </a:prstGeom>
            <a:solidFill>
              <a:srgbClr val="feffd6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ff3300"/>
                  </a:solidFill>
                  <a:latin typeface="Arial"/>
                </a:rPr>
                <a:t>PERS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76480" y="6170400"/>
              <a:ext cx="1067040" cy="271440"/>
            </a:xfrm>
            <a:prstGeom prst="rect">
              <a:avLst/>
            </a:prstGeom>
            <a:solidFill>
              <a:srgbClr val="feffd6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ff3300"/>
                  </a:solidFill>
                  <a:latin typeface="Arial"/>
                </a:rPr>
                <a:t>ALMAC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07080" y="3811320"/>
              <a:ext cx="1836720" cy="1184040"/>
            </a:xfrm>
            <a:prstGeom prst="rect">
              <a:avLst/>
            </a:prstGeom>
            <a:solidFill>
              <a:srgbClr val="feffd6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ff3300"/>
                  </a:solidFill>
                  <a:latin typeface="Arial"/>
                </a:rPr>
                <a:t>DISCREPANCIA EN LAS EXISTENCIAS DEL ALMACEN DE MEDICAMEN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7320" y="4433760"/>
              <a:ext cx="5751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2522160" y="4435560"/>
              <a:ext cx="1073160" cy="171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42960" y="2235240"/>
              <a:ext cx="1349280" cy="2191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96960" y="2235240"/>
              <a:ext cx="1349640" cy="2191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20840" y="5354640"/>
              <a:ext cx="77292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786200" y="5614920"/>
              <a:ext cx="385920" cy="43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141440" y="3332160"/>
              <a:ext cx="49212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6224400" y="2700000"/>
              <a:ext cx="169920" cy="3049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6538680" y="1501920"/>
              <a:ext cx="1066680" cy="458280"/>
              <a:chOff x="6538680" y="1501920"/>
              <a:chExt cx="1066680" cy="458280"/>
            </a:xfrm>
          </p:grpSpPr>
          <p:sp>
            <p:nvSpPr>
              <p:cNvPr id="242" name=""/>
              <p:cNvSpPr/>
              <p:nvPr/>
            </p:nvSpPr>
            <p:spPr>
              <a:xfrm>
                <a:off x="6538680" y="1501920"/>
                <a:ext cx="1066680" cy="458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620400" y="1501920"/>
                <a:ext cx="98496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200" spc="-1" strike="noStrike">
                    <a:solidFill>
                      <a:srgbClr val="ff3300"/>
                    </a:solidFill>
                    <a:latin typeface="Arial"/>
                  </a:rPr>
                  <a:t>Etiquetas con err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5548320" y="2265120"/>
              <a:ext cx="1600200" cy="453960"/>
              <a:chOff x="5548320" y="2265120"/>
              <a:chExt cx="1600200" cy="453960"/>
            </a:xfrm>
          </p:grpSpPr>
          <p:sp>
            <p:nvSpPr>
              <p:cNvPr id="245" name=""/>
              <p:cNvSpPr/>
              <p:nvPr/>
            </p:nvSpPr>
            <p:spPr>
              <a:xfrm>
                <a:off x="5548320" y="2300040"/>
                <a:ext cx="1524240" cy="3808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589720" y="2265120"/>
                <a:ext cx="155880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200" spc="-1" strike="noStrike">
                    <a:solidFill>
                      <a:srgbClr val="ff3300"/>
                    </a:solidFill>
                    <a:latin typeface="Arial"/>
                  </a:rPr>
                  <a:t>Datos ilegibles en hoja de registr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 flipH="1">
              <a:off x="6757920" y="1982520"/>
              <a:ext cx="169920" cy="3049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44560" y="3408120"/>
              <a:ext cx="45072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90240" y="3136680"/>
              <a:ext cx="115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ausa nivel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47440" y="2374920"/>
              <a:ext cx="115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ausa nivel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80960" y="1609560"/>
              <a:ext cx="115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ausa nivel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24760" y="5160960"/>
              <a:ext cx="130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Solicitudes si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program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97040" y="3179520"/>
              <a:ext cx="45108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4322160" y="4435560"/>
              <a:ext cx="1073160" cy="171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¿Cuáles son las causas finales de los problemas a solucion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Caso clase anterior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istema nacional solidari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Canastas de alimentos a familias de escasos recurso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ás de 1500 puntos de distribució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1,2 MM de beneficiari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US 30 MM de inversión anual en estos programa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Graves problemas de eficienci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Definición del modelo de negocio y del Proces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59" name=""/>
          <p:cNvSpPr/>
          <p:nvPr/>
        </p:nvSpPr>
        <p:spPr>
          <a:xfrm>
            <a:off x="826920" y="2133720"/>
            <a:ext cx="756144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5 macro proce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Desarrollo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Licitación de prov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Certificación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Orden, distribución y entre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Pa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acro procesos=Macro procesos (recursos, configuración, carga de trabajo, niveles de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932360" y="1916280"/>
            <a:ext cx="3943080" cy="2377080"/>
            <a:chOff x="4932360" y="1916280"/>
            <a:chExt cx="3943080" cy="2377080"/>
          </a:xfrm>
        </p:grpSpPr>
        <p:grpSp>
          <p:nvGrpSpPr>
            <p:cNvPr id="261" name=""/>
            <p:cNvGrpSpPr/>
            <p:nvPr/>
          </p:nvGrpSpPr>
          <p:grpSpPr>
            <a:xfrm>
              <a:off x="5114160" y="2043360"/>
              <a:ext cx="1095120" cy="507960"/>
              <a:chOff x="5114160" y="2043360"/>
              <a:chExt cx="1095120" cy="507960"/>
            </a:xfrm>
          </p:grpSpPr>
          <p:sp>
            <p:nvSpPr>
              <p:cNvPr id="262" name=""/>
              <p:cNvSpPr/>
              <p:nvPr/>
            </p:nvSpPr>
            <p:spPr>
              <a:xfrm>
                <a:off x="5114160" y="2043360"/>
                <a:ext cx="1095120" cy="5079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14160" y="2043360"/>
                <a:ext cx="1095120" cy="5079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14160" y="2043360"/>
                <a:ext cx="1095120" cy="5079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5114160" y="2043360"/>
              <a:ext cx="1095120" cy="5079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20360" y="2228760"/>
              <a:ext cx="1535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roceso Mac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5603040" y="2551680"/>
              <a:ext cx="50040" cy="190080"/>
              <a:chOff x="5603040" y="2551680"/>
              <a:chExt cx="50040" cy="190080"/>
            </a:xfrm>
          </p:grpSpPr>
          <p:sp>
            <p:nvSpPr>
              <p:cNvPr id="268" name=""/>
              <p:cNvSpPr/>
              <p:nvPr/>
            </p:nvSpPr>
            <p:spPr>
              <a:xfrm flipV="1">
                <a:off x="5625720" y="2583000"/>
                <a:ext cx="720" cy="158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603040" y="2551680"/>
                <a:ext cx="50040" cy="3924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53" y="46"/>
                    </a:moveTo>
                    <a:lnTo>
                      <a:pt x="24" y="0"/>
                    </a:lnTo>
                    <a:lnTo>
                      <a:pt x="0" y="46"/>
                    </a:lnTo>
                    <a:lnTo>
                      <a:pt x="5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932360" y="2277720"/>
              <a:ext cx="181440" cy="42480"/>
              <a:chOff x="4932360" y="2277720"/>
              <a:chExt cx="181440" cy="42480"/>
            </a:xfrm>
          </p:grpSpPr>
          <p:sp>
            <p:nvSpPr>
              <p:cNvPr id="271" name=""/>
              <p:cNvSpPr/>
              <p:nvPr/>
            </p:nvSpPr>
            <p:spPr>
              <a:xfrm>
                <a:off x="4932360" y="2297160"/>
                <a:ext cx="145080" cy="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068800" y="2277720"/>
                <a:ext cx="45000" cy="4248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0" y="50"/>
                    </a:moveTo>
                    <a:lnTo>
                      <a:pt x="48" y="23"/>
                    </a:lnTo>
                    <a:lnTo>
                      <a:pt x="0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5598360" y="1916280"/>
              <a:ext cx="50040" cy="126720"/>
              <a:chOff x="5598360" y="1916280"/>
              <a:chExt cx="50040" cy="126720"/>
            </a:xfrm>
          </p:grpSpPr>
          <p:sp>
            <p:nvSpPr>
              <p:cNvPr id="274" name=""/>
              <p:cNvSpPr/>
              <p:nvPr/>
            </p:nvSpPr>
            <p:spPr>
              <a:xfrm>
                <a:off x="5625720" y="1916280"/>
                <a:ext cx="720" cy="95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598360" y="2003760"/>
                <a:ext cx="50040" cy="3924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0" y="0"/>
                    </a:moveTo>
                    <a:lnTo>
                      <a:pt x="29" y="46"/>
                    </a:lnTo>
                    <a:lnTo>
                      <a:pt x="5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6209640" y="2273400"/>
              <a:ext cx="219600" cy="43560"/>
              <a:chOff x="6209640" y="2273400"/>
              <a:chExt cx="219600" cy="43560"/>
            </a:xfrm>
          </p:grpSpPr>
          <p:sp>
            <p:nvSpPr>
              <p:cNvPr id="277" name=""/>
              <p:cNvSpPr/>
              <p:nvPr/>
            </p:nvSpPr>
            <p:spPr>
              <a:xfrm flipH="1">
                <a:off x="6246360" y="2297160"/>
                <a:ext cx="182880" cy="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209640" y="2273400"/>
                <a:ext cx="46080" cy="4356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49" y="0"/>
                    </a:moveTo>
                    <a:lnTo>
                      <a:pt x="0" y="28"/>
                    </a:lnTo>
                    <a:lnTo>
                      <a:pt x="49" y="5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6118920" y="2864880"/>
              <a:ext cx="278280" cy="173880"/>
            </a:xfrm>
            <a:prstGeom prst="rect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18920" y="2864880"/>
              <a:ext cx="278280" cy="173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18920" y="2864880"/>
              <a:ext cx="278280" cy="173880"/>
            </a:xfrm>
            <a:prstGeom prst="rect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18920" y="2864880"/>
              <a:ext cx="278280" cy="1738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38760" y="3011400"/>
              <a:ext cx="278280" cy="205920"/>
            </a:xfrm>
            <a:prstGeom prst="rect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638760" y="3011400"/>
              <a:ext cx="278280" cy="205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638760" y="3011400"/>
              <a:ext cx="278280" cy="205920"/>
            </a:xfrm>
            <a:prstGeom prst="rect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38760" y="3011400"/>
              <a:ext cx="278280" cy="2059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22960" y="3158280"/>
              <a:ext cx="347040" cy="234360"/>
            </a:xfrm>
            <a:prstGeom prst="rect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22960" y="3158280"/>
              <a:ext cx="347040" cy="234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22960" y="3158280"/>
              <a:ext cx="347040" cy="234360"/>
            </a:xfrm>
            <a:prstGeom prst="rect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22960" y="3158280"/>
              <a:ext cx="347040" cy="23436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50160" y="2718000"/>
              <a:ext cx="1561320" cy="762120"/>
            </a:xfrm>
            <a:prstGeom prst="rect">
              <a:avLst/>
            </a:prstGeom>
            <a:noFill/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08600" y="2543040"/>
              <a:ext cx="241200" cy="674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08600" y="2543040"/>
              <a:ext cx="1177560" cy="174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5876640" y="2932560"/>
              <a:ext cx="242280" cy="42480"/>
              <a:chOff x="5876640" y="2932560"/>
              <a:chExt cx="242280" cy="42480"/>
            </a:xfrm>
          </p:grpSpPr>
          <p:sp>
            <p:nvSpPr>
              <p:cNvPr id="295" name=""/>
              <p:cNvSpPr/>
              <p:nvPr/>
            </p:nvSpPr>
            <p:spPr>
              <a:xfrm>
                <a:off x="5876640" y="2952000"/>
                <a:ext cx="205560" cy="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072840" y="2932560"/>
                <a:ext cx="46080" cy="4248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0" y="50"/>
                    </a:moveTo>
                    <a:lnTo>
                      <a:pt x="49" y="23"/>
                    </a:lnTo>
                    <a:lnTo>
                      <a:pt x="0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6534360" y="3079440"/>
              <a:ext cx="104040" cy="43560"/>
              <a:chOff x="6534360" y="3079440"/>
              <a:chExt cx="104040" cy="43560"/>
            </a:xfrm>
          </p:grpSpPr>
          <p:sp>
            <p:nvSpPr>
              <p:cNvPr id="298" name=""/>
              <p:cNvSpPr/>
              <p:nvPr/>
            </p:nvSpPr>
            <p:spPr>
              <a:xfrm>
                <a:off x="6534360" y="3098880"/>
                <a:ext cx="67680" cy="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93400" y="3079440"/>
                <a:ext cx="45000" cy="4356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0" y="51"/>
                    </a:moveTo>
                    <a:lnTo>
                      <a:pt x="48" y="23"/>
                    </a:lnTo>
                    <a:lnTo>
                      <a:pt x="0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7053840" y="3258000"/>
              <a:ext cx="68400" cy="43560"/>
              <a:chOff x="7053840" y="3258000"/>
              <a:chExt cx="68400" cy="43560"/>
            </a:xfrm>
          </p:grpSpPr>
          <p:sp>
            <p:nvSpPr>
              <p:cNvPr id="301" name=""/>
              <p:cNvSpPr/>
              <p:nvPr/>
            </p:nvSpPr>
            <p:spPr>
              <a:xfrm>
                <a:off x="7053840" y="3277440"/>
                <a:ext cx="32040" cy="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077240" y="3258000"/>
                <a:ext cx="45000" cy="4356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0" y="51"/>
                    </a:moveTo>
                    <a:lnTo>
                      <a:pt x="48" y="23"/>
                    </a:lnTo>
                    <a:lnTo>
                      <a:pt x="0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6397200" y="2952360"/>
              <a:ext cx="136800" cy="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34360" y="2952360"/>
              <a:ext cx="720" cy="146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917400" y="3099240"/>
              <a:ext cx="136440" cy="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053840" y="3099240"/>
              <a:ext cx="720" cy="178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6716160" y="2424240"/>
              <a:ext cx="50760" cy="586440"/>
              <a:chOff x="6716160" y="2424240"/>
              <a:chExt cx="50760" cy="586440"/>
            </a:xfrm>
          </p:grpSpPr>
          <p:sp>
            <p:nvSpPr>
              <p:cNvPr id="308" name=""/>
              <p:cNvSpPr/>
              <p:nvPr/>
            </p:nvSpPr>
            <p:spPr>
              <a:xfrm>
                <a:off x="6743160" y="2424240"/>
                <a:ext cx="720" cy="555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16160" y="2971440"/>
                <a:ext cx="50760" cy="39240"/>
              </a:xfrm>
              <a:custGeom>
                <a:avLst/>
                <a:gdLst/>
                <a:ahLst/>
                <a:rect l="l" t="t" r="r" b="b"/>
                <a:pathLst>
                  <a:path w="54" h="46">
                    <a:moveTo>
                      <a:pt x="0" y="0"/>
                    </a:moveTo>
                    <a:lnTo>
                      <a:pt x="29" y="46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7269120" y="2864880"/>
              <a:ext cx="49680" cy="293040"/>
              <a:chOff x="7269120" y="2864880"/>
              <a:chExt cx="49680" cy="293040"/>
            </a:xfrm>
          </p:grpSpPr>
          <p:sp>
            <p:nvSpPr>
              <p:cNvPr id="311" name=""/>
              <p:cNvSpPr/>
              <p:nvPr/>
            </p:nvSpPr>
            <p:spPr>
              <a:xfrm>
                <a:off x="7296480" y="2864880"/>
                <a:ext cx="720" cy="261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269120" y="3118680"/>
                <a:ext cx="49680" cy="3924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0" y="0"/>
                    </a:moveTo>
                    <a:lnTo>
                      <a:pt x="29" y="46"/>
                    </a:lnTo>
                    <a:lnTo>
                      <a:pt x="5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753240" y="3217680"/>
              <a:ext cx="49680" cy="380880"/>
              <a:chOff x="6753240" y="3217680"/>
              <a:chExt cx="49680" cy="380880"/>
            </a:xfrm>
          </p:grpSpPr>
          <p:sp>
            <p:nvSpPr>
              <p:cNvPr id="314" name=""/>
              <p:cNvSpPr/>
              <p:nvPr/>
            </p:nvSpPr>
            <p:spPr>
              <a:xfrm flipV="1">
                <a:off x="6775560" y="3249360"/>
                <a:ext cx="720" cy="349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753240" y="3217680"/>
                <a:ext cx="49680" cy="3996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53" y="47"/>
                    </a:moveTo>
                    <a:lnTo>
                      <a:pt x="24" y="0"/>
                    </a:lnTo>
                    <a:lnTo>
                      <a:pt x="0" y="47"/>
                    </a:lnTo>
                    <a:lnTo>
                      <a:pt x="5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7470000" y="3258000"/>
              <a:ext cx="345960" cy="43560"/>
              <a:chOff x="7470000" y="3258000"/>
              <a:chExt cx="345960" cy="43560"/>
            </a:xfrm>
          </p:grpSpPr>
          <p:sp>
            <p:nvSpPr>
              <p:cNvPr id="317" name=""/>
              <p:cNvSpPr/>
              <p:nvPr/>
            </p:nvSpPr>
            <p:spPr>
              <a:xfrm>
                <a:off x="7470000" y="3277440"/>
                <a:ext cx="310320" cy="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770960" y="3258000"/>
                <a:ext cx="45000" cy="4356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0" y="51"/>
                    </a:moveTo>
                    <a:lnTo>
                      <a:pt x="48" y="23"/>
                    </a:lnTo>
                    <a:lnTo>
                      <a:pt x="0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7108560" y="3448440"/>
              <a:ext cx="1561320" cy="7610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177680" y="3595320"/>
              <a:ext cx="278280" cy="173880"/>
            </a:xfrm>
            <a:prstGeom prst="rect">
              <a:avLst/>
            </a:prstGeom>
            <a:solidFill>
              <a:srgbClr val="a3b2c1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Verdana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98240" y="3742200"/>
              <a:ext cx="278280" cy="205920"/>
            </a:xfrm>
            <a:prstGeom prst="rect">
              <a:avLst/>
            </a:prstGeom>
            <a:solidFill>
              <a:srgbClr val="a3b2c1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Verdana"/>
                </a:rPr>
                <a:t>2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182440" y="3889080"/>
              <a:ext cx="346320" cy="234360"/>
            </a:xfrm>
            <a:prstGeom prst="rect">
              <a:avLst/>
            </a:prstGeom>
            <a:solidFill>
              <a:srgbClr val="a3b2c1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Verdana"/>
                </a:rPr>
                <a:t>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67000" y="3217680"/>
              <a:ext cx="224640" cy="829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67000" y="3217680"/>
              <a:ext cx="255600" cy="222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6936120" y="3662280"/>
              <a:ext cx="240840" cy="43560"/>
              <a:chOff x="6936120" y="3662280"/>
              <a:chExt cx="240840" cy="43560"/>
            </a:xfrm>
          </p:grpSpPr>
          <p:sp>
            <p:nvSpPr>
              <p:cNvPr id="326" name=""/>
              <p:cNvSpPr/>
              <p:nvPr/>
            </p:nvSpPr>
            <p:spPr>
              <a:xfrm>
                <a:off x="6936120" y="3681720"/>
                <a:ext cx="204480" cy="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131960" y="3662280"/>
                <a:ext cx="45000" cy="4356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0" y="51"/>
                    </a:moveTo>
                    <a:lnTo>
                      <a:pt x="48" y="23"/>
                    </a:lnTo>
                    <a:lnTo>
                      <a:pt x="0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7592760" y="3809160"/>
              <a:ext cx="105480" cy="43560"/>
              <a:chOff x="7592760" y="3809160"/>
              <a:chExt cx="105480" cy="43560"/>
            </a:xfrm>
          </p:grpSpPr>
          <p:sp>
            <p:nvSpPr>
              <p:cNvPr id="329" name=""/>
              <p:cNvSpPr/>
              <p:nvPr/>
            </p:nvSpPr>
            <p:spPr>
              <a:xfrm>
                <a:off x="7592760" y="3829680"/>
                <a:ext cx="68760" cy="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652160" y="3809160"/>
                <a:ext cx="46080" cy="4356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0" y="51"/>
                    </a:moveTo>
                    <a:lnTo>
                      <a:pt x="49" y="24"/>
                    </a:lnTo>
                    <a:lnTo>
                      <a:pt x="0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8113320" y="3987720"/>
              <a:ext cx="68760" cy="43560"/>
              <a:chOff x="8113320" y="3987720"/>
              <a:chExt cx="68760" cy="43560"/>
            </a:xfrm>
          </p:grpSpPr>
          <p:sp>
            <p:nvSpPr>
              <p:cNvPr id="332" name=""/>
              <p:cNvSpPr/>
              <p:nvPr/>
            </p:nvSpPr>
            <p:spPr>
              <a:xfrm>
                <a:off x="8113320" y="4008240"/>
                <a:ext cx="32040" cy="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136000" y="3987720"/>
                <a:ext cx="46080" cy="4356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0" y="51"/>
                    </a:moveTo>
                    <a:lnTo>
                      <a:pt x="49" y="24"/>
                    </a:lnTo>
                    <a:lnTo>
                      <a:pt x="0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7455960" y="3682080"/>
              <a:ext cx="136440" cy="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592760" y="3682080"/>
              <a:ext cx="720" cy="147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76880" y="3829680"/>
              <a:ext cx="136440" cy="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113320" y="3829680"/>
              <a:ext cx="720" cy="178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7776000" y="3153960"/>
              <a:ext cx="49680" cy="587520"/>
              <a:chOff x="7776000" y="3153960"/>
              <a:chExt cx="49680" cy="587520"/>
            </a:xfrm>
          </p:grpSpPr>
          <p:sp>
            <p:nvSpPr>
              <p:cNvPr id="339" name=""/>
              <p:cNvSpPr/>
              <p:nvPr/>
            </p:nvSpPr>
            <p:spPr>
              <a:xfrm>
                <a:off x="7803360" y="3153960"/>
                <a:ext cx="720" cy="556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776000" y="3702240"/>
                <a:ext cx="49680" cy="3924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0" y="0"/>
                    </a:moveTo>
                    <a:lnTo>
                      <a:pt x="29" y="46"/>
                    </a:lnTo>
                    <a:lnTo>
                      <a:pt x="5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8327520" y="3595320"/>
              <a:ext cx="51120" cy="293040"/>
              <a:chOff x="8327520" y="3595320"/>
              <a:chExt cx="51120" cy="293040"/>
            </a:xfrm>
          </p:grpSpPr>
          <p:sp>
            <p:nvSpPr>
              <p:cNvPr id="342" name=""/>
              <p:cNvSpPr/>
              <p:nvPr/>
            </p:nvSpPr>
            <p:spPr>
              <a:xfrm>
                <a:off x="8354880" y="3595320"/>
                <a:ext cx="720" cy="261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327520" y="3849120"/>
                <a:ext cx="51120" cy="39240"/>
              </a:xfrm>
              <a:custGeom>
                <a:avLst/>
                <a:gdLst/>
                <a:ahLst/>
                <a:rect l="l" t="t" r="r" b="b"/>
                <a:pathLst>
                  <a:path w="54" h="46">
                    <a:moveTo>
                      <a:pt x="0" y="0"/>
                    </a:moveTo>
                    <a:lnTo>
                      <a:pt x="29" y="46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7816320" y="3948120"/>
              <a:ext cx="46080" cy="345240"/>
              <a:chOff x="7816320" y="3948120"/>
              <a:chExt cx="46080" cy="345240"/>
            </a:xfrm>
          </p:grpSpPr>
          <p:sp>
            <p:nvSpPr>
              <p:cNvPr id="345" name=""/>
              <p:cNvSpPr/>
              <p:nvPr/>
            </p:nvSpPr>
            <p:spPr>
              <a:xfrm flipV="1">
                <a:off x="7837200" y="3976560"/>
                <a:ext cx="720" cy="316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816320" y="3948120"/>
                <a:ext cx="46080" cy="3564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53" y="46"/>
                    </a:moveTo>
                    <a:lnTo>
                      <a:pt x="24" y="0"/>
                    </a:lnTo>
                    <a:lnTo>
                      <a:pt x="0" y="46"/>
                    </a:lnTo>
                    <a:lnTo>
                      <a:pt x="5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8528760" y="3987720"/>
              <a:ext cx="346680" cy="43560"/>
              <a:chOff x="8528760" y="3987720"/>
              <a:chExt cx="346680" cy="43560"/>
            </a:xfrm>
          </p:grpSpPr>
          <p:sp>
            <p:nvSpPr>
              <p:cNvPr id="348" name=""/>
              <p:cNvSpPr/>
              <p:nvPr/>
            </p:nvSpPr>
            <p:spPr>
              <a:xfrm>
                <a:off x="8528760" y="4008240"/>
                <a:ext cx="309960" cy="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830440" y="3987720"/>
                <a:ext cx="45000" cy="4356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0" y="51"/>
                    </a:moveTo>
                    <a:lnTo>
                      <a:pt x="48" y="24"/>
                    </a:lnTo>
                    <a:lnTo>
                      <a:pt x="0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0" name=""/>
          <p:cNvSpPr/>
          <p:nvPr/>
        </p:nvSpPr>
        <p:spPr>
          <a:xfrm>
            <a:off x="5160960" y="270828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Recur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84720" y="177336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612840" y="134136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Config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01400" y="206064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(Niveles de servic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47040" y="1773360"/>
            <a:ext cx="11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(Carg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trabaj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Agenda 10 Agost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Evaluación de la situación actual de un proces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Diagrama de Paret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Diagrama de Ishikaw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Cas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olución al caso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Situación actual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acro proceso: Desarrollo de product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Usuarios satisfechos con sistema (90%)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Sin embargo, no se satisfacen gustos más específicos (sabores de los productos de la canast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acro proceso: Licitació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Altos precios: Licitaciones de corto plazo, costo financiero para proveedores por pagos tardíos, efecto látigo por pedidos sorpresa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Falta de responsable de este proceso: No hay incentivos a aumentar su eficiencia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Situación actual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acro proceso: Certificación de calida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Permite eliminar reflujos y prevenir enfermedades (mejor nivel de servicio)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Lentitud desde que se aprueba un lote de producción hasta que se emite el certificado (20 días)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acro proceso: Orden, distribución y entrega (1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Largos tiempos en envío de órdenes (uso de valija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Largos tiempos de respuesta obligan al sobre stock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No hay incentivos a disminuir stock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Falta de control de inventarios produce mermas 20%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Situación actual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acro proceso: Orden, distribución y entrega (2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Organismo centralizador nacional de pedidos permite mayor presión sobre proveedores irresponsable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No hay seguimiento sobre el trato sanitario de los producto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Bajo nivel de control sobre merma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Preguntas clase anterior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¿Cuál es el cliente de todo el proceso (Administración de los programas solidarios)? ¿Existen métricas para medir la satisfacción de este cliente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Identifique 1 tiempo muerto. ¿Cómo lo eliminaría??Qué valor aportaría esto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Identifique 1 tiempo de ciclo.¿Cómo lo eliminaría?¿Qué valor aportaría esto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¿Qué tipo de tic podría aportar valor al proceso?¿Cómo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¿Qué subproceso agregaría?¿Por qué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¿Qué subproceso eliminaría?¿Por qué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1989000"/>
            <a:ext cx="6913800" cy="935280"/>
          </a:xfrm>
          <a:prstGeom prst="ellipse">
            <a:avLst/>
          </a:pr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1200" y="1413000"/>
            <a:ext cx="84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9900"/>
                </a:solidFill>
                <a:latin typeface="Lucida Sans"/>
              </a:rPr>
              <a:t>Respuesta: Los beneficiarios y sólo se sabe que el 90% está con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Caso clase de hoy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spcBef>
                <a:spcPts val="451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Defina y calcule 2 métricas para evaluar el servicio que actualmente se entrega a los beneficiarios de escasos recursos. Defina rangos de aceptación para las distintas métricas definidas. ¿Cuando existen problemas?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603360" indent="-603360" algn="just">
              <a:spcBef>
                <a:spcPts val="451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¿Cuáles problemas consideraría más importantes abordar para solucionar el 80% de los problemas? Tome los supuestos que estime necesario.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603360" indent="-603360" algn="just">
              <a:spcBef>
                <a:spcPts val="451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En base a su conocimiento de los procesos del sistema, desarrolle un diagrama de espinas de pescado para explicitar las causas del problema que genera el 50% de los reclamos. Considere sólo los factores </a:t>
            </a:r>
            <a:r>
              <a:rPr b="1" lang="es-MX" sz="1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Sistemas de información </a:t>
            </a:r>
            <a:r>
              <a:rPr b="0" lang="es-MX" sz="1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y</a:t>
            </a:r>
            <a:r>
              <a:rPr b="1" lang="es-MX" sz="1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Organización.</a:t>
            </a:r>
            <a:r>
              <a:rPr b="0" lang="es-ES" sz="1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Para cada una de las causas finales, explicite su solución específica. Indique en base a esto cual debería ser la dirección de cambio en base a la cual se debiera orientar el rediseño de proceso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olución del cas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1)W=2 minut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E(#Quiebres de stock)=16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atisfacción del cliente con el sistema=90%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0&lt;W&lt;1 minut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E(#Quiebres de stock)&lt; 10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atisfacción del cliente con el sistema&gt;95%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"/>
          <p:cNvSpPr/>
          <p:nvPr/>
        </p:nvSpPr>
        <p:spPr>
          <a:xfrm>
            <a:off x="1476360" y="5516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559240" y="551484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Tenemos </a:t>
            </a:r>
            <a:r>
              <a:rPr b="0" i="1" lang="es-CL" sz="2400" spc="-1" strike="noStrike">
                <a:solidFill>
                  <a:srgbClr val="000000"/>
                </a:solidFill>
                <a:latin typeface="Lucida Sans"/>
              </a:rPr>
              <a:t>al menos</a:t>
            </a: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 3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olución del cas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8569080" cy="26240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042920" y="3141720"/>
            <a:ext cx="6121440" cy="792000"/>
          </a:xfrm>
          <a:prstGeom prst="ellipse">
            <a:avLst/>
          </a:pr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5280" y="515772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upuesto: Es más barato solucionar el problema de escoger sabores que mejorar el lugar de esp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5600" y="162576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olución del cas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377" name=""/>
          <p:cNvSpPr/>
          <p:nvPr/>
        </p:nvSpPr>
        <p:spPr>
          <a:xfrm>
            <a:off x="255600" y="162576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16000" y="4076640"/>
            <a:ext cx="61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268000" y="1988640"/>
            <a:ext cx="208764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411280" y="4076640"/>
            <a:ext cx="194472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308720" y="3573360"/>
            <a:ext cx="1440000" cy="9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eb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32000" y="1628640"/>
            <a:ext cx="3168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00000" y="6021360"/>
            <a:ext cx="3168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2708280"/>
            <a:ext cx="28796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existen sistemas en líne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a el control de invent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43280" y="29973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67280" y="2852640"/>
            <a:ext cx="28796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ción de pedidos lleg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díamente a prov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68360" y="5157720"/>
            <a:ext cx="183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exist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40000" y="537372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08720" y="5805360"/>
            <a:ext cx="28796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jas multas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ti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203280" y="5229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51280" y="4941720"/>
            <a:ext cx="28796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isten merm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 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5940360" y="5516640"/>
            <a:ext cx="432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4000" y="4437000"/>
            <a:ext cx="2232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hay nad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argado de contr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76360" y="49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492000" y="321300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84720" y="1773360"/>
            <a:ext cx="223236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ío de pedidos p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372360" y="242100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olución del cas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3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No existen sistemas en línea para el control de inventarios: Sistema en línea con niveles de inventarios alimentado mediante tecnología de códigos de barra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Envío de pedidos por valija: EDI con proveedore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No hay nadie encargado de controlar: Nombrar responsabl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Bajas multas y castigos: Mejorar incentivo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Direcciones de cambi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Coordinació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Reestructuració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Metodología de Rediseño de proceso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484280"/>
            <a:ext cx="5976720" cy="79236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finición del modelo de negocio y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2492280"/>
            <a:ext cx="5976720" cy="79236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valuación de la Situación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3571920"/>
            <a:ext cx="5976720" cy="7920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finición de dirección(es) de cambio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579920"/>
            <a:ext cx="5976720" cy="79236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lantación del rediseño pro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516640"/>
            <a:ext cx="5976720" cy="7920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esta en Marcha y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48000" y="2276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3284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48000" y="4363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48000" y="5372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04000" y="1268280"/>
            <a:ext cx="208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Config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Carga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Niveles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10120" y="256536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Métr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3429000"/>
            <a:ext cx="2266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Innov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Coord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Reestruct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88000" y="148428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42100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88000" y="350028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2349360"/>
            <a:ext cx="5545080" cy="1079640"/>
          </a:xfrm>
          <a:prstGeom prst="ellipse">
            <a:avLst/>
          </a:pr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9800" y="798120"/>
            <a:ext cx="71928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Situación Actual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Es el modelamiento formal (representación precisa) que permita interactuar con otras personas, hacer análisis sistemáticos, y validar su concordancia con el actual estad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Modelar la situación actu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Validación y Medición del proces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Medición del Proces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Razones para contar con métrica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Nos permiten identificar los procesos claves y su desempeño actual.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Definen los parámetros de evaluación del rediseño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Métricas asociadas al flujo del proces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Métricas asociadas al estado del proces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Algunas Métrica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Volumen: </a:t>
            </a:r>
            <a:r>
              <a:rPr b="0" i="1" lang="es-ES_tradnl" sz="2400" spc="-1" strike="noStrike">
                <a:solidFill>
                  <a:srgbClr val="000000"/>
                </a:solidFill>
                <a:latin typeface="Lucida Sans"/>
              </a:rPr>
              <a:t>Cantidad de nuevos cliente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Tiempo: </a:t>
            </a:r>
            <a:r>
              <a:rPr b="0" i="1" lang="es-ES_tradnl" sz="2400" spc="-1" strike="noStrike">
                <a:solidFill>
                  <a:srgbClr val="000000"/>
                </a:solidFill>
                <a:latin typeface="Lucida Sans"/>
              </a:rPr>
              <a:t>Ciclo trabaj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Cantidad de personas, organizaciones, lugare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Eficiencia: </a:t>
            </a:r>
            <a:r>
              <a:rPr b="0" i="1" lang="es-ES_tradnl" sz="2400" spc="-1" strike="noStrike">
                <a:solidFill>
                  <a:srgbClr val="000000"/>
                </a:solidFill>
                <a:latin typeface="Lucida Sans"/>
              </a:rPr>
              <a:t>Porcentaje de desecho, de error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Holguras:</a:t>
            </a:r>
            <a:r>
              <a:rPr b="0" i="1" lang="es-ES_tradnl" sz="2400" spc="-1" strike="noStrike">
                <a:solidFill>
                  <a:srgbClr val="000000"/>
                </a:solidFill>
                <a:latin typeface="Lucida Sans"/>
              </a:rPr>
              <a:t> disponibilidades de recursos no necesarios (cuellos de botella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Costo: </a:t>
            </a:r>
            <a:r>
              <a:rPr b="0" i="1" lang="es-ES_tradnl" sz="2400" spc="-1" strike="noStrike">
                <a:solidFill>
                  <a:srgbClr val="000000"/>
                </a:solidFill>
                <a:latin typeface="Lucida Sans"/>
              </a:rPr>
              <a:t>de defectos, reelaboración.</a:t>
            </a:r>
            <a:r>
              <a:rPr b="0" i="1" lang="es-ES_tradnl" sz="3200" spc="-1" strike="noStrike">
                <a:solidFill>
                  <a:srgbClr val="3333cc"/>
                </a:solidFill>
                <a:latin typeface="Lucid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835280" y="1673280"/>
          <a:ext cx="5921280" cy="44197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1673280"/>
                    <a:ext cx="59212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¿Cómo medir los parámetros?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¿Cómo medir métricas?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Trabajo en terren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Midiend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Consultas a experto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Modelos con algunas medidas de terren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Modelos simpl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Modelos de optimizació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Modelos de simulació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Cómo evaluar el impacto de los problema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Primero:¿Qué es un problema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Control de gestión: Definir rangos de aceptación para las distintas métrica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¿Cuánto tiempo es en promedio tolerable que espere un cliente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¿Qué porcentaje de error es aceptable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¿Cuál es el volumen de nuevos clientes mínimo deseable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7T19:24:10Z</dcterms:created>
  <dc:creator>Laura Bergells</dc:creator>
  <dc:description>Visit www.maniactive.com for Free PowerPoint Templates.</dc:description>
  <dc:language>en-US</dc:language>
  <cp:lastModifiedBy>mpulido</cp:lastModifiedBy>
  <dcterms:modified xsi:type="dcterms:W3CDTF">2005-08-17T14:50:00Z</dcterms:modified>
  <cp:revision>354</cp:revision>
  <dc:subject/>
  <dc:title>Lead Follow-Up: Hot, Warm &amp; Cold  CRM Conference,  October 2001 </dc:title>
</cp:coreProperties>
</file>