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77F-20C8-4BED-915E-EAF84C50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166-3A05-47BB-BE24-7D3B58F3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341-7920-4374-A332-7FD72047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8CB-55BE-4B4C-A20D-32B81B4E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CB2-D38D-41B7-A33D-4F27C117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29DB-721E-4D17-8DD7-9391BFAD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C323-7122-45F8-9D02-607D6CB0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29F5-38EC-473A-9764-2FC5A33D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4D58-4599-4E50-A6B9-D579804F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39E8-A6E1-49F9-981D-C45FC078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9E89-6268-4E7F-AD13-AB773E7D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720-1D89-414E-ADF4-151B55F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632B-8F4C-466F-BFA9-88B1155C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CD68-FB68-4AFD-B197-D2A3802B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41EA-4093-4D8D-A6F5-A285DCFC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1C6-9309-4B83-A207-C27A03C3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E12E-529D-4AF4-BD04-B3CFE819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744-DF5E-46D9-8170-8B03D705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7C1-746A-422F-B77B-49C70FE5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41C-CF26-4F11-915E-27DC1828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A86-06BC-4E78-90F0-0162A61E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A0C-9AB3-4634-99E2-95E590D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E79-AD1A-473D-BB31-11B15E3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A57-670C-4A72-989D-6B0EFBAF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ABE9-B6CA-472B-9767-ACBFCE135E4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2340-4C2A-4819-B43D-92EED7DBAE2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iseño de los Procesos de una Organización Estatal de Servicios de Emergenci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es-CL" sz="2800" spc="-1" strike="noStrike">
                <a:solidFill>
                  <a:srgbClr val="003366"/>
                </a:solidFill>
                <a:latin typeface="Times New Roman"/>
              </a:rPr>
              <a:t>Coordinación Nacional de Operaciones de Incendios Forestale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varo Ovando V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rolina Prado B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ecnologías uti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des telefónicas, Internet, Fa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huma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Un supervis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os técn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ersonal part-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483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688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246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la actualidad CENCO no hace análisis de magnitud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 la gran cantidad de datos que tiene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un falta más información para caracterizar la organ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uentes de generación de val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cursos disponib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l mode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regunt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ntecedentes Gener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Descripción de la organiz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¿Qué es CONAF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cripción de CEN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ursos disponibles limit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esencia de rigidez estructur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colección oportuna de da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Manejo deficiente de los datos disponi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 gene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alizar un rediseño de los procesos de CENCO que permita</a:t>
            </a:r>
            <a:r>
              <a:rPr b="0" i="1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la organización reasignar los recursos de forma efectiva y hacer un mejor manejo de la información de la que se dispone.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 específic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enerar nuevos procedimientos para actividades no documentad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i es necesario, mejorar procesos que presenten deficienci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plicar tecnologías para la captura, control y utilización de información proveniente de las distintas regi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ntendimiento de la Situación Actu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Rediseño de Proces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Evaluación del Rediseñ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6688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de la CONA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ordinación de la asignación de los recursos extern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izar la información atingente a los estados de incendios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Cliente/Produc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li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tidades gubernament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rales regionales de coordin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tras áreas funcionales de la CONA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tern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opietarios y Empresarios Forestale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dios de comunicació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uente de generación de va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El principal valor que genera CENCO tien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que ver con la sinergia que se produce al manejar en forma efectiva los recursos físicos y de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inform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1:10:29Z</dcterms:created>
  <dc:creator>aovando</dc:creator>
  <dc:description/>
  <dc:language>en-US</dc:language>
  <cp:lastModifiedBy>Carolina Prado Berlien</cp:lastModifiedBy>
  <dcterms:modified xsi:type="dcterms:W3CDTF">2005-08-09T02:26:23Z</dcterms:modified>
  <cp:revision>9</cp:revision>
  <dc:subject/>
  <dc:title>Rediseño de los procesos de una organización estatal de servicios de emergencia </dc:title>
</cp:coreProperties>
</file>