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68FB-BA5F-44CD-8CC4-C3240E877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17C8-422E-4E59-A786-9708D13D7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95C2-6795-4D7F-BB4B-56E744708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DBA3-20B0-493F-ACB5-DBB99BA8F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9C007-B847-4D37-9F20-5209E30B6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93F9B-D165-4EF6-9A2F-0A39821BB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AF43B-7368-42A8-8447-146BD16F1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5FF2C-6A57-4548-A2C0-5A40B8AB0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C34C9-2E8D-4095-AB6D-8F2919014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01DBC-7038-42C1-8110-C93F82005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16D71-F0CD-40E2-B153-E783BD8C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61FC-479F-448B-9EF3-A3245D030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576CC-17DF-4CCB-9256-2EBA409A9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4B5DB-9189-4D13-B621-F2BA0BED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A951D-98BD-4919-8769-D6E49D7FF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825D2-D679-4395-9362-D002EB753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2C23D-E573-48AC-9241-076F7F6F0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BD52-0D68-4E1E-86DD-EC87C944B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C859-0483-4927-8E5B-8C28F9D87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4F48-8587-4AD3-8CD3-5B89BB751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A3C3-7FC8-4365-AC88-6ECE7C142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0FDE-BBB1-4333-BE8B-FBB7F56C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B077-4457-4C38-B75B-A5A47C58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19D9-274C-41AE-9B8D-7CED4C576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BA3DA-1153-416B-A223-B9B7AD71F8C9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7A1D0-60BE-4196-825F-8E4962E0DB56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diseño de los Procesos de una Organización Estatal de Servicios de Emergencia</a:t>
            </a:r>
            <a:br>
              <a:rPr sz="3600"/>
            </a:b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899640" y="335772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1" lang="es-CL" sz="2800" spc="-1" strike="noStrike">
                <a:solidFill>
                  <a:srgbClr val="003366"/>
                </a:solidFill>
                <a:latin typeface="Times New Roman"/>
              </a:rPr>
              <a:t>Coordinación Nacional de Operaciones de Incendios Forestales”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lvaro Ovando V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arolina Prado B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Recursos disponibl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Tecnologías utilizada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Redes telefónicas, Internet, Fax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Computador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Recursos human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Un supervisor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Dos técnico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Personal part-tim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Descripción del Model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6448320" cy="48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Descripción del Model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66880" y="13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52464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Comentari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En la actualidad CENCO no hace análisis de magnitud</a:t>
            </a:r>
            <a:r>
              <a:rPr b="0" lang="es-CL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s-CL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on la gran cantidad de datos que tiene</a:t>
            </a:r>
            <a:r>
              <a:rPr b="0" lang="en-GB" sz="32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Aun falta más información para caracterizar la organización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Pregunt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Antecedentes general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Metodologí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Cliente/product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Fuentes de generación de valo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Recursos disponibl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Descripción del model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Comentari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Pregunta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Antecedentes General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Descripción de la organizació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¿Qué es CONAF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Descripción de CENC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Justificación del problem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Recursos disponibles limitado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Presencia de rigidez estructura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Recolección oportuna de dato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Manejo deficiente de los datos disponibl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Objetivo genera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</a:t>
            </a:r>
            <a:r>
              <a:rPr b="0" i="1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Realizar un rediseño de los procesos de CENCO que permita</a:t>
            </a:r>
            <a:r>
              <a:rPr b="0" i="1" lang="es-E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 la organización reasignar los recursos de forma efectiva y hacer un mejor manejo de la información de la que se dispone.</a:t>
            </a:r>
            <a:r>
              <a:rPr b="0" i="1" lang="en-GB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Objetivos específico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Generar nuevos procedimientos para actividades no documentada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Si es necesario, mejorar procesos que presenten deficiencia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Aplicar tecnologías para la captura, control y utilización de información proveniente de las distintas region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etodologí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Times New Roman"/>
                <a:ea typeface="Arial Unicode MS"/>
              </a:rPr>
              <a:t>Entendimiento de la Situación Actual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Times New Roman"/>
                <a:ea typeface="Arial Unicode MS"/>
              </a:rPr>
              <a:t>Rediseño de Procesos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Times New Roman"/>
                <a:ea typeface="Arial Unicode MS"/>
              </a:rPr>
              <a:t>Evaluación del Rediseño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766880" y="17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Cliente/Product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Product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oordinación de la asignación de los recursos de la CONAF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oordinación de la asignación de los recursos externos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entralizar la información atingente a los estados de incendios.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Cliente/Product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Client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Intern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074600" indent="-226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Entidades gubernamentale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074600" indent="-226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entrales regionales de coordinación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074600" indent="-22608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Otras áreas funcionales de la CONAF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07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Extern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074600" indent="-226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Propietarios y Empresarios Forestales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074600" indent="-226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Medios de comunicación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Fuente de generación de valo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Times New Roman"/>
              </a:rPr>
              <a:t>El principal valor que genera CENCO tiene</a:t>
            </a: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003366"/>
                </a:solidFill>
                <a:latin typeface="Times New Roman"/>
              </a:rPr>
              <a:t>que ver con la sinergia que se produce al manejar en forma efectiva los recursos físicos y de</a:t>
            </a: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003366"/>
                </a:solidFill>
                <a:latin typeface="Times New Roman"/>
              </a:rPr>
              <a:t>información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8T21:10:29Z</dcterms:created>
  <dc:creator>aovando</dc:creator>
  <dc:description/>
  <dc:language>en-US</dc:language>
  <cp:lastModifiedBy>Carolina Prado Berlien</cp:lastModifiedBy>
  <dcterms:modified xsi:type="dcterms:W3CDTF">2005-08-09T02:26:23Z</dcterms:modified>
  <cp:revision>9</cp:revision>
  <dc:subject/>
  <dc:title>Rediseño de los procesos de una organización estatal de servicios de emergencia </dc:title>
</cp:coreProperties>
</file>