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C836-D258-4B31-A553-C14E7F38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E30E-7255-4A80-A0EB-B3A54EC1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D59D-9D5A-4081-8E6F-0483E094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9752-0423-4360-B229-19BF256F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30F0-DFF8-48D7-93D7-B6CD0EB2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1D28-7272-4593-9CDE-1B31739F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50AC-584C-4F05-AC4B-8C7FF06B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388B-5394-4705-9F49-E955E3DD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E6F7-5342-48CF-9426-8FD59D3C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BB9A-4917-477F-BFFE-1B4462C4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2665-83D3-4E99-81AE-12DD6580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A5B9-04A5-4D03-8AAF-0A28BD26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F43A-A9D1-4B09-A477-C5778F77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E371-3167-4FFB-BE84-5FF2FBBB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29DF-83AD-420C-8A32-E4418FF3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00C4-298B-41FF-AF3F-917A1B4D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8CF0-83FD-4FCE-8FA2-AB4E9C0C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80D4-7E81-4AB6-AA25-245CC04D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3DFF-69BD-4E89-A132-71EC1073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CDEA-835C-4F4A-A53E-46C4EC90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9956-C715-46E6-A677-FB0EC2E8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7335-B89D-470B-9F8A-DDBB9AF8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9DA4-A7AD-4EBD-8695-A120F82F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2C21-10C9-4155-ACC9-8828DDDA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D01D-CF0D-469D-B41B-77CB923E3EA4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4C68-1FA5-4AC0-996E-486062D012D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diseño de los Procesos de una Organización Estatal de Servicios de Emergencia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99640" y="33577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Coordinación Nacional de Operaciones de Incendios Forestales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lvaro Ovando V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arolina Prado B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Recursos disponi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Tecnologías utilizad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Redes telefónicas, Internet, Fa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Computad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ecursos human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Un supervisor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Dos técnic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Personal part-ti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Descripción del Model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4832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Descripción del Model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6688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52464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Comentari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n la actualidad CENCO no hace análisis de magnitud</a:t>
            </a:r>
            <a:r>
              <a:rPr b="0" lang="es-C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n la gran cantidad de datos que tiene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un falta más información para caracterizar la organizació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Pregunt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Antecedentes gener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etodologí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liente/produc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Fuentes de generación de val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ecursos disponib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Descripción del mode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Pregunt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ntecedentes Gener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Descripción de la organiz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¿Qué es CONAF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Descripción de CENC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Justificación del problem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Recursos disponibles limitad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Presencia de rigidez estructur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Recolección oportuna de dat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Manejo deficiente de los datos disponib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Objetivo gener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alizar un rediseño de los procesos de CENCO que permita</a:t>
            </a:r>
            <a:r>
              <a:rPr b="0" i="1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 la organización reasignar los recursos de forma efectiva y hacer un mejor manejo de la información de la que se dispone.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Objetivos específic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Generar nuevos procedimientos para actividades no documentada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Si es necesario, mejorar procesos que presenten deficiencia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Aplicar tecnologías para la captura, control y utilización de información proveniente de las distintas regio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Entendimiento de la Situación Actual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Rediseño de Proceso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Evaluación del Rediseño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6688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Cliente/Produc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Produc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ordinación de la asignación de los recursos de la CONAF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ordinación de la asignación de los recursos externo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entralizar la información atingente a los estados de incendios.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Cliente/Produc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Clien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Intern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ntidades gubernamental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entrales regionales de coordinació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tras áreas funcionales de la CONAF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xtern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opietarios y Empresarios Forestales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edios de comunicación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Fuente de generación de valo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El principal valor que genera CENCO tiene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que ver con la sinergia que se produce al manejar en forma efectiva los recursos físicos y de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informació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21:10:29Z</dcterms:created>
  <dc:creator>aovando</dc:creator>
  <dc:description/>
  <dc:language>en-US</dc:language>
  <cp:lastModifiedBy>Carolina Prado Berlien</cp:lastModifiedBy>
  <dcterms:modified xsi:type="dcterms:W3CDTF">2005-08-09T02:26:23Z</dcterms:modified>
  <cp:revision>9</cp:revision>
  <dc:subject/>
  <dc:title>Rediseño de los procesos de una organización estatal de servicios de emergencia </dc:title>
</cp:coreProperties>
</file>