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803-F164-4BE2-9989-746115F4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150-D77C-4393-BBCB-3896F8C5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757-9019-418C-8824-85B8A0E3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8E8-0876-4F48-BB45-3BAC3C25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A759-5FBA-4ADB-B258-8CE87483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1F7E-F5BC-472F-92F1-6CEA3543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A6AC-CBA3-4B46-8848-A892ADD9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6AB3-DEBE-49B8-B330-0662A637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BEF2-7541-4A1D-9E4E-E74BACE7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34F7-1FC1-430C-B338-158A640E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8E4C-9DCD-4B0E-94E3-7E8963A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B9D-3F19-431B-A175-3A61982C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0FDB-C0AD-4894-946A-7EEBF091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3085-9879-4CE7-8496-67873BA2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75DD-B1CE-4553-B5E0-1C5144F8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D57-AA9E-4F1B-AF9C-E70F8FFC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CD8E-D116-41BE-BAFA-FC3946E5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DAE-4D3B-41F3-9F8C-61E871A1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38A-AB85-404C-8433-5F985D2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51A-45D0-4A65-8BC3-F6A34FB8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E68-0EAB-4BDB-8A44-A4F65CFB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783-1780-4335-B2A7-E4CE307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522-1883-46E2-B5CF-D4E2CE8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3B1-4C39-40A9-8B75-9C4F230A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CC03-0548-4679-8D47-2482949F90C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5B11-A6FF-49E7-9CA8-A9EB355CCFB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iseño de los Procesos de una Organización Estatal de Servicios de Emergencia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99640" y="3357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oordinación Nacional de Operaciones de Incendios Forestale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lvaro Ovando V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rolina Prado B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ecnologías utilizad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des telefónicas, Internet, Fa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huma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Un supervis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os técnic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ersonal part-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483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6688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5246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la actualidad CENCO no hace análisis de magnitud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 la gran cantidad de datos que tiene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un falta más información para caracterizar la organiz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uentes de generación de val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 la organiz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¿Qué es CONAF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cripción de CEN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Justificación del probl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ursos disponibles limit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esencia de rigidez estructur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olección oportuna de da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Manejo deficiente de los datos disponi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 gener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alizar un rediseño de los procesos de CENCO que permita</a:t>
            </a: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la organización reasignar los recursos de forma efectiva y hacer un mejor manejo de la información de la que se dispone.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 específic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Generar nuevos procedimientos para actividades no documentad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i es necesario, mejorar procesos que presenten deficienci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plicar tecnologías para la captura, control y utilización de información proveniente de las distintas regi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ntendimiento de la Situación Actua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Rediseño de Proceso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valuación del Rediseñ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6688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rodu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de la CONA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externo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izar la información atingente a los estados de incendios.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li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tidades gubernament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es regionales de coord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tras áreas funcionales de la CONA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x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opietarios y Empresarios Forestale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edios de comunicación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Fuente de generación de val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El principal valor que genera CENCO tien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que ver con la sinergia que se produce al manejar en forma efectiva los recursos físicos y d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form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1:10:29Z</dcterms:created>
  <dc:creator>aovando</dc:creator>
  <dc:description/>
  <dc:language>en-US</dc:language>
  <cp:lastModifiedBy>Carolina Prado Berlien</cp:lastModifiedBy>
  <dcterms:modified xsi:type="dcterms:W3CDTF">2005-08-09T02:26:23Z</dcterms:modified>
  <cp:revision>9</cp:revision>
  <dc:subject/>
  <dc:title>Rediseño de los procesos de una organización estatal de servicios de emergencia </dc:title>
</cp:coreProperties>
</file>