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867-106A-4D39-9A05-1F4673D8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A83-5BE9-4175-8A28-30B601E6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4A4-9E6A-49B2-B10B-25BEFB0B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4A1-7B4A-4FCA-BED7-17778BD3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6661-8BCD-4E70-9D89-7F9F499A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1FD9-F86F-4AEA-8926-3D8A0A6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895F-C183-445E-9A0F-958F31D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E5A-1D18-4C4B-BB0F-19250D6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8C09-8A6E-4A0D-AB12-AF35C56B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0B1B-92CF-4FF1-A4CF-B97B984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C11E-EA70-4373-B830-D598C5F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C21-09DD-4969-AFD5-069B28EB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BC7-F354-45FD-AAC4-B67A3D7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D3D-D1CC-4C6B-BD81-9EAE5AE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4675-F5A7-4D85-B517-FA1B37A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5B89-5FF5-4B54-B4B9-0D6F7EF5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A5CE-B3E2-4A8D-80D9-B7AFD1E2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875-B587-46D7-A897-2ADBB56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B30-8AD1-4041-A0FF-EF266746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648-E897-419C-9111-9578D059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4F7-46D0-468C-BF60-18664201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62E-D30A-492D-BB73-5370C31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4DD-630F-45FB-ADA0-7B20E47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D9B-A3AB-4D01-A234-C12F9F9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299-CC8C-4672-84DD-229CDED47D6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2807-8103-49A8-ADE0-EB2DD8E9F0F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iseño de los Procesos de una Organización Estatal de Servicios de Emergenci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ordinación Nacional de Operaciones de Incendios Fores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varo Ovando V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olina Prado B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ecnologías uti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des telefónicas, Internet, F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 supervis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os técn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ersonal part-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483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6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24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la actualidad CENCO no hace análisis de magnitud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 la gran cantidad de datos que tiene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un falta más información para caracterizar la organ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uentes de gener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 la organ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es CONAF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cripción de CEN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ursos disponibles limit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esencia de rigidez e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olección oportuna de da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nejo deficiente de los datos disponi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 gene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lizar un rediseño de los procesos de CENCO que permita</a:t>
            </a: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la organización reasignar los recursos de forma efectiva y hacer un mejor manejo de la información de la que se dispone.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 específ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enerar nuevos procedimientos para actividades no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 es necesario, mejorar procesos que presenten deficienci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plicar tecnologías para la captura, control y utilización de información proveniente de las distintas regi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ntendimiento de la Situación Act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Rediseño de Proces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valuación del Rediseñ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688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de la CONA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extern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izar la información atingente a los estados de incendios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tidades guberna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es regionales de coord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ras áreas funcionales de la CONA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pietarios y Empresarios Forestale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dios de comunicació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ente de generación de va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l principal valor que genera CENCO tien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que ver con la sinergia que se produce al manejar en forma efectiva los recursos físicos y d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form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1:10:29Z</dcterms:created>
  <dc:creator>aovando</dc:creator>
  <dc:description/>
  <dc:language>en-US</dc:language>
  <cp:lastModifiedBy>Carolina Prado Berlien</cp:lastModifiedBy>
  <dcterms:modified xsi:type="dcterms:W3CDTF">2005-08-09T02:26:23Z</dcterms:modified>
  <cp:revision>9</cp:revision>
  <dc:subject/>
  <dc:title>Rediseño de los procesos de una organización estatal de servicios de emergencia </dc:title>
</cp:coreProperties>
</file>