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204-0C2B-49C8-913D-7E5529B0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319-094F-497E-803E-B730D15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FAF-9EED-41E4-8F4E-0ECEF378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9BC-CDE6-474A-835F-DA30B192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A25-50FA-4E45-8E65-5FA1AC3E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2CC8-9662-4E97-8B33-E3794516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AE25-50AE-409A-816A-82D85B94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4D58-2CC1-46D5-AFD1-D59B1AAB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70D-4600-4769-9C5A-7438C6C9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06CF-5A5D-40E1-BC78-6FC7ABA0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3DF9-95E3-47B8-9396-BE22711A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91B-699F-4460-A097-DEF4A974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6DAA-E21F-4DC2-ABE1-20F4EF3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3523-D193-4499-9F6E-2693660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340-B878-4AAE-B1E2-410766AF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8D12-5D16-4507-A5D4-8FDAA0C9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B0D-ACE2-493E-96FE-9263F96B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481-5EA4-4ACB-8CB8-728B6D7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D7D-404B-4F97-848A-BCAF475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58B-993C-4B26-A40E-1BD37964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2B0-5840-475F-A6AD-4A1405E1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C6B-97D7-45ED-924F-0A14F747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A02-06BB-469B-A839-BE6D220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39E-3F05-4EC5-8096-4C02551E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8534-BC52-4A46-8ECF-BA2846F4C3A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1987-4C08-4252-A96B-3BB6C32D744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Verdana"/>
              </a:rPr>
              <a:t>Adquisición de Seguros Institucion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23880" y="27428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CONA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celo Carras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Verdana"/>
              </a:rPr>
              <a:t>Mario Valenzue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560" y="2214360"/>
            <a:ext cx="8839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Unidad encargada: Departamento de 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Los seguros que contrata están orientados a varios ítem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Vehícul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Embarcaci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batientes o brigadist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Guarda parq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Computad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nmue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Altos ejecutiv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Verdana"/>
              </a:rPr>
              <a:t>Descripción del Proce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2143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Cliente: Departamento de Administración de CONAF Nacion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Producto: Seguros de distinto tipo. Vehículos, brigadistas, inmuebles, computadores, guarda parqu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Objetivo del proceso: Contratación de seguros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Medida de efectividad: Bienes y personas permanentemente asegurado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Verdana"/>
              </a:rPr>
              <a:t>Fuentes de generación de valor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Publicación de la licitación por Interne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Decisión de adquisició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Verdana"/>
              </a:rPr>
              <a:t>Comunicación de  la información de adquisiciones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Diagrama IDEF0 </a:t>
            </a:r>
            <a:br>
              <a:rPr sz="2800"/>
            </a:b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647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Nivel A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Juicios y fundamentos sobre el actual funcionamiento del proceso</a:t>
            </a:r>
            <a:r>
              <a:rPr b="0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scaso conocimiento sobre las materias aseguradas por parte de los funcionarios,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Mayor información de la siniestralidad ayudaría a mejorar la gestión en este ámbi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Verdana"/>
              </a:rPr>
              <a:t>Existe desconocimiento de los procesos de liquidación de los seguros por parte de los funcionarios regional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6:32:48Z</dcterms:created>
  <dc:creator>Marcelo</dc:creator>
  <dc:description/>
  <dc:language>en-US</dc:language>
  <cp:lastModifiedBy>Mario Valenzuela</cp:lastModifiedBy>
  <dcterms:modified xsi:type="dcterms:W3CDTF">2005-08-09T04:08:54Z</dcterms:modified>
  <cp:revision>5</cp:revision>
  <dc:subject/>
  <dc:title>Adquisición de Seguros</dc:title>
</cp:coreProperties>
</file>