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DAD3-C305-46C4-8484-F443875E0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FA6B-66CE-48E0-9735-4FEAF57E8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A9D2-AF5B-44BC-804C-1A1051EBF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D62E-FBC5-4638-B14E-B595EE04A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DAE53-75E0-4ED2-80BF-F8067D6A1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34341-1AF5-4F5D-B5CE-E47732801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2895C-0E04-454F-A616-E3272171E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A05E2-533A-437B-8F0C-CB5EC193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FDC19-2DFF-4071-A638-A642FAB71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13CDE-CEF3-45D2-9F27-D22323FAA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68705-704D-4A99-BB61-CD9A7F7E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7803-AA37-4472-9009-1000205C6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57486-7408-4DA9-B242-3930CF3E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DD865-E01C-4D73-9AF2-A886A7A2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42330-8430-42E4-A114-B2D259E1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A2472-DB54-4A94-9294-73BA7508D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26587-6742-42F6-A14A-8D3542900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B150-0E8D-4A61-95B7-46E50D295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97B2-11D1-407E-A0A0-CA0AC95EE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8979-FD2F-4C7C-8864-5615E6421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12DF-67B4-4EE4-95CA-B7507214E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4F5E-585F-4CD4-92D3-974F1223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AFC6-F273-4C80-BF3A-A570480F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DC95-16EC-48D2-899A-98B1D7E7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E8F61-68D1-44BF-B0E6-AC3303C58135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7B0A2-0945-4668-9E9B-503FA3D84859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66"/>
                </a:solidFill>
                <a:latin typeface="Verdana"/>
              </a:rPr>
              <a:t>Adquisición de Seguros Institucional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23880" y="274284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CONAF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Marcelo Carrasc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Mario Valenzuel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Verdana"/>
              </a:rPr>
              <a:t>Introducció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560" y="2214360"/>
            <a:ext cx="88390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Unidad encargada: Departamento de Administració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Los seguros que contrata están orientados a varios ítems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Vehícul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Embarcacion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Combatientes o brigadista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Guarda parqu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Computador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Inmuebl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Altos ejecutiv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Verdana"/>
              </a:rPr>
              <a:t>Descripción del Proces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2214360"/>
            <a:ext cx="85345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Verdana"/>
              </a:rPr>
              <a:t>Cliente: Departamento de Administración de CONAF Nacional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Verdana"/>
              </a:rPr>
              <a:t>Producto: Seguros de distinto tipo. Vehículos, brigadistas, inmuebles, computadores, guarda parque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Verdana"/>
              </a:rPr>
              <a:t>Objetivo del proceso: Contratación de seguros.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Verdana"/>
              </a:rPr>
              <a:t>Medida de efectividad: Bienes y personas permanentemente asegurado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Verdana"/>
              </a:rPr>
              <a:t>Fuentes de generación de valor: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Verdana"/>
              </a:rPr>
              <a:t>Publicación de la licitación por Internet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Verdana"/>
              </a:rPr>
              <a:t>Decisión de adquisición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Verdana"/>
              </a:rPr>
              <a:t>Comunicación de  la información de adquisiciones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Verdana"/>
              </a:rPr>
              <a:t>Diagrama IDEF0 </a:t>
            </a:r>
            <a:br>
              <a:rPr sz="2800"/>
            </a:br>
            <a:r>
              <a:rPr b="0" lang="es-ES_tradnl" sz="2800" spc="-1" strike="noStrike">
                <a:solidFill>
                  <a:srgbClr val="003366"/>
                </a:solidFill>
                <a:latin typeface="Verdana"/>
              </a:rPr>
              <a:t>Nivel A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896472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Verdana"/>
              </a:rPr>
              <a:t>Nivel A1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Verdana"/>
              </a:rPr>
              <a:t>Juicios y fundamentos sobre el actual funcionamiento del proceso</a:t>
            </a:r>
            <a:r>
              <a:rPr b="0" lang="es-ES" sz="28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Verdana"/>
              </a:rPr>
              <a:t>Escaso conocimiento sobre las materias aseguradas por parte de los funcionarios,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Verdana"/>
              </a:rPr>
              <a:t>Mayor información de la siniestralidad ayudaría a mejorar la gestión en este ámbito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Verdana"/>
              </a:rPr>
              <a:t>Existe desconocimiento de los procesos de liquidación de los seguros por parte de los funcionarios regional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9T06:32:48Z</dcterms:created>
  <dc:creator>Marcelo</dc:creator>
  <dc:description/>
  <dc:language>en-US</dc:language>
  <cp:lastModifiedBy>Mario Valenzuela</cp:lastModifiedBy>
  <dcterms:modified xsi:type="dcterms:W3CDTF">2005-08-09T04:08:54Z</dcterms:modified>
  <cp:revision>5</cp:revision>
  <dc:subject/>
  <dc:title>Adquisición de Seguros</dc:title>
</cp:coreProperties>
</file>