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D6C-46DC-42DB-90E0-6B33FB86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C5F-09A6-414B-ABB6-10D9AB1D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FC6-F217-4B22-A0E2-5BB0C3FF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77E-C088-435A-BA77-BEBAF673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F04-0BEE-4C1A-9C46-5F872C89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353B-2B7E-438B-9EC4-ABB74E2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DE00-063E-4457-8988-C5DBFBCD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8753-5AE0-4811-9BF3-4853A278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ADE7-39E0-43CE-8038-3700216D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10BF-35BF-452E-8326-5A7C147B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0CE3-5B72-46EB-BD19-F98CE7B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C66-C52C-4D5C-9FBE-62B71C1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804-E694-4B66-AF55-95EF63C0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85E7-B724-4D8C-8570-D85D9B2C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5E6-D139-4693-B201-D9EE924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C176-BCF0-46BC-8821-5DCA7D7B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570B-037D-48F9-9D11-DD7057FD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0BA-099E-4A4C-B5AA-DD2430A9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0B6-9607-4382-83D0-6FBDD829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CFE-119B-40A4-9878-B7A73AF0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EAC-2134-42B9-B62A-4C21C898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A4C-A4CD-4D47-8934-088A2B3E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E8C-E149-4F0C-95C4-FB132F9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14B-0713-4A7B-B6FD-07754612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68EC-095A-427E-9438-020C51F2DDBF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F860-C5BD-4CF8-ACAD-92B46C60CFB6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Distribución de Terminales en </a:t>
            </a:r>
            <a:br>
              <a:rPr sz="3600"/>
            </a:br>
            <a:r>
              <a:rPr b="1" i="1" lang="es-ES_tradnl" sz="3600" spc="-1" strike="noStrike">
                <a:solidFill>
                  <a:srgbClr val="006666"/>
                </a:solidFill>
                <a:latin typeface="Arial"/>
              </a:rPr>
              <a:t>MOVIST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Proyecto de TI y Rediseño de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Integrant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duardo Br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Juan José Troncos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51640" y="0"/>
          <a:ext cx="34923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0"/>
                    <a:ext cx="34923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487440" cy="112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140360" y="1989000"/>
            <a:ext cx="133164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ente: Subgerencia de Logística de Movist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ducto: Planilla de Agendamiento de Terminales para Oficinas y Puntos de Vent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Definición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roceso mediante el cual, basado en un análisis de disponibilidades de stocks de terminales (según modelo y modalidad) y de requerimientos comerciales y estratégicos, determina la distribución de equipos de telefonía celular a las distintas oficinas y puntos de ventas pertenecientes a la red de Movistar a nivel nacional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Definición y Descripción del Proces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Objetivo del Proceso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Programar las entregas de terminales a las distintas oficinas de Movistar a lo largo de Chi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Medida de Efectividad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Número de agendamientos realizados en forma oportuna, con respecto a lo programa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0000"/>
                </a:solidFill>
                <a:uFillTx/>
                <a:latin typeface="Verdana"/>
              </a:rPr>
              <a:t>Fuentes de generación de Valor: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Los agendamientos cumplidos permiten la satisfacción de demandas de terminales de parte de clientes, aumentando con ello el nivel de fidelidad hacia la empresa y un manejo adecuado de los stock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ursos del Proces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Verdana"/>
              </a:rPr>
              <a:t>Recursos Humanos: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Logística: Ejecutivo logístico (informes de stocks Telconsur, informe de stocks oficinas, ejecución de planilla de agendamiento). Subgerente (procedimiento de agendamientos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Subgerencia de Compra: Analista de importaciones (informes de las importaciones de equipos terminales) 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Marketing: De esta gerencia nace el programa de promociones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Oficinas y Puntos de Ventas Tercerizados: Los jefes de oficinas realizan los requerimientos de termin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Gerencia de Terminales: El gerente establece las políticas de agendamientos y el plan de lanzamientos. Además, está el Product Manager quien es el responsable de realizar todas las actividades del proceso antes descrito, y por tanto, el líder del proces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de Context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404640"/>
          <a:ext cx="8675640" cy="646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675640" cy="646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80" y="0"/>
            <a:ext cx="8683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odelo del Proceso: Nivel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41760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Juicios del Proceso Actu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827360"/>
            <a:ext cx="7640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se considera como ventaja competitiva el hecho de disponer siempre de stocks de terminales en las oficinas y puntos de venta para evitar fuga de clientes o niveles de satisfacción insuficientes, hace que el uso de planillas electrónicas y coordinación vía emails, así como también la multiplicidad de informes de variados tipos que deben ser procesados, analizados y validados, aumente las probabilidades de fallas en el cumplimiento de los agendamientos, se maneje información crítica con poco uso de tecnologías de información, y en tiempos relativamente breves, aumentado con ello la incertidumbre de los pedidos, altos niveles de inventarios, y obsolescencia de termi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5:03:14Z</dcterms:created>
  <dc:creator>Familia Troncoso Ibacache</dc:creator>
  <dc:description/>
  <dc:language>en-US</dc:language>
  <cp:lastModifiedBy>Universidad de Chile </cp:lastModifiedBy>
  <dcterms:modified xsi:type="dcterms:W3CDTF">2005-08-09T13:02:14Z</dcterms:modified>
  <cp:revision>11</cp:revision>
  <dc:subject/>
  <dc:title>Distribución de Terminales en  MOVIS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