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D80C-354A-4B7F-978C-F9B1C2AD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863D-3663-4915-BAEA-EBE34D84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83B9-E16F-425A-B853-D7C59D40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822A-880A-4840-8963-4BE1EBEAC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E69C-3440-43EF-8908-4AEB8747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5159-0E2B-4EEB-BA0B-49315BBB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EEBA-89A2-41EB-855E-CA6CFD1F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D082-10D1-4DA5-B720-77BB4115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FB88-CB58-4446-BC14-7FC62B51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7B3A-5A9D-45E6-B5B7-7A1C058C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893F-AA69-4ABF-B57D-0CF36083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9A82-A7AF-4975-86E6-42C85EC3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B858-A592-4D46-9B4A-B5F1D9F4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08F1-5236-43F2-A78A-D15411B2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DEF5-6E56-436E-9F54-E65CEDF0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61F0-2568-400D-984C-BA333073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C7C5-3DB1-461A-B9D0-88A1DBF9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5B16-E4FE-4F28-A3E3-A250455B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901D-F8A8-413E-A815-84444575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AD4-D852-48E5-8E6A-A887E2D4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D010-8535-48BB-A2A9-4FF6E4B6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EA25-997B-43B7-92B5-4BA24F7A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9D89-F952-4F73-B672-5EFE0FB3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E6BD-11B8-441A-AFA5-89D72C9A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97C3-DD6D-485D-A428-525DF1D65E6E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F4B2-8E24-4150-B306-8800C6B7E791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6666"/>
                </a:solidFill>
                <a:latin typeface="Arial"/>
              </a:rPr>
              <a:t>Distribución de Terminales en </a:t>
            </a:r>
            <a:br>
              <a:rPr sz="3600"/>
            </a:br>
            <a:r>
              <a:rPr b="1" i="1" lang="es-ES_tradnl" sz="3600" spc="-1" strike="noStrike">
                <a:solidFill>
                  <a:srgbClr val="006666"/>
                </a:solidFill>
                <a:latin typeface="Arial"/>
              </a:rPr>
              <a:t>MOVISTA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Verdana"/>
              </a:rPr>
              <a:t>Proyecto de TI y Rediseño de Proces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Integrantes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Eduardo Brun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Juan José Troncos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651640" y="0"/>
          <a:ext cx="3492360" cy="10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0"/>
                    <a:ext cx="34923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96000" y="1989000"/>
            <a:ext cx="487440" cy="1125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140360" y="1989000"/>
            <a:ext cx="1331640" cy="5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Definición y Descripción del Proces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liente: Subgerencia de Logística de Movista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Producto: Planilla de Agendamiento de Terminales para Oficinas y Puntos de Venta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0000"/>
                </a:solidFill>
                <a:uFillTx/>
                <a:latin typeface="Verdana"/>
              </a:rPr>
              <a:t>Definición del Proceso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Proceso mediante el cual, basado en un análisis de disponibilidades de stocks de terminales (según modelo y modalidad) y de requerimientos comerciales y estratégicos, determina la distribución de equipos de telefonía celular a las distintas oficinas y puntos de ventas pertenecientes a la red de Movistar a nivel nacional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Definición y Descripción del Proces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0000"/>
                </a:solidFill>
                <a:uFillTx/>
                <a:latin typeface="Verdana"/>
              </a:rPr>
              <a:t>Objetivo del Proceso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Programar las entregas de terminales a las distintas oficinas de Movistar a lo largo de Chil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0000"/>
                </a:solidFill>
                <a:uFillTx/>
                <a:latin typeface="Verdana"/>
              </a:rPr>
              <a:t>Medida de Efectividad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Número de agendamientos realizados en forma oportuna, con respecto a lo programa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0000"/>
                </a:solidFill>
                <a:uFillTx/>
                <a:latin typeface="Verdana"/>
              </a:rPr>
              <a:t>Fuentes de generación de Valor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Los agendamientos cumplidos permiten la satisfacción de demandas de terminales de parte de clientes, aumentando con ello el nivel de fidelidad hacia la empresa y un manejo adecuado de los stock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ecursos del Proces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1827360"/>
            <a:ext cx="785664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 u="sng">
                <a:solidFill>
                  <a:srgbClr val="000000"/>
                </a:solidFill>
                <a:uFillTx/>
                <a:latin typeface="Verdana"/>
              </a:rPr>
              <a:t>Recursos Humanos:</a:t>
            </a: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Subgerencia Logística: Ejecutivo logístico (informes de stocks Telconsur, informe de stocks oficinas, ejecución de planilla de agendamiento). Subgerente (procedimiento de agendamientos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Subgerencia de Compra: Analista de importaciones (informes de las importaciones de equipos terminales) 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Gerencia de Marketing: De esta gerencia nace el programa de promociones terminal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Oficinas y Puntos de Ventas Tercerizados: Los jefes de oficinas realizan los requerimientos de terminal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Gerencia de Terminales: El gerente establece las políticas de agendamientos y el plan de lanzamientos. Además, está el Product Manager quien es el responsable de realizar todas las actividades del proceso antes descrito, y por tanto, el líder del proceso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0080" y="0"/>
            <a:ext cx="86835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Modelo del Proceso: Nivel de Context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404640"/>
          <a:ext cx="8675640" cy="646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675640" cy="646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0080" y="0"/>
            <a:ext cx="86835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Modelo del Proceso: Nivel 1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417600"/>
            <a:ext cx="87487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Juicios del Proceso Actua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2920" y="1827360"/>
            <a:ext cx="764064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Si se considera como ventaja competitiva el hecho de disponer siempre de stocks de terminales en las oficinas y puntos de venta para evitar fuga de clientes o niveles de satisfacción insuficientes, hace que el uso de planillas electrónicas y coordinación vía emails, así como también la multiplicidad de informes de variados tipos que deben ser procesados, analizados y validados, aumente las probabilidades de fallas en el cumplimiento de los agendamientos, se maneje información crítica con poco uso de tecnologías de información, y en tiempos relativamente breves, aumentado con ello la incertidumbre de los pedidos, altos niveles de inventarios, y obsolescencia de termin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05:03:14Z</dcterms:created>
  <dc:creator>Familia Troncoso Ibacache</dc:creator>
  <dc:description/>
  <dc:language>en-US</dc:language>
  <cp:lastModifiedBy>Universidad de Chile </cp:lastModifiedBy>
  <dcterms:modified xsi:type="dcterms:W3CDTF">2005-08-09T13:02:14Z</dcterms:modified>
  <cp:revision>11</cp:revision>
  <dc:subject/>
  <dc:title>Distribución de Terminales en  MOVIST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