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E42-7955-4D62-A5AB-C7507A94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BF9-8A5B-42B0-B30A-A746C85F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3E1-2A33-4FB5-A606-BC4D412D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7D1-128C-48FD-AD14-886A0300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349F-2A3B-4CBC-B9EF-B38DEE5B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DF36-398B-4703-A84C-A8FEC75F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10C4-2F80-4C4E-A5FD-A7A72924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2252-5EED-4A59-9D0B-5638A12B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0643-73AC-4ED6-8A16-5BD26613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AC40-616D-46C3-ABE5-66EEC8F3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3905-D96B-4274-A158-06FE5FC0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551-AFA5-4A2A-B9CC-11A27BCA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A88F-146C-4D6C-ADF0-9770687A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0480-9A1A-4D2B-A7DB-7BBD0810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D845-9DB4-4137-B516-485E7ECA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338D-5539-4D73-B5C6-F748592B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69CE-E5EE-4C87-BFD7-CD299F64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403-3279-417B-9796-090DBD28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ED0-EE07-4F25-A110-3DC5C14C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B93-3889-464E-8DF5-969428B6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EC7-1EE4-48A9-902E-CD159FE8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A22-9D54-4055-A068-0BC0914E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D82-0413-453F-9D84-30A8BB0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0AB-A5DF-45CC-9A0B-82BC44DB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8FC2-F0C7-45AB-A5AE-4ED3A39F80C8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EF44-FC30-474D-B3F4-A2E965DA79E4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Distribución de Terminales en </a:t>
            </a:r>
            <a:br>
              <a:rPr sz="3600"/>
            </a:b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MOVIST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Proyecto de TI y Rediseño de Proce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Integrant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duardo Bru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Juan José Troncos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51640" y="0"/>
          <a:ext cx="34923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0"/>
                    <a:ext cx="34923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487440" cy="112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140360" y="1989000"/>
            <a:ext cx="133164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ente: Subgerencia de Logística de Movist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ducto: Planilla de Agendamiento de Terminales para Oficinas y Puntos de Vent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Definición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ceso mediante el cual, basado en un análisis de disponibilidades de stocks de terminales (según modelo y modalidad) y de requerimientos comerciales y estratégicos, determina la distribución de equipos de telefonía celular a las distintas oficinas y puntos de ventas pertenecientes a la red de Movistar a nivel nacional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Objetivo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Programar las entregas de terminales a las distintas oficinas de Movistar a lo largo de Chi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Medida de Efectividad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Número de agendamientos realizados en forma oportuna, con respecto a lo program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Fuentes de generación de Valor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Los agendamientos cumplidos permiten la satisfacción de demandas de terminales de parte de clientes, aumentando con ello el nivel de fidelidad hacia la empresa y un manejo adecuado de los stock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cursos del Proces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Verdana"/>
              </a:rPr>
              <a:t>Recursos Humanos: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Logística: Ejecutivo logístico (informes de stocks Telconsur, informe de stocks oficinas, ejecución de planilla de agendamiento). Subgerente (procedimiento de agendamiento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de Compra: Analista de importaciones (informes de las importaciones de equipos terminales) 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Marketing: De esta gerencia nace el programa de promociones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Oficinas y Puntos de Ventas Tercerizados: Los jefes de oficinas realizan los requerimientos de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Terminales: El gerente establece las políticas de agendamientos y el plan de lanzamientos. Además, está el Product Manager quien es el responsable de realizar todas las actividades del proceso antes descrito, y por tanto, el líder del proceso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de Context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404640"/>
          <a:ext cx="8675640" cy="646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675640" cy="646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417600"/>
            <a:ext cx="8748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Juicios del Proceso Actu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 se considera como ventaja competitiva el hecho de disponer siempre de stocks de terminales en las oficinas y puntos de venta para evitar fuga de clientes o niveles de satisfacción insuficientes, hace que el uso de planillas electrónicas y coordinación vía emails, así como también la multiplicidad de informes de variados tipos que deben ser procesados, analizados y validados, aumente las probabilidades de fallas en el cumplimiento de los agendamientos, se maneje información crítica con poco uso de tecnologías de información, y en tiempos relativamente breves, aumentado con ello la incertidumbre de los pedidos, altos niveles de inventarios, y obsolescencia de termi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5:03:14Z</dcterms:created>
  <dc:creator>Familia Troncoso Ibacache</dc:creator>
  <dc:description/>
  <dc:language>en-US</dc:language>
  <cp:lastModifiedBy>Universidad de Chile </cp:lastModifiedBy>
  <dcterms:modified xsi:type="dcterms:W3CDTF">2005-08-09T13:02:14Z</dcterms:modified>
  <cp:revision>11</cp:revision>
  <dc:subject/>
  <dc:title>Distribución de Terminales en  MOVIS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