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54E8-6015-46DD-AAFF-2513862B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E3ED-43F8-4671-93C7-29366A5D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A46A-A36F-429C-894A-C542B3A39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302D-0DB6-41A0-A44E-082D617C4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5941-31D4-470C-96CD-8BF9727C5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0255-EE71-49A7-9246-F8262AAC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3F0B-5841-4998-9F4F-E85EDB3E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2480-62D2-4463-8DBC-E0895095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9BB6-2782-4676-BD49-68667A0D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BE0F-E9DA-432C-A2B5-EEDE3B48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5AFB-6FD2-45B6-9F5A-1211506C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0002-05DA-41E4-A960-3F51D971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37AA-9EC5-484E-B727-E22AFC64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3775-7F4F-41C3-AEA7-03B3C9DE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9B42-C1FE-4E46-959E-19205749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9C1E-BEC7-41A1-AB68-E0ECAA49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89CB-4944-42E1-8E7C-F001D5970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20F4-CE2B-41E3-BE30-AA336171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F2C8-3EC9-4CF2-BF0E-FB7C6010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5D14-ACE5-4B7A-BDC1-60EC8B59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53E0-82DA-47F3-86DE-E0342134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ADC6-097D-4AFA-8D06-7C95A7CC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FA2B-9375-4E45-AF99-E274F931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94F4-41FF-4D7C-867A-ACAFB501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7B05-CACB-4813-8DB3-FCC11AA62FCF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349F-B9DF-4DA3-8B2D-73F24159A521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6666"/>
                </a:solidFill>
                <a:latin typeface="Arial"/>
              </a:rPr>
              <a:t>Distribución de Terminales en </a:t>
            </a:r>
            <a:br>
              <a:rPr sz="3600"/>
            </a:br>
            <a:r>
              <a:rPr b="1" i="1" lang="es-ES_tradnl" sz="3600" spc="-1" strike="noStrike">
                <a:solidFill>
                  <a:srgbClr val="006666"/>
                </a:solidFill>
                <a:latin typeface="Arial"/>
              </a:rPr>
              <a:t>MOVISTA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Verdana"/>
              </a:rPr>
              <a:t>Proyecto de TI y Rediseño de Proces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Integrantes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Eduardo Brun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Juan José Troncos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651640" y="0"/>
          <a:ext cx="3492360" cy="10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0"/>
                    <a:ext cx="349236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796000" y="1989000"/>
            <a:ext cx="487440" cy="1125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140360" y="1989000"/>
            <a:ext cx="1331640" cy="5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Definición y Descripción del Proces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Cliente: Subgerencia de Logística de Movista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Producto: Planilla de Agendamiento de Terminales para Oficinas y Puntos de Venta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000000"/>
                </a:solidFill>
                <a:uFillTx/>
                <a:latin typeface="Verdana"/>
              </a:rPr>
              <a:t>Definición del Proceso: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Proceso mediante el cual, basado en un análisis de disponibilidades de stocks de terminales (según modelo y modalidad) y de requerimientos comerciales y estratégicos, determina la distribución de equipos de telefonía celular a las distintas oficinas y puntos de ventas pertenecientes a la red de Movistar a nivel nacional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Definición y Descripción del Proces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000000"/>
                </a:solidFill>
                <a:uFillTx/>
                <a:latin typeface="Verdana"/>
              </a:rPr>
              <a:t>Objetivo del Proceso: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Programar las entregas de terminales a las distintas oficinas de Movistar a lo largo de Chil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000000"/>
                </a:solidFill>
                <a:uFillTx/>
                <a:latin typeface="Verdana"/>
              </a:rPr>
              <a:t>Medida de Efectividad: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Número de agendamientos realizados en forma oportuna, con respecto a lo programad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000000"/>
                </a:solidFill>
                <a:uFillTx/>
                <a:latin typeface="Verdana"/>
              </a:rPr>
              <a:t>Fuentes de generación de Valor: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Los agendamientos cumplidos permiten la satisfacción de demandas de terminales de parte de clientes, aumentando con ello el nivel de fidelidad hacia la empresa y un manejo adecuado de los stock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Recursos del Proces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920" y="1827360"/>
            <a:ext cx="785664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 u="sng">
                <a:solidFill>
                  <a:srgbClr val="000000"/>
                </a:solidFill>
                <a:uFillTx/>
                <a:latin typeface="Verdana"/>
              </a:rPr>
              <a:t>Recursos Humanos:</a:t>
            </a: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Subgerencia Logística: Ejecutivo logístico (informes de stocks Telconsur, informe de stocks oficinas, ejecución de planilla de agendamiento). Subgerente (procedimiento de agendamientos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Subgerencia de Compra: Analista de importaciones (informes de las importaciones de equipos terminales) 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Gerencia de Marketing: De esta gerencia nace el programa de promociones terminal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Oficinas y Puntos de Ventas Tercerizados: Los jefes de oficinas realizan los requerimientos de terminal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Gerencia de Terminales: El gerente establece las políticas de agendamientos y el plan de lanzamientos. Además, está el Product Manager quien es el responsable de realizar todas las actividades del proceso antes descrito, y por tanto, el líder del proceso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0080" y="0"/>
            <a:ext cx="86835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Modelo del Proceso: Nivel de Context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404640"/>
          <a:ext cx="8675640" cy="646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04640"/>
                    <a:ext cx="8675640" cy="646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0080" y="0"/>
            <a:ext cx="86835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Modelo del Proceso: Nivel 1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5280" y="417600"/>
            <a:ext cx="87487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Juicios del Proceso Actua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2920" y="1827360"/>
            <a:ext cx="764064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Si se considera como ventaja competitiva el hecho de disponer siempre de stocks de terminales en las oficinas y puntos de venta para evitar fuga de clientes o niveles de satisfacción insuficientes, hace que el uso de planillas electrónicas y coordinación vía emails, así como también la multiplicidad de informes de variados tipos que deben ser procesados, analizados y validados, aumente las probabilidades de fallas en el cumplimiento de los agendamientos, se maneje información crítica con poco uso de tecnologías de información, y en tiempos relativamente breves, aumentado con ello la incertidumbre de los pedidos, altos niveles de inventarios, y obsolescencia de termina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05:03:14Z</dcterms:created>
  <dc:creator>Familia Troncoso Ibacache</dc:creator>
  <dc:description/>
  <dc:language>en-US</dc:language>
  <cp:lastModifiedBy>Universidad de Chile </cp:lastModifiedBy>
  <dcterms:modified xsi:type="dcterms:W3CDTF">2005-08-09T13:02:14Z</dcterms:modified>
  <cp:revision>11</cp:revision>
  <dc:subject/>
  <dc:title>Distribución de Terminales en  MOVISTA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