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BCD9-BDE5-433F-88B1-A7F0B63B3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BFFB-52F2-49F9-9F6A-14B2C0926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16F0-B8BD-4251-B275-9A9470797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584B-2B99-4EE8-9CE3-23CA51B78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C23AE-5608-428B-AC49-DCA215DF5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3A641-A6E2-456E-9CC0-296B3653D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A0C5E-0BE5-4F9B-B108-FFD8F6EF4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6F92D-CDE3-4A85-8B43-CCC93F22A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E5FB7-E92F-4D22-A35C-9D4C4ACEA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3AF65-C5D0-4699-8AED-7683DEBF2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5445F-4098-4193-BC35-BCC11009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7B05-AD20-4065-8FBB-B2029C140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E48AF-6B29-43E5-8523-02208D25A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D9AB7-1BB5-4EC3-BB19-F06F0324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9865B-07B0-463D-A06C-2E6BAD92D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D4E57-C7C6-42B3-A40B-D66CC1E5A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EB2B9-45B4-4FEC-945B-A5BAC21D3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6C33-4CB0-4783-A13C-6838D934C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71E6-B0DD-4FF9-8A93-9DF1E038D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891D-C5ED-4690-A634-B88CAC3C4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D06B-AE3A-44B3-834F-BFB96724B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96D6-0B63-4220-8850-2628B40C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63AE-AB88-4DC4-8AE3-C07BAEF5C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6ECA-9B3E-4379-AFDE-C619CD516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FC97A-8C62-4236-A371-47F2A890C6C0}" type="slidenum">
              <a:rPr b="0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14567-A5FE-4B7C-B2C1-0D744D029F1A}" type="slidenum">
              <a:rPr b="0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006666"/>
                </a:solidFill>
                <a:latin typeface="Arial"/>
              </a:rPr>
              <a:t>Distribución de Terminales en </a:t>
            </a:r>
            <a:br>
              <a:rPr sz="3600"/>
            </a:br>
            <a:r>
              <a:rPr b="1" i="1" lang="es-ES_tradnl" sz="3600" spc="-1" strike="noStrike">
                <a:solidFill>
                  <a:srgbClr val="006666"/>
                </a:solidFill>
                <a:latin typeface="Arial"/>
              </a:rPr>
              <a:t>MOVISTA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Verdana"/>
              </a:rPr>
              <a:t>Proyecto de TI y Rediseño de Proceso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Verdana"/>
              </a:rPr>
              <a:t>Integrantes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  </a:t>
            </a: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Eduardo Brun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Verdana"/>
              </a:rPr>
              <a:t>Juan José Troncos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5651640" y="0"/>
          <a:ext cx="3492360" cy="109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1640" y="0"/>
                    <a:ext cx="3492360" cy="10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5796000" y="1989000"/>
            <a:ext cx="487440" cy="1125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4140360" y="1989000"/>
            <a:ext cx="1331640" cy="5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Definición y Descripción del Proceso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Cliente: Subgerencia de Logística de Movista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Producto: Planilla de Agendamiento de Terminales para Oficinas y Puntos de Venta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 u="sng">
                <a:solidFill>
                  <a:srgbClr val="000000"/>
                </a:solidFill>
                <a:uFillTx/>
                <a:latin typeface="Verdana"/>
              </a:rPr>
              <a:t>Definición del Proceso: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Proceso mediante el cual, basado en un análisis de disponibilidades de stocks de terminales (según modelo y modalidad) y de requerimientos comerciales y estratégicos, determina la distribución de equipos de telefonía celular a las distintas oficinas y puntos de ventas pertenecientes a la red de Movistar a nivel nacional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Definición y Descripción del Proceso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 u="sng">
                <a:solidFill>
                  <a:srgbClr val="000000"/>
                </a:solidFill>
                <a:uFillTx/>
                <a:latin typeface="Verdana"/>
              </a:rPr>
              <a:t>Objetivo del Proceso: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 Programar las entregas de terminales a las distintas oficinas de Movistar a lo largo de Chile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 u="sng">
                <a:solidFill>
                  <a:srgbClr val="000000"/>
                </a:solidFill>
                <a:uFillTx/>
                <a:latin typeface="Verdana"/>
              </a:rPr>
              <a:t>Medida de Efectividad: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 Número de agendamientos realizados en forma oportuna, con respecto a lo programad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 u="sng">
                <a:solidFill>
                  <a:srgbClr val="000000"/>
                </a:solidFill>
                <a:uFillTx/>
                <a:latin typeface="Verdana"/>
              </a:rPr>
              <a:t>Fuentes de generación de Valor: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 Los agendamientos cumplidos permiten la satisfacción de demandas de terminales de parte de clientes, aumentando con ello el nivel de fidelidad hacia la empresa y un manejo adecuado de los stock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12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Recursos del Proceso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6920" y="1827360"/>
            <a:ext cx="785664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 u="sng">
                <a:solidFill>
                  <a:srgbClr val="000000"/>
                </a:solidFill>
                <a:uFillTx/>
                <a:latin typeface="Verdana"/>
              </a:rPr>
              <a:t>Recursos Humanos:</a:t>
            </a: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Subgerencia Logística: Ejecutivo logístico (informes de stocks Telconsur, informe de stocks oficinas, ejecución de planilla de agendamiento). Subgerente (procedimiento de agendamientos)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Subgerencia de Compra: Analista de importaciones (informes de las importaciones de equipos terminales) 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Gerencia de Marketing: De esta gerencia nace el programa de promociones terminale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Oficinas y Puntos de Ventas Tercerizados: Los jefes de oficinas realizan los requerimientos de terminale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Gerencia de Terminales: El gerente establece las políticas de agendamientos y el plan de lanzamientos. Además, está el Product Manager quien es el responsable de realizar todas las actividades del proceso antes descrito, y por tanto, el líder del proceso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0080" y="0"/>
            <a:ext cx="86835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Modelo del Proceso: Nivel de Contexto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68360" y="404640"/>
          <a:ext cx="8675640" cy="646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404640"/>
                    <a:ext cx="8675640" cy="646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0080" y="0"/>
            <a:ext cx="86835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Modelo del Proceso: Nivel 1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95280" y="417600"/>
            <a:ext cx="874872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Juicios del Proceso Actual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42920" y="1827360"/>
            <a:ext cx="764064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Si se considera como ventaja competitiva el hecho de disponer siempre de stocks de terminales en las oficinas y puntos de venta para evitar fuga de clientes o niveles de satisfacción insuficientes, hace que el uso de planillas electrónicas y coordinación vía emails, así como también la multiplicidad de informes de variados tipos que deben ser procesados, analizados y validados, aumente las probabilidades de fallas en el cumplimiento de los agendamientos, se maneje información crítica con poco uso de tecnologías de información, y en tiempos relativamente breves, aumentado con ello la incertidumbre de los pedidos, altos niveles de inventarios, y obsolescencia de terminale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9T05:03:14Z</dcterms:created>
  <dc:creator>Familia Troncoso Ibacache</dc:creator>
  <dc:description/>
  <dc:language>en-US</dc:language>
  <cp:lastModifiedBy>Universidad de Chile </cp:lastModifiedBy>
  <dcterms:modified xsi:type="dcterms:W3CDTF">2005-08-09T13:02:14Z</dcterms:modified>
  <cp:revision>11</cp:revision>
  <dc:subject/>
  <dc:title>Distribución de Terminales en  MOVISTA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