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61D-8F04-4788-A33B-F2901579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AA7-4042-41F4-B908-EDEC7725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738-643D-4BA1-98C0-86F99B88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7AD-D054-446C-917A-B4EDC0BC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C57C-2DF1-4B0E-9D7C-FD8C56C3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9C12-6CEB-4F80-88DC-E89ED59F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DEB0-1857-4D36-9ABC-A653C188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3C2D-1C26-4F7E-ACA6-F463AFF2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4BCB-1C5E-47F0-91BA-9053B1A2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C4AB-BBDC-4D09-956E-72E7D827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3223-F10D-44F2-8346-72AFC236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55E-6FEA-4316-8110-7B157E93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E58F-A294-4578-9585-214278FB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27E2-2CF1-44FD-9C00-C838C047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5A86-99AD-450B-8872-A367E89A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7CF4-0F8D-4946-82CB-56C58199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3EC6-331D-4EA9-B771-B64EA1EC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D8D-8797-4872-B273-B0E43967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9E9-E1D6-4CDE-B7C8-6CA471B5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750-840D-4453-B699-FA8CCD01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84B-E355-4EB1-857F-340C000E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3BA-7EFA-41C3-B3A5-47D94E63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C53-2655-44C5-A14F-8080B42F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197-077B-4854-8B29-86B236E5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9431-B907-4ED4-90A6-F819C6969310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9006-F43C-40CB-9FA1-B541134EB506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Distribución de Terminales en </a:t>
            </a:r>
            <a:br>
              <a:rPr sz="3600"/>
            </a:b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MOVIST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Proyecto de TI y Rediseño de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Integrant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duardo Br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Juan José Troncos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51640" y="0"/>
          <a:ext cx="34923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0"/>
                    <a:ext cx="3492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487440" cy="112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140360" y="1989000"/>
            <a:ext cx="133164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ente: Subgerencia de Logística de Movist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ducto: Planilla de Agendamiento de Terminales para Oficinas y Puntos de Vent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Definición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ceso mediante el cual, basado en un análisis de disponibilidades de stocks de terminales (según modelo y modalidad) y de requerimientos comerciales y estratégicos, determina la distribución de equipos de telefonía celular a las distintas oficinas y puntos de ventas pertenecientes a la red de Movistar a nivel nacional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Objetivo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Programar las entregas de terminales a las distintas oficinas de Movistar a lo largo de Chi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Medida de Efectividad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Número de agendamientos realizados en forma oportuna, con respecto a lo program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Fuentes de generación de Valor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Los agendamientos cumplidos permiten la satisfacción de demandas de terminales de parte de clientes, aumentando con ello el nivel de fidelidad hacia la empresa y un manejo adecuado de los stock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cursos del Proces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Verdana"/>
              </a:rPr>
              <a:t>Recursos Humanos: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Logística: Ejecutivo logístico (informes de stocks Telconsur, informe de stocks oficinas, ejecución de planilla de agendamiento). Subgerente (procedimiento de agendamiento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de Compra: Analista de importaciones (informes de las importaciones de equipos terminales) 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Marketing: De esta gerencia nace el programa de promociones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Oficinas y Puntos de Ventas Tercerizados: Los jefes de oficinas realizan los requerimientos de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Terminales: El gerente establece las políticas de agendamientos y el plan de lanzamientos. Además, está el Product Manager quien es el responsable de realizar todas las actividades del proceso antes descrito, y por tanto, el líder del proces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de Context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404640"/>
          <a:ext cx="8675640" cy="646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675640" cy="646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17600"/>
            <a:ext cx="87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Juicios del Proceso Actu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 se considera como ventaja competitiva el hecho de disponer siempre de stocks de terminales en las oficinas y puntos de venta para evitar fuga de clientes o niveles de satisfacción insuficientes, hace que el uso de planillas electrónicas y coordinación vía emails, así como también la multiplicidad de informes de variados tipos que deben ser procesados, analizados y validados, aumente las probabilidades de fallas en el cumplimiento de los agendamientos, se maneje información crítica con poco uso de tecnologías de información, y en tiempos relativamente breves, aumentado con ello la incertidumbre de los pedidos, altos niveles de inventarios, y obsolescencia de termi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5:03:14Z</dcterms:created>
  <dc:creator>Familia Troncoso Ibacache</dc:creator>
  <dc:description/>
  <dc:language>en-US</dc:language>
  <cp:lastModifiedBy>Universidad de Chile </cp:lastModifiedBy>
  <dcterms:modified xsi:type="dcterms:W3CDTF">2005-08-09T13:02:14Z</dcterms:modified>
  <cp:revision>11</cp:revision>
  <dc:subject/>
  <dc:title>Distribución de Terminales en  MOVIS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