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CD7-F373-49F1-A3C3-1C171C75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9F2-6F00-40AA-9176-C1EFBD95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6E1-D10E-488C-AEA7-9D6BEBE1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603E-E4DF-429F-A97F-BA3B3A4A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660-B322-4486-8605-97AD8458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B3D-1614-45CE-84C0-BBA04CAF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9E8B-09BA-4F08-8F61-422340BE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0DF-C387-4958-9C58-98F2EF1A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4B76-0696-4777-AFD5-D639909E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7F1-F948-45F2-92D5-B0A7B120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183-14E7-44D2-8BDB-A30DF847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07F5-5ECA-423F-969B-E3C0DFB7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152280"/>
            <a:ext cx="8686800" cy="1143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1523880"/>
            <a:ext cx="8686800" cy="49532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A950-BF9C-4E78-B651-6C72BE3E056F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050920" y="6513480"/>
            <a:ext cx="684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900" spc="-1" strike="noStrike">
                <a:solidFill>
                  <a:srgbClr val="000000"/>
                </a:solidFill>
                <a:latin typeface="Arial"/>
              </a:rPr>
              <a:t>Pedro García G. – Curso Marketing de Servicios 2005 -  U. Chile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45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arketing de Servicios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71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398160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inta C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producción de la oferta de Servicio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os empleados en los servic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los cl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el serv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la empr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el medio de 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ellos depende la calidad del serv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el contacto con los cl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ipos de Pers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gún su fun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contac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apoy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gún su participación en el proceso produc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isib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vis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Situación del Personal 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línica de Sal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 /          Situ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conta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efoni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apo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ionario de limpie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ionario de mantención de equi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Importancia del Personal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Según su situ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 /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conta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y A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apo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y Ba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98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es del Personal de Conta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es del Personal de Conta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perativo o Fun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lacional o A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nitor o Instru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formad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Operativo o Funcion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sempeñar adecuadamente la parte operativa del servicio bajo su respons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conoc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o el proceso visible al 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o el proceso no visible al 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os los elementos del soporte físico (espacio físico y tecnologí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 manual operativo o manual de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l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RHH y Operacion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Afectivo o Emoci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mpatice con el cliente para mejorar la calidad de la aten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conoc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intereses de la empre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intereses de los clientes, cómo empatizar con el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 manual rel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l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RHH y Mark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Monitor o Instruct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mplic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rientar al cliente para que participe del servicio de la manera más adecuada po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be conoc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odo los procesos visibles y no visi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r un buen comunic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r empá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emplaz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el tiemp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instruc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señalé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ponsables: RRHH, Operaciones y M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Informador o Comunica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tener información del cliente, de los procesos, del servicio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mitir esa información dentro de la empre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conoc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é información es impor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les son los principales criterios para clasificar la inform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ocedimiento para reportar la información; Cuándo y a quié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RHH, MK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ntenidos del curs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989000"/>
            <a:ext cx="2663640" cy="410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989000"/>
            <a:ext cx="5543280" cy="4105440"/>
          </a:xfrm>
          <a:prstGeom prst="rect">
            <a:avLst/>
          </a:prstGeom>
          <a:solidFill>
            <a:srgbClr val="a8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3600360" cy="368280"/>
          </a:xfrm>
          <a:prstGeom prst="rect">
            <a:avLst/>
          </a:prstGeom>
          <a:solidFill>
            <a:srgbClr val="a8a2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rketing Mix en los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2421000"/>
            <a:ext cx="5400720" cy="35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4160" y="2565360"/>
            <a:ext cx="2232000" cy="503280"/>
          </a:xfrm>
          <a:prstGeom prst="rect">
            <a:avLst/>
          </a:prstGeom>
          <a:solidFill>
            <a:srgbClr val="454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ferta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3476520"/>
            <a:ext cx="2232000" cy="503280"/>
          </a:xfrm>
          <a:prstGeom prst="rect">
            <a:avLst/>
          </a:prstGeom>
          <a:solidFill>
            <a:srgbClr val="a8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360" y="4387680"/>
            <a:ext cx="2232000" cy="503280"/>
          </a:xfrm>
          <a:prstGeom prst="rect">
            <a:avLst/>
          </a:prstGeom>
          <a:solidFill>
            <a:srgbClr val="a8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5300640"/>
            <a:ext cx="2232000" cy="503280"/>
          </a:xfrm>
          <a:prstGeom prst="rect">
            <a:avLst/>
          </a:prstGeom>
          <a:solidFill>
            <a:srgbClr val="a8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med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054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2565360"/>
            <a:ext cx="2232000" cy="719280"/>
          </a:xfrm>
          <a:prstGeom prst="rect">
            <a:avLst/>
          </a:prstGeom>
          <a:solidFill>
            <a:srgbClr val="454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 I P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8200" y="3716280"/>
            <a:ext cx="2232000" cy="865080"/>
          </a:xfrm>
          <a:prstGeom prst="rect">
            <a:avLst/>
          </a:prstGeom>
          <a:solidFill>
            <a:srgbClr val="454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rketing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2565360"/>
            <a:ext cx="223200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ferta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2708280"/>
            <a:ext cx="504720" cy="142920"/>
          </a:xfrm>
          <a:prstGeom prst="rightArrow">
            <a:avLst>
              <a:gd name="adj1" fmla="val 50000"/>
              <a:gd name="adj2" fmla="val 88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4292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ALIDAD DE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Vende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pacidad para generar venta en el corto, mediano y largo pla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conoc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balmente el 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les son los elementos de decisión que considera el 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ómo V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RHH y MK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s áreas funcionales relevantes en el manejo de pers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362800" cy="4781160"/>
        </p:xfrm>
        <a:graphic>
          <a:graphicData uri="http://schemas.openxmlformats.org/drawingml/2006/table">
            <a:tbl>
              <a:tblPr/>
              <a:tblGrid>
                <a:gridCol w="2090880"/>
                <a:gridCol w="2090520"/>
                <a:gridCol w="2090880"/>
                <a:gridCol w="2090520"/>
              </a:tblGrid>
              <a:tr h="72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RH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vo / Fun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cional / Afe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itor / I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ad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117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Fuentes de Conflicto ante los roles del Personal de Conta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Fuentes de confli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Son los conflictos a los que se enfrenta el personal de contacto durante el desarrollo de sus fun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-5277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ersona versus fun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-5277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ación versus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-5277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ente versus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-5277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lidad versus produ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sona versus fun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 que tienen que hacer cuando desempeñan su cargo versus su personalidad, sus valores y preferenc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ónde encontrar buenos ejempl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zafa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b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Organización versus cli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r el jamón del sandwi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é hacer si el cliente pide mucho más de lo que se le debe dar? Qué si el cliente es MUY importante? Qué si los estándares son fijos y clar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ónde encontrar buenos ejempl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ended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liente versus Cli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uando la atención que se le da a un cliente afecta las expectativas y percepciones de los demás cli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ónde encontrar buenos ejempl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rvicios Personales en Genera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tor, Asistente Social, Peluqu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alidad versus productivid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ficiencia versus Efectiv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ónde encontrar buenos ejempl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rvicios personales en genera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tor, Ejecutivo de Cue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132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a problemática del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sonal de Conta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roblemá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ar con clientes permanentemente es desgast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eldos ba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os monóto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a o inadecuada capaci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nuales de servicio inexistentes o inadecu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66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arketing de Servicios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71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4000" y="398160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inta C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producción de la oferta de Servicio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139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l Personal de Apoy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sonal de Apoy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necesarios para la serv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alizan labores de apoyo logístico o técn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ueden ser visibles o no vis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 labor puede afectar el servicio que se entre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un restaurant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acion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yudante de garz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uar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j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rsonal de as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del personal de apoy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definición NO tienen relación con el cliente….. p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n ser visibles… Contacto fís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n ser abordados por el cliente… entonces asumen el rol de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148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a problemática del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sonal de Apoy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roblemá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os suel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a autoesti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o compromi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ciencia de invisibilidad hace que descuiden su 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empresas descuidan su capaci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eneran problemas al personal de conta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Objetivos de la Cl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contacto como elemento principal en la producción de los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ementos que intervienen en la producción del serv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mportancia y roles del personal de conta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mportancia y roles del personal de apoy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74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a producción de la oferta de servic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l contacto con el cli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la esencia del servic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omento de la verd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empre existe contacto con el cl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los servicios, no todo se vende pero todo comu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lementos a considerar durante el contac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cepción v/s Re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isible v/s No vi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ementos que intervienen en la Servuc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erso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 conta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 apoy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cl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os otros cl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soporte fís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85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l Pers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3:15:20Z</dcterms:created>
  <dc:creator>Pedro García G</dc:creator>
  <dc:description/>
  <dc:language>en-US</dc:language>
  <cp:lastModifiedBy>Pedro García</cp:lastModifiedBy>
  <dcterms:modified xsi:type="dcterms:W3CDTF">2005-08-22T21:53:08Z</dcterms:modified>
  <cp:revision>34</cp:revision>
  <dc:subject/>
  <dc:title>Clase Marketing de Servicios</dc:title>
</cp:coreProperties>
</file>