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CDA7-76C1-4359-89CF-858BFE492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3BFA-74CA-495E-B182-30E94C15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A6D2-0419-47FC-BD59-D037C7532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67E3-EECD-4BE2-99D3-D27A0E3F5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B368-0AAF-4C5D-90F8-4F2E51F4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12A6-2F80-48B9-BE82-DC35BCA0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843B-CA9D-4197-95C3-6B5B529F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A4AD-9E18-4EBA-ABDE-B00FEC44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E98E-72A2-4C03-A34B-06BA2280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E84F-87D0-41C0-AD00-F3E8DAF3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D249-EEC6-43FA-B906-C1B5637D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F3EE-D4E5-460F-8A51-895CE245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152280"/>
            <a:ext cx="8686800" cy="1143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28600" y="1523880"/>
            <a:ext cx="8686800" cy="49532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1D2F-768C-4E0C-B420-BA2F15432041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050920" y="6513480"/>
            <a:ext cx="684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900" spc="-1" strike="noStrike">
                <a:solidFill>
                  <a:srgbClr val="000000"/>
                </a:solidFill>
                <a:latin typeface="Arial"/>
              </a:rPr>
              <a:t>Pedro García G. – Curso Marketing de Servicios 2005 -  U. Chile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228600" y="115920"/>
            <a:ext cx="8686800" cy="6553080"/>
            <a:chOff x="228600" y="115920"/>
            <a:chExt cx="8686800" cy="6553080"/>
          </a:xfrm>
        </p:grpSpPr>
        <p:sp>
          <p:nvSpPr>
            <p:cNvPr id="45" name=""/>
            <p:cNvSpPr/>
            <p:nvPr/>
          </p:nvSpPr>
          <p:spPr>
            <a:xfrm>
              <a:off x="228600" y="115920"/>
              <a:ext cx="8686800" cy="655308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28600" y="115920"/>
              <a:ext cx="8686800" cy="1106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5562720"/>
              <a:ext cx="8686800" cy="1106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42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Marketing de Servicios</a:t>
            </a:r>
            <a:br>
              <a:rPr sz="4000"/>
            </a:b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71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4000" y="3981600"/>
            <a:ext cx="8496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Quinta Cl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La producción de la oferta de Servicios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Los empleados en los servici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los cli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on la empr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on el servi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la empre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on el medio de p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 ellos depende la calidad del servi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on el contacto con los clie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Tipos de Person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gún su fun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 contac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 apoy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gún su participación en el proceso producti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isib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 vis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Situación del Personal </a:t>
            </a:r>
            <a:br>
              <a:rPr sz="3600"/>
            </a:b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Clínica de Salu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508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al /          Situ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545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si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545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Visi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545f5"/>
                    </a:solidFill>
                  </a:tcPr>
                </a:tc>
              </a:tr>
              <a:tr h="150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 conta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545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545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lefonis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545f5"/>
                    </a:solidFill>
                  </a:tcPr>
                </a:tc>
              </a:tr>
              <a:tr h="1508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 apo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545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ncionario de limpiez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545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ncionario de mantención de equip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545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Importancia del Personal</a:t>
            </a:r>
            <a:br>
              <a:rPr sz="3600"/>
            </a:b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Según su situa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508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al /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tu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si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Visi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 conta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y Al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 apo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y Ba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228600" y="115920"/>
            <a:ext cx="8686800" cy="6553080"/>
            <a:chOff x="228600" y="115920"/>
            <a:chExt cx="8686800" cy="6553080"/>
          </a:xfrm>
        </p:grpSpPr>
        <p:sp>
          <p:nvSpPr>
            <p:cNvPr id="98" name=""/>
            <p:cNvSpPr/>
            <p:nvPr/>
          </p:nvSpPr>
          <p:spPr>
            <a:xfrm>
              <a:off x="228600" y="115920"/>
              <a:ext cx="8686800" cy="655308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8600" y="115920"/>
              <a:ext cx="8686800" cy="1106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28600" y="5562720"/>
              <a:ext cx="8686800" cy="1106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oles del Personal de Contact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oles del Personal de Contact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perativo o Fun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lacional o Afec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onitor o Instru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formad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nde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Operativo o Funcional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mplica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sempeñar adecuadamente la parte operativa del servicio bajo su responsabil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be conocer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odo el proceso visible al cl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odo el proceso no visible al cl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odos los elementos del soporte físico (espacio físico y tecnologí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u manual operativo o manual de trabaj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sponsabl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RHH y Operacion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ol Afectivo o Emocion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mplic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Que empatice con el cliente para mejorar la calidad de la aten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be conocer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intereses de la empre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intereses de los clientes, cómo empatizar con ell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u manual rel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sponsabl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RHH y Marke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ol Monitor o Instructor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mplica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rientar al cliente para que participe del servicio de la manera más adecuada po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be conoce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odo los procesos visibles y no visi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r un buen comunicad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r empát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 reemplaz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n el tiemp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n instruc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n señalét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sponsables: RRHH, Operaciones y Mk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ol Informador o Comunicad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mplic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btener información del cliente, de los procesos, del servicio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ansmitir esa información dentro de la empre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be conoc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Qué información es importan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áles son los principales criterios para clasificar la inform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procedimiento para reportar la información; Cuándo y a quié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sponsab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RHH, MK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Contenidos del curs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989000"/>
            <a:ext cx="2663640" cy="410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1989000"/>
            <a:ext cx="5543280" cy="4105440"/>
          </a:xfrm>
          <a:prstGeom prst="rect">
            <a:avLst/>
          </a:prstGeom>
          <a:solidFill>
            <a:srgbClr val="a8a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9640" y="2060640"/>
            <a:ext cx="3600360" cy="368280"/>
          </a:xfrm>
          <a:prstGeom prst="rect">
            <a:avLst/>
          </a:prstGeom>
          <a:solidFill>
            <a:srgbClr val="a8a2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rketing Mix en los 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48000" y="2421000"/>
            <a:ext cx="5400720" cy="35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4160" y="2565360"/>
            <a:ext cx="2232000" cy="503280"/>
          </a:xfrm>
          <a:prstGeom prst="rect">
            <a:avLst/>
          </a:prstGeom>
          <a:solidFill>
            <a:srgbClr val="4545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Oferta de 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92360" y="3476520"/>
            <a:ext cx="2232000" cy="503280"/>
          </a:xfrm>
          <a:prstGeom prst="rect">
            <a:avLst/>
          </a:prstGeom>
          <a:solidFill>
            <a:srgbClr val="a8a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92360" y="4387680"/>
            <a:ext cx="2232000" cy="503280"/>
          </a:xfrm>
          <a:prstGeom prst="rect">
            <a:avLst/>
          </a:prstGeom>
          <a:solidFill>
            <a:srgbClr val="a8a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un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5300640"/>
            <a:ext cx="2232000" cy="503280"/>
          </a:xfrm>
          <a:prstGeom prst="rect">
            <a:avLst/>
          </a:prstGeom>
          <a:solidFill>
            <a:srgbClr val="a8a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ermed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20541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2565360"/>
            <a:ext cx="2232000" cy="719280"/>
          </a:xfrm>
          <a:prstGeom prst="rect">
            <a:avLst/>
          </a:prstGeom>
          <a:solidFill>
            <a:srgbClr val="4545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 I P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8200" y="3716280"/>
            <a:ext cx="2232000" cy="865080"/>
          </a:xfrm>
          <a:prstGeom prst="rect">
            <a:avLst/>
          </a:prstGeom>
          <a:solidFill>
            <a:srgbClr val="4545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arketing M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72360" y="2565360"/>
            <a:ext cx="2232000" cy="86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ducción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ferta de 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96000" y="2708280"/>
            <a:ext cx="504720" cy="142920"/>
          </a:xfrm>
          <a:prstGeom prst="rightArrow">
            <a:avLst>
              <a:gd name="adj1" fmla="val 50000"/>
              <a:gd name="adj2" fmla="val 88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56360" y="4292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CALIDAD DE SERV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ol Vended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mplic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pacidad para generar venta en el corto, mediano y largo plaz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be conoc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balmente el Servi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áles son los elementos de decisión que considera el cl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ómo Ven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sponsab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RHH y MK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s áreas funcionales relevantes en el manejo de person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600200"/>
          <a:ext cx="8362800" cy="4781160"/>
        </p:xfrm>
        <a:graphic>
          <a:graphicData uri="http://schemas.openxmlformats.org/drawingml/2006/table">
            <a:tbl>
              <a:tblPr/>
              <a:tblGrid>
                <a:gridCol w="2090880"/>
                <a:gridCol w="2090520"/>
                <a:gridCol w="2090880"/>
                <a:gridCol w="2090520"/>
              </a:tblGrid>
              <a:tr h="72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RH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raci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rativo / Fun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cional / Afec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itor / Instr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ormad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nde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228600" y="115920"/>
            <a:ext cx="8686800" cy="6553080"/>
            <a:chOff x="228600" y="115920"/>
            <a:chExt cx="8686800" cy="6553080"/>
          </a:xfrm>
        </p:grpSpPr>
        <p:sp>
          <p:nvSpPr>
            <p:cNvPr id="117" name=""/>
            <p:cNvSpPr/>
            <p:nvPr/>
          </p:nvSpPr>
          <p:spPr>
            <a:xfrm>
              <a:off x="228600" y="115920"/>
              <a:ext cx="8686800" cy="655308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8600" y="115920"/>
              <a:ext cx="8686800" cy="1106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8600" y="5562720"/>
              <a:ext cx="8686800" cy="1106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Fuentes de Conflicto ante los roles del Personal de Contact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Fuentes de conflict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Son los conflictos a los que se enfrenta el personal de contacto durante el desarrollo de sus fun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324440" indent="-52776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ersona versus fun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324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324440" indent="-52776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ación versus cl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324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324440" indent="-52776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liente versus cl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324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324440" indent="-52776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lidad versus productiv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ersona versus funci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 que tienen que hacer cuando desempeñan su cargo versus su personalidad, sus valores y preferenci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ónde encontrar buenos ejemplo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zafa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brad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Organización versus clien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r el jamón del sandwic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Qué hacer si el cliente pide mucho más de lo que se le debe dar? Qué si el cliente es MUY importante? Qué si los estándares son fijos y claro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ónde encontrar buenos ejemplo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Vended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Cliente versus Clien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uando la atención que se le da a un cliente afecta las expectativas y percepciones de los demás clien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ónde encontrar buenos ejemplo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rvicios Personales en General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octor, Asistente Social, Peluqu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Calidad versus productivida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ficiencia versus Efectiv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ónde encontrar buenos ejemplo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rvicios personales en general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octor, Ejecutivo de Cuen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228600" y="115920"/>
            <a:ext cx="8686800" cy="6553080"/>
            <a:chOff x="228600" y="115920"/>
            <a:chExt cx="8686800" cy="6553080"/>
          </a:xfrm>
        </p:grpSpPr>
        <p:sp>
          <p:nvSpPr>
            <p:cNvPr id="132" name=""/>
            <p:cNvSpPr/>
            <p:nvPr/>
          </p:nvSpPr>
          <p:spPr>
            <a:xfrm>
              <a:off x="228600" y="115920"/>
              <a:ext cx="8686800" cy="655308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" y="115920"/>
              <a:ext cx="8686800" cy="1106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8600" y="5562720"/>
              <a:ext cx="8686800" cy="1106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La problemática del </a:t>
            </a:r>
            <a:br>
              <a:rPr sz="4000"/>
            </a:b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ersonal de Contact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roblemát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rabajar con clientes permanentemente es desgast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ueldos ba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rabajos monóto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Baja o inadecuada capacit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anuales de servicio inexistentes o inadecu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228600" y="115920"/>
            <a:ext cx="8686800" cy="6553080"/>
            <a:chOff x="228600" y="115920"/>
            <a:chExt cx="8686800" cy="6553080"/>
          </a:xfrm>
        </p:grpSpPr>
        <p:sp>
          <p:nvSpPr>
            <p:cNvPr id="66" name=""/>
            <p:cNvSpPr/>
            <p:nvPr/>
          </p:nvSpPr>
          <p:spPr>
            <a:xfrm>
              <a:off x="228600" y="115920"/>
              <a:ext cx="8686800" cy="655308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8600" y="115920"/>
              <a:ext cx="8686800" cy="1106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28600" y="5562720"/>
              <a:ext cx="8686800" cy="1106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42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Marketing de Servicios</a:t>
            </a:r>
            <a:br>
              <a:rPr sz="4000"/>
            </a:b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71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24000" y="3981600"/>
            <a:ext cx="8496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Quinta Cl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La producción de la oferta de Servicios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228600" y="115920"/>
            <a:ext cx="8686800" cy="6553080"/>
            <a:chOff x="228600" y="115920"/>
            <a:chExt cx="8686800" cy="6553080"/>
          </a:xfrm>
        </p:grpSpPr>
        <p:sp>
          <p:nvSpPr>
            <p:cNvPr id="139" name=""/>
            <p:cNvSpPr/>
            <p:nvPr/>
          </p:nvSpPr>
          <p:spPr>
            <a:xfrm>
              <a:off x="228600" y="115920"/>
              <a:ext cx="8686800" cy="655308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8600" y="115920"/>
              <a:ext cx="8686800" cy="1106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600" y="5562720"/>
              <a:ext cx="8686800" cy="1106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El Personal de Apoy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ersonal de Apoy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on necesarios para la serv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alizan labores de apoyo logístico o técn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ueden ser visibles o no vis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u labor puede afectar el servicio que se entreg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un restaurant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tacionad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yudante de garz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uard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je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ersonal de ase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ol del personal de apoy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or definición NO tienen relación con el cliente….. p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ueden ser visibles… Contacto fís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ueden ser abordados por el cliente… entonces asumen el rol de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moni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228600" y="115920"/>
            <a:ext cx="8686800" cy="6553080"/>
            <a:chOff x="228600" y="115920"/>
            <a:chExt cx="8686800" cy="6553080"/>
          </a:xfrm>
        </p:grpSpPr>
        <p:sp>
          <p:nvSpPr>
            <p:cNvPr id="148" name=""/>
            <p:cNvSpPr/>
            <p:nvPr/>
          </p:nvSpPr>
          <p:spPr>
            <a:xfrm>
              <a:off x="228600" y="115920"/>
              <a:ext cx="8686800" cy="655308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8600" y="115920"/>
              <a:ext cx="8686800" cy="1106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" y="5562720"/>
              <a:ext cx="8686800" cy="1106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La problemática del </a:t>
            </a:r>
            <a:br>
              <a:rPr sz="4000"/>
            </a:b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ersonal de Apoy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roblemát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Bajos suel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Baja autoestim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Bajo compromi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ciencia de invisibilidad hace que descuiden su 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s empresas descuidan su capacit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Generan problemas al personal de conta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Objetivos de la Cla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l contacto como elemento principal en la producción de los servi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lementos que intervienen en la producción del servi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mportancia y roles del personal de contac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mportancia y roles del personal de apoy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228600" y="115920"/>
            <a:ext cx="8686800" cy="6553080"/>
            <a:chOff x="228600" y="115920"/>
            <a:chExt cx="8686800" cy="6553080"/>
          </a:xfrm>
        </p:grpSpPr>
        <p:sp>
          <p:nvSpPr>
            <p:cNvPr id="74" name=""/>
            <p:cNvSpPr/>
            <p:nvPr/>
          </p:nvSpPr>
          <p:spPr>
            <a:xfrm>
              <a:off x="228600" y="115920"/>
              <a:ext cx="8686800" cy="655308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8600" y="115920"/>
              <a:ext cx="8686800" cy="1106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28600" y="5562720"/>
              <a:ext cx="8686800" cy="1106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La producción de la oferta de servici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El contacto con el clien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la esencia del servici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el momento de la verda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iempre existe contacto con el cli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los servicios, no todo se vende pero todo comun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Elementos a considerar durante el contac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ercepción v/s Real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Visible v/s No vi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lementos que intervienen en la Servuc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l person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 contac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 apoy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l cli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Los otros cli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l soporte fís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228600" y="115920"/>
            <a:ext cx="8686800" cy="6553080"/>
            <a:chOff x="228600" y="115920"/>
            <a:chExt cx="8686800" cy="6553080"/>
          </a:xfrm>
        </p:grpSpPr>
        <p:sp>
          <p:nvSpPr>
            <p:cNvPr id="85" name=""/>
            <p:cNvSpPr/>
            <p:nvPr/>
          </p:nvSpPr>
          <p:spPr>
            <a:xfrm>
              <a:off x="228600" y="115920"/>
              <a:ext cx="8686800" cy="655308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8600" y="115920"/>
              <a:ext cx="8686800" cy="1106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8600" y="5562720"/>
              <a:ext cx="8686800" cy="1106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El Person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03:15:20Z</dcterms:created>
  <dc:creator>Pedro García G</dc:creator>
  <dc:description/>
  <dc:language>en-US</dc:language>
  <cp:lastModifiedBy>Pedro García</cp:lastModifiedBy>
  <dcterms:modified xsi:type="dcterms:W3CDTF">2005-08-22T21:53:08Z</dcterms:modified>
  <cp:revision>34</cp:revision>
  <dc:subject/>
  <dc:title>Clase Marketing de Servicios</dc:title>
</cp:coreProperties>
</file>