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1B2-6C16-43CB-8EB1-84F7E2CB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9BC-E4DC-4A46-BAD6-4532E5854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242-33B3-4D3E-8984-DEB8DE15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1F60-6928-4E1F-BAD3-C7D90CE6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787-83D4-4562-80EE-F6ABC694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B96E-B5A0-4A62-AEE1-0BEECC5C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8DEE-D8E6-4667-89BC-CE66DB08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6E56-632E-46B2-ABBE-1C432EC8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EB9-8E51-4E58-919B-960E3BC7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A0E-5B8B-4001-A52F-B5F27783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361-12BB-4903-9BEB-6BCBB959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CF4-ECA1-4954-9A6D-41A9AFA5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152280"/>
            <a:ext cx="8686800" cy="11430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1523880"/>
            <a:ext cx="8686800" cy="49532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5DB8-19E1-402C-8283-90511FE31B21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050920" y="6513480"/>
            <a:ext cx="684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900" spc="-1" strike="noStrike">
                <a:solidFill>
                  <a:srgbClr val="000000"/>
                </a:solidFill>
                <a:latin typeface="Arial"/>
              </a:rPr>
              <a:t>Pedro García G. – Curso Marketing de Servicios 2005 -  U. Chile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45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arketing de Servicios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71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398160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inta 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producción de la oferta de Servicio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os empleados en los servic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los cl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el serv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la empre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el medio de prod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ellos depende la calidad del serv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el contacto con los cl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ipos de Pers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gún su fun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contac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 apoy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gún su participación en el proceso produc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isibl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vis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ituación del Personal 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línica de Sal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 /          Situ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conta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lefoni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apo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ionario de limpie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ionario de mantención de equip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545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Importancia del Personal</a:t>
            </a:r>
            <a:br>
              <a:rPr sz="3600"/>
            </a:b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Según su situa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al /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Vi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conta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y 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apo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y Ba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98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es del 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es del 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perativo o Fun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lacional o Afec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nitor o Instru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formado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Vende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Operativo o Funcional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sempeñar adecuadamente la parte operativa del servicio bajo su respons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 el proceso visible al 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 el proceso no visible al 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odos los elementos del soporte físico (espacio físico y tecnologí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 manual operativo o manual de traba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 y Operacion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Afectivo o Emoci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e empatice con el cliente para mejorar la calidad de la aten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intereses de la empre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os intereses de los clientes, cómo empatizar con ell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 manual rel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 y Mark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Monitor o Instructo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mplica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rientar al cliente para que participe del servicio de la manera más adecuada po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be conoc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odo los procesos visibles y no visi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r un buen comunicad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r empát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reemplaz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el tiemp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instruc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n señalétic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esponsables: RRHH, Operaciones y M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Informador o Comunica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btener información del cliente, de los procesos, del servicio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mitir esa información dentro de la empre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Qué información es importan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les son los principales criterios para clasificar la inform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procedimiento para reportar la información; Cuándo y a quié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, MK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ntenidos del curs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1989000"/>
            <a:ext cx="2663640" cy="410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989000"/>
            <a:ext cx="5543280" cy="410544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3600360" cy="368280"/>
          </a:xfrm>
          <a:prstGeom prst="rect">
            <a:avLst/>
          </a:prstGeom>
          <a:solidFill>
            <a:srgbClr val="a8a2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rketing Mix en los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48000" y="2421000"/>
            <a:ext cx="5400720" cy="352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4160" y="2565360"/>
            <a:ext cx="2232000" cy="503280"/>
          </a:xfrm>
          <a:prstGeom prst="rect">
            <a:avLst/>
          </a:prstGeom>
          <a:solidFill>
            <a:srgbClr val="454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ferta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92360" y="3476520"/>
            <a:ext cx="2232000" cy="50328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92360" y="4387680"/>
            <a:ext cx="2232000" cy="50328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5300640"/>
            <a:ext cx="2232000" cy="503280"/>
          </a:xfrm>
          <a:prstGeom prst="rect">
            <a:avLst/>
          </a:prstGeom>
          <a:solidFill>
            <a:srgbClr val="a8a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ermed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20541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2565360"/>
            <a:ext cx="2232000" cy="719280"/>
          </a:xfrm>
          <a:prstGeom prst="rect">
            <a:avLst/>
          </a:prstGeom>
          <a:solidFill>
            <a:srgbClr val="454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 I P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8200" y="3716280"/>
            <a:ext cx="2232000" cy="865080"/>
          </a:xfrm>
          <a:prstGeom prst="rect">
            <a:avLst/>
          </a:prstGeom>
          <a:solidFill>
            <a:srgbClr val="4545f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rketing 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2565360"/>
            <a:ext cx="223200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ducción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ferta de serv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6000" y="2708280"/>
            <a:ext cx="504720" cy="142920"/>
          </a:xfrm>
          <a:prstGeom prst="rightArrow">
            <a:avLst>
              <a:gd name="adj1" fmla="val 50000"/>
              <a:gd name="adj2" fmla="val 88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42926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ALIDAD DE SERV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Vende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mplic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pacidad para generar venta en el corto, mediano y largo plaz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 conoc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balmente el Servi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áles son los elementos de decisión que considera el cl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ómo Ven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spons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RHH y MK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s áreas funcionales relevantes en el manejo de pers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7200" y="1600200"/>
          <a:ext cx="8362800" cy="4781160"/>
        </p:xfrm>
        <a:graphic>
          <a:graphicData uri="http://schemas.openxmlformats.org/drawingml/2006/table">
            <a:tbl>
              <a:tblPr/>
              <a:tblGrid>
                <a:gridCol w="2090880"/>
                <a:gridCol w="2090520"/>
                <a:gridCol w="2090880"/>
                <a:gridCol w="2090520"/>
              </a:tblGrid>
              <a:tr h="72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RH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rativo / Func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cional / Afe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itor / I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d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nde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17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Fuentes de Conflicto ante los roles del 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Fuentes de confli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Son los conflictos a los que se enfrenta el personal de contacto durante el desarrollo de sus fun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ersona versus fun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Organización versus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ente versus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324440" indent="-5277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lidad versus produ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 versus fun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 que tienen que hacer cuando desempeñan su cargo versus su personalidad, sus valores y preferenci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zafa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b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Organización versus cli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r el jamón del sandwi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é hacer si el cliente pide mucho más de lo que se le debe dar? Qué si el cliente es MUY importante? Qué si los estándares son fijos y claro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ended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liente versus Cli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ando la atención que se le da a un cliente afecta las expectativas y percepciones de los demás clie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rvicios Personales en Genera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tor, Asistente Social, Peluqu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alidad versus productivid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ficiencia versus Efectiv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ónde encontrar buenos ejemplo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rvicios personales en general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3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octor, Ejecutivo de Cue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32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a problemática del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l de Contac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roblemá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ar con clientes permanentemente es desgast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ueldos ba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os monóto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a o inadecuada capaci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nuales de servicio inexistentes o inadecu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66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Marketing de Servicios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71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4000" y="3981600"/>
            <a:ext cx="84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inta Cl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La producción de la oferta de Servicios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39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l 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necesarios para la servu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alizan labores de apoyo logístico o técn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ueden ser visibles o no vis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u labor puede afectar el servicio que se entreg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un restaurant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taciona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yudante de garz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uar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j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rsonal de as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ol del 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definición NO tienen relación con el cliente….. p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n ser visibles… Contacto fís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ueden ser abordados por el cliente… entonces asumen el rol de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oni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148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a problemática del </a:t>
            </a:r>
            <a:br>
              <a:rPr sz="4000"/>
            </a:b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ersonal de Apoy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Problemá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os suel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a autoesti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ajo compromi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ciencia de invisibilidad hace que descuiden su 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s empresas descuidan su capacit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Generan problemas al personal de conta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Objetivos de la Cla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contacto como elemento principal en la producción de los servic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ementos que intervienen en la producción del servi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mportancia y roles del personal de conta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mportancia y roles del personal de apoy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74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a producción de la oferta de servic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l contacto con el cli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la esencia del servici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momento de la verda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iempre existe contacto con el cl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los servicios, no todo se vende pero todo comun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lementos a considerar durante el contac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ercepción v/s Re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isible v/s No vi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lementos que intervienen en la Servucc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person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conta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apoy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cl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Los otros cl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l soporte fís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115920"/>
            <a:ext cx="8686800" cy="6553080"/>
            <a:chOff x="228600" y="115920"/>
            <a:chExt cx="8686800" cy="6553080"/>
          </a:xfrm>
        </p:grpSpPr>
        <p:sp>
          <p:nvSpPr>
            <p:cNvPr id="85" name=""/>
            <p:cNvSpPr/>
            <p:nvPr/>
          </p:nvSpPr>
          <p:spPr>
            <a:xfrm>
              <a:off x="228600" y="115920"/>
              <a:ext cx="8686800" cy="655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8600" y="115920"/>
              <a:ext cx="8686800" cy="1106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" y="5562720"/>
              <a:ext cx="8686800" cy="1106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El Pers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3:15:20Z</dcterms:created>
  <dc:creator>Pedro García G</dc:creator>
  <dc:description/>
  <dc:language>en-US</dc:language>
  <cp:lastModifiedBy>Pedro García</cp:lastModifiedBy>
  <dcterms:modified xsi:type="dcterms:W3CDTF">2005-08-22T21:53:08Z</dcterms:modified>
  <cp:revision>34</cp:revision>
  <dc:subject/>
  <dc:title>Clase Marketing de Servicios</dc:title>
</cp:coreProperties>
</file>