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FE6-FEB1-4430-A362-6B53AA7E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921-8C36-472B-807D-F9097ED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064-4598-4442-BCDF-5630AEB0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A66-6F4D-43D2-8918-631FA37E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133-A2A8-4DF2-9FF2-9DCF701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25B-42D5-4F16-96DF-3810E68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275-0B83-4ECE-A135-E810CA89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EDE-1107-41A2-B8E8-43631BC6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55D-D446-4255-8AA8-35EBC43A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247-70DF-4D34-AD1E-57091728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C88-311E-4F27-8F00-5243460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6A0-8D3A-4089-A4D3-1F420DC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23C-6269-407C-B9F2-AD28F404E54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50920" y="6513480"/>
            <a:ext cx="684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Pedro García G. – Curso Marketing de Servicios 2005 -  U. Chile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4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empleados en los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medio de 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ellos depende la calidad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contacto con l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pos de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ontac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participación en el proceso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ituación del Personal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línica de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       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limpi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mantención de equi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mportancia del Personal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gún su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y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9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perativo 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acional o A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nitor o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perativo o Fun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empeñar adecuadamente la parte operativa del servicio bajo su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n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s los elementos del soporte físico (espacio físico y tecnolog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operativo o manual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Afectivo o Emo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mpatice con el cliente para mejorar la calidad de la a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os clientes, cómo empatizar con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rel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Monitor o Instruc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r al cliente para que participe del servicio de la manera más adecuada po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 los procesos visibles y no vis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un buen comunic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empá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empla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el tiemp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instruc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ñal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onsables: RRHH, Operaciones y M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Informador o Comunic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tener información del cliente, de los procesos, del servici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mitir esa información dentro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información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principales criterios para clasificar la in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cedimiento para reportar la información; Cuándo y a qui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,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2663640" cy="41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9000"/>
            <a:ext cx="5543280" cy="410544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3600360" cy="368280"/>
          </a:xfrm>
          <a:prstGeom prst="rect">
            <a:avLst/>
          </a:prstGeom>
          <a:solidFill>
            <a:srgbClr val="a8a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keting Mix en 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21000"/>
            <a:ext cx="540072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2565360"/>
            <a:ext cx="2232000" cy="503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47652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38768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530064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54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565360"/>
            <a:ext cx="2232000" cy="719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 I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3716280"/>
            <a:ext cx="2232000" cy="8650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565360"/>
            <a:ext cx="2232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504720" cy="142920"/>
          </a:xfrm>
          <a:prstGeom prst="rightArrow">
            <a:avLst>
              <a:gd name="adj1" fmla="val 50000"/>
              <a:gd name="adj2" fmla="val 8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Vende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dad para generar venta en el corto,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almente 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elementos de decisión que considera e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ómo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áreas funcionales relevantes en el manejo de pers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362800" cy="47811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H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o /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al / Afe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/ I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17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 ante los 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on los conflictos a los que se enfrenta el personal de contacto durante el desarrollo de sus 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tienen que hacer cuando desempeñan su cargo versus su personalidad, sus valores y prefer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zafa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b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 el jamón del sandw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hacer si el cliente pide mucho más de lo que se le debe dar? Qué si el cliente es MUY importante? Qué si los estándares son fijos y clar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a atención que se le da a un cliente afecta las expectativas y percepciones de los demás cl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Asistente Social, Peluqu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ficiencia versus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Ejecutivo de Cu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2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clientes permanentemente es desga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eldos ba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s monót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o inadecuada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uales de servicio inexistentes o inadecu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66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9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necesarios para la serv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zan labores de apoyo logístico 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ser visibles o 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labor puede afectar el servicio que s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un restaurant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cio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nte de gar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l de as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d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definición NO tienen relación con el cliente….. p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visibles… Contacto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abordados por el cliente… entonces asumen el rol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4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s suel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autoest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iencia de invisibilidad hace que descuiden su 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descuidan su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neran problemas al personal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bjetivos de 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ntacto como elemento principal en la producción de los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mentos que intervienen en la producción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74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ducción de la oferta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contacto con el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esencia del servi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omento de la ver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existe contacto con 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servicios, no todo se vende pero todo comu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ementos a considerar durante el conta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epción v/s Re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ible v/s N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ementos que intervienen en la Servu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ers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otr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soporte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8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3:15:20Z</dcterms:created>
  <dc:creator>Pedro García G</dc:creator>
  <dc:description/>
  <dc:language>en-US</dc:language>
  <cp:lastModifiedBy>Pedro García</cp:lastModifiedBy>
  <dcterms:modified xsi:type="dcterms:W3CDTF">2005-08-22T21:53:08Z</dcterms:modified>
  <cp:revision>34</cp:revision>
  <dc:subject/>
  <dc:title>Clase Marketing de Servicios</dc:title>
</cp:coreProperties>
</file>