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4E0-9C16-4654-8AE0-8915269B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843-2F0F-4365-8D94-271CF652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612-AA4D-482E-B934-E52549A7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72B-FCBC-4384-8F78-23C5EF1B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C14-D7AD-4B95-B005-D1C7817D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6BF-3530-4AAA-9598-5D8ACD3D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AED-B869-4721-8F0E-26AC3440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395-6D63-48FA-A95F-FA782359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B92-249C-4AEC-804B-792EEB8F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042-4193-4B5C-AA02-CDECAE64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8CB-1D2F-48D7-8055-7CEAB1BE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EF1-0AEF-48C8-BA0C-999051CF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EA6E-552F-42F4-8DCA-633B67A75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cept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- Externalidad - Acción agente - sobre o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no está incorporado e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 -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&gt; Solución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 In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 no refleja valor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hacer?  - 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gla ún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 Soluciones a Tragedia de Comu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 Definición de dueño/concesionari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 Licitación/Regulación - Caso pesca marítima 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-  Autocontrol - Caso sequía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4.  Soluciones Privadas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Intern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dueñ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Tragedia Comun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signación de du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Teorema de COAS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523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2240" y="1758960"/>
            <a:ext cx="7483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 Caso Hospital -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                            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histórica:  cerrar industria 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 Planteamiento Coase:  Negociación entre los A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+ eficiente  - independiente de quien 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1</a:t>
            </a: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stema Jurídic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neficio Neto</a:t>
            </a: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   Hospital      Garage  Total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</a:t>
            </a: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Culpable   Garage Cierra    60          - 40 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Inocente   Hospital paga    60-P     P - 40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Cierr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sistema jurídico:  IRRELEVANT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Solo sirve para parte distributiva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2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Inversión Valores:  Garage:  60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Hospital: 40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Garage instala sistema anti-ruidos: 20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4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spital instala sistema anti-ruidos: 18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orema Coas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las partes afectadas por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xternalidad pueden negociar entre si 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 incurrir en costo algu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 y mejorand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su beneficio mutuo,  el resultado es efici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independientemente de quien sea jurídicam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responsable de los daño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icanc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Si el Estado no interviene, individuo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eden encontrar solución eficiente. 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5) Aplicacione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6)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las Soluciones Privada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Costos de la Negoci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ltos costos de transac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Problema de free rider (“parásito”)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 Dificultad de identificación de fuente de dañ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 Información asimétrica 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El caso de fumadores/no fumador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-  Necesidad del Rol del Estado</a:t>
            </a:r>
            <a:br>
              <a:rPr sz="28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árbitr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definición criteri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evita problemas parásit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tiene poder para implementar cumpl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 a las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Elementos General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Rol Estado - Evitar solución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nálisis C/B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Solución - No es Todo/Nada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P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Pigou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uesto Pigo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Que paguen los que contam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Oj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¿Quién paga el impuesto?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¿Qué se hace con el monto recaudado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Ej. Playa contaminada/Pescadore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Compensación a los contaminadore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ubsidio por no contaminar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costo efectivo producción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¿Es esta una situación irreal?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Retiro microbuses en Santiago</a:t>
            </a:r>
            <a:br>
              <a:rPr sz="28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Impuesto-Subsid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Q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- Principal tool - para enfrentar external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Norm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Standard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Cuot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Ej. Autos, Fumadores, Pesc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- Ventajas Mecanismo Q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Mecanismo P y Mecanismo Q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Normas de emisión vs. Mult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Principio económico básico: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sib. Sustitución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Ej.- Empresa Contaminante</a:t>
            </a:r>
            <a:br>
              <a:rPr sz="2800"/>
            </a:br>
            <a:br>
              <a:rPr sz="2800"/>
            </a:b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Partículas Contaminant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-Soc.- CMg para Soc. por contamin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. R.E - CMg para Empresa por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ontaminación</a:t>
            </a:r>
            <a:br>
              <a:rPr sz="28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rma-Estándar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- Emis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676520"/>
            <a:ext cx="7467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asificación según A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Causant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Afectad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ternal.                      External.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uesto (P) por Emisió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P*E*:  Monto pagado por emitir E*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¿Por qué le conviene a la empresa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nivel emisión de 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Mercado - Derechos Transables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zcla Tools P y Q</a:t>
            </a:r>
            <a:br>
              <a:rPr sz="2800"/>
            </a:br>
            <a:br>
              <a:rPr sz="32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Derechos (B</a:t>
            </a:r>
            <a:r>
              <a:rPr b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- Emisión</a:t>
            </a:r>
            <a:br>
              <a:rPr sz="28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MgRE =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+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: Precio Derecho Transabl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vel Optimo Emisión: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Determinado por Gob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B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ijar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enos contaminante - compra poc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ás contaminante  - compra má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logra Min Cost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Requiere Mínimo IF y Cont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341360"/>
            <a:ext cx="72392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aracterísticas Bien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.- Bien No Rival o Bien No Ago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ien alternativo r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ien no agotable en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.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rincipio de excl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adie puede ser excluido de su uso/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ncipio básico de exclusión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bro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 Público - No es posible cobrar (o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Agentes usan el bien sin tener que pa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476280"/>
            <a:ext cx="55450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Faro  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El caso de la TV pública -?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Salud Pública - ??</a:t>
            </a: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iciencia y Bs. Públic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Principio básico:  CMg = UMg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Bienes Priv.: Bcnef. Mg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edir UMg - consumidor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Bien Público: Test : Disposición a pagar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B.Mg Soc.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=1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uego: C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B.Pub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: Construcción 1 o 2 plazas</a:t>
            </a:r>
            <a:br>
              <a:rPr sz="28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btención D- Agregada: D-Bien Público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Vertical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 CMg = $ 40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construye 1 plaza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secuencias de la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</a:t>
            </a:r>
            <a:br>
              <a:rPr sz="4400"/>
            </a:b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j. Empresa contaminante </a:t>
            </a: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Restricción para contaminar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tern.  &lt; 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 CMg - Soc  &gt; Cmg - Priv.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 Solución Mercado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Equilibrio Optimo Social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Externalidad &lt; 0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No es Opt. Socia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alla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gt;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lt;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input no valorad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v)   Para alcanzar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hasta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4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78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ineficiencia en Solución Mdo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es ineficiente la solución del mercado?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puesta:  Uso aire limp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empresa:  Max.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Optimo Social: P = Cmg - Soc.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da al Aire: Pablo Nerud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Cuál es el error básico de Pablo Neru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álisis de Bienestar de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xternal. &lt; 0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3"/>
              <a:tabLst>
                <a:tab algn="l" pos="66672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al Problema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alización  Externalidad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Tragedia Comun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Teorema Coase - Negociación</a:t>
            </a:r>
            <a:br>
              <a:rPr sz="2400"/>
            </a:br>
            <a:br>
              <a:rPr sz="24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</a:t>
            </a:r>
            <a:br>
              <a:rPr sz="28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Solución Pigou:  Impuesto  P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bsidio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Solución Q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Solución Mercado: Permiso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IV.   </a:t>
            </a: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 a las Externalidades</a:t>
            </a:r>
            <a:br>
              <a:rPr sz="3000"/>
            </a:br>
            <a:br>
              <a:rPr sz="3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nalización Externalidad</a:t>
            </a: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.  - Fusión de 2 empresa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- Represa Ralco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gedia de los Comunes</a:t>
            </a:r>
            <a:br>
              <a:rPr sz="2800"/>
            </a:b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Propiedad Común - libre acces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¿Quién la cuida?  - NADI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Consecuencias - Sobre-explotació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Ex. Pesca en lago con stock fijo pece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ternalidad tecnológi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 a haber sobre-explotación de pesca</a:t>
            </a:r>
            <a:br>
              <a:rPr sz="3600"/>
            </a:br>
            <a:br>
              <a:rPr sz="36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Mercad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acabarán los peces</a:t>
            </a: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23:20:24Z</dcterms:created>
  <dc:creator>Universidad de Chile</dc:creator>
  <dc:description/>
  <dc:language>en-US</dc:language>
  <cp:lastModifiedBy>............</cp:lastModifiedBy>
  <dcterms:modified xsi:type="dcterms:W3CDTF">2005-10-04T23:58:33Z</dcterms:modified>
  <cp:revision>20</cp:revision>
  <dc:subject/>
  <dc:title>EXTERNALIDADES  </dc:title>
</cp:coreProperties>
</file>