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42E-CE43-477D-874D-3B188D39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233-2C99-48F9-9C4A-24FB7E4F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4D9-BBEB-49F4-BC9C-C62D21EA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87B-3688-4933-9B93-1685CC2F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AD6-4AEE-43E2-94EC-3F0304C1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5F7-617B-43FC-8580-3DEAC155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D0D-9B4D-4E0D-BDDF-4DAC951F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055-8C9A-4C2B-8B52-730C4BD4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760-329A-4482-A468-4D2FBBF7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D88-BEC3-4E33-929C-5199B60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F8B-1CE1-4132-B2B2-31B8533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DB7-821D-4562-A637-4F9180F0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80C8-504E-4687-991E-462FE50EE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5-10-04T23:58:33Z</dcterms:modified>
  <cp:revision>20</cp:revision>
  <dc:subject/>
  <dc:title>EXTERNALIDADES  </dc:title>
</cp:coreProperties>
</file>