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E75D-22DA-4571-996D-8BE6DF03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53A-0982-4DF0-9D39-EA1FA4BD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D93-EB9D-4F5B-B507-BF41943B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552-3BB7-4F34-8561-BC333111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BF5-1722-4040-804C-728E161D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89D-4936-494C-8FB0-695EAF1F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1F9-AAB2-4913-9AB4-5E6B89D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560-AC34-4750-A132-E93EB81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2C4-71B8-4078-92A0-76C4921E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A1C-CB3B-49C4-A969-1F2BC99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5C5F-7410-4870-9182-A140512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4BCC-4E5A-49F4-9CA1-925A43A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3AA1-2811-4CC2-BE1A-11AF84424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5-10-04T23:58:33Z</dcterms:modified>
  <cp:revision>20</cp:revision>
  <dc:subject/>
  <dc:title>EXTERNALIDADES  </dc:title>
</cp:coreProperties>
</file>