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95E-B399-42B4-A3C0-B25955A8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776-97F9-4997-8E8E-FC1D66B0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648-3F68-40A6-AAF1-98FC4088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2C3-6EF9-4532-9F62-648416FA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97F-CEB0-4F70-9C33-48D26947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838-38EA-4107-AF3E-A6E97FF9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218-55BB-44CD-B546-7BBDDD4F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543-DF71-42FF-816D-0C0B144D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EE4-6188-4FE6-9A80-84678AB7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8DC-9054-4122-A011-C4DE18A6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9AD-2849-46B6-8B37-65D8F80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F1A-AF42-49CC-A344-8A3C727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atricio Mell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452D-A53C-417B-9434-F233B473D4F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Tahoma"/>
              </a:rPr>
              <a:t>Información Asimétrica</a:t>
            </a:r>
            <a:endParaRPr b="1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Patricio M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70440" y="2514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38096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685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</a:rPr>
              <a:t>FACULTAD  DE CIENCIAS FISICAS Y MATE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</a:rPr>
              <a:t>DEPARTAMENTO DE INGENIERIA INDUSTRIAL</a:t>
            </a:r>
            <a:r>
              <a:rPr b="0" lang="es-ES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838080"/>
            <a:ext cx="7696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R. Coase (1937).-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Nivel óptimo integración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Issue: </a:t>
            </a: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¿Qué se hace dentro/fuera de la empre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: </a:t>
            </a: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Costos de transacción (y “hold u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Evidencia empírica: Esto cambia a través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aso autos: GM (principio XX) - Toyota (fines X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hock T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380880"/>
            <a:ext cx="7543800" cy="61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99"/>
                </a:solidFill>
                <a:uFillTx/>
                <a:latin typeface="Times New Roman"/>
              </a:rPr>
              <a:t>II. Dilemas del Manejo de un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dición de la productividad 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rucial para asociar pagos a 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rabajo en equi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i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w - no están bien correlacionados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de los 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ol incentivos - inducir a agentes a hacer bien las c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centivos para “shirking” - Rol moni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¿Quién monitorea a los moni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oma de decisiones- ¿Cuánto se descentral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ó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ueño = Gerente = Coordi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04920"/>
            <a:ext cx="86104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de los Costos de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Origen de Costos de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Costos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Costos 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Costos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sociados fijación P, meeting/delivery S-D, research gustos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F: (juntar/transmisión) – dem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Costos 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F incompleta/asimétrica-desempeño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venios imperf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914400"/>
            <a:ext cx="807732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Total= Costo Producción + Costo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sto transacción asociado: Estructura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ifícil medir: Costo trans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- Ej. Caso Intel - paso Monopolio a Duopo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Min. C.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 Trade-off Min. C. Trans. y Max. Efic.-S. Púb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Xerox: ¿Pq. prefiere arrendar a vender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914400"/>
            <a:ext cx="8610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III. 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Corporación Moderna- Disociación Propiedad/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: Agente –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Cómo monitorear a los ger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¿Cómo proteger intereses accionistas minoritar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centivos para los G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3464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mpresas Privadas – “Costos de Agenci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paración propiedad/administración (Berle &amp; Means, 193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sto monitoreo accion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Gerentes hacen lo que qui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erentes enfrentan restricciones (Fama &amp; Jensen, 198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ercado ger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ecanismos incen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Takeo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mpresas Públicas – problemas de a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bjetivos de ejecu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centivos exist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rabajadores – “dueños” de la emp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troles exter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t de principios básicos para E. Públ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x CODEL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Problema Gerencial de 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Mecanismos para controlar problema de a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diciones para existencia problema de a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nitoreo vs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centivos explícitos en los contra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s – sistema incen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ema: ¿Por qué empres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fábrica de alfileres de Adam Sm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mpresas moder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rganización para coord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ivel óptimo integración vert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ópicos centrales en una emp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oductividad/Pago de fact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-6897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Revisión Supuesto B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perf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odos tienen toda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odos tienen la misma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 =&gt; Sistema más eficiente para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rcado perfectamente competi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da agente – P que le intere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sto 0 – adquisición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undo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F perfecta =&gt;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ncertidumbre – futu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lgunos agentes tienen + IF =&gt; IF asimétr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fenómeno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plic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squemas institu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puede generar falla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ópicos IF asimét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lección adversa (“Características oculta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iesgo moral (“Acciones oculta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oblemas de a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simetría IF en mercado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Selección Adve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Incertidumbre c/r calidad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Akerlof (197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rcado autos usados (“cacharro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r qué valor de un auto usado cae tant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mercado autos us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íntesis =&gt;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elección adversa – deja en el mercado vehículos de baja c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guros – médicos/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rcado de créd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ortancia reputación y standar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Riesgo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=&gt;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comportamiento =&gt;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probabilidad de accidentes =&gt; cía seguros paga + ple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 puede establecers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contrat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fiscaliz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jemplos –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eguro méd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incen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ode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a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fectos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riesgo moral sobre eficiencia econó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o incendio edif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ran depresión – sector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Problemas de A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–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simetría IF – genera proble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gente/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enestar de una persona – depende de o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2971800"/>
            <a:ext cx="2361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3352680"/>
            <a:ext cx="1143000" cy="762120"/>
          </a:xfrm>
          <a:prstGeom prst="leftRightArrow">
            <a:avLst>
              <a:gd name="adj1" fmla="val 50000"/>
              <a:gd name="adj2" fmla="val 2985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2959200"/>
            <a:ext cx="2361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Gerentes y trabaj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 ag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Gerentes pueden Max función objetiv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Función objetivo dueño – a expensas d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tivación – Ej auto - carre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</a:rPr>
              <a:t>Management de una Empresa .- Visión Ec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523880"/>
            <a:ext cx="7848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I. 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¿Pq.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 empres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) A. Smith (XVIII) 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esanos vs. Fáb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Fábrica de alfile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entajas de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obl. de coordinac.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incronización entre especi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Artesano - Robinson Crus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tiene problemas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838080"/>
            <a:ext cx="838224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Problemas Coordinación: c/activ. prod. debe ser efectuada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Q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sando Tecnología aprop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iempo de demora - cor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cuencia cor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º correcto de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 especialidades perti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Issue: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¿Quién es el coordin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Cooperativa artes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obl.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no actúa como vendedor - cobra fee y asign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609480"/>
            <a:ext cx="685800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Manage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ueño - que hace de coordi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trata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asigna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ctiv.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tratos desempeño -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mpra input/vend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queda co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Desmembramiento productiv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ching Nº firmas = Nº procesos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/proceso - empresa sepa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transacciones para input inter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22:21:37Z</dcterms:created>
  <dc:creator>Silvia Tapia Bosman</dc:creator>
  <dc:description/>
  <dc:language>en-US</dc:language>
  <cp:lastModifiedBy>............</cp:lastModifiedBy>
  <dcterms:modified xsi:type="dcterms:W3CDTF">2005-10-04T23:03:36Z</dcterms:modified>
  <cp:revision>168</cp:revision>
  <dc:subject/>
  <dc:title>Discriminación de Precios &amp; L1SP</dc:title>
</cp:coreProperties>
</file>