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1DE9-E5E9-42A1-8D9F-B02A96408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5668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FFFF-861C-4518-9BBF-6371C8BB2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99072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5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EA77-235B-40BC-AFE3-9AA00224A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99072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99072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5668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5668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5668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D789-4F96-4464-B013-164A0D2F5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26A3-2EF8-4697-8767-39D589F6D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D738-760A-4A07-944D-89E4210EB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99072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A1C8-462C-4CDF-8C83-0F8AC82F2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1458-CFAF-4967-A419-67430258E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2F63-CDB8-486D-88F0-2C92CDF4B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99072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9DC3-8A4A-4D31-B023-AD828A57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99072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5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6A34-D549-499B-9784-0EB5CEA2B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99072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5668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2ED5-153B-4893-A50D-964261F1A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9907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 algn="just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 algn="just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 algn="just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5530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ahoma"/>
              </a:rPr>
              <a:t>Patricio Meller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27212-7DC2-42DF-91C7-B9BF7D9206A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28600"/>
            <a:ext cx="9144000" cy="15228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50000">
                <a:srgbClr val="0066ff"/>
              </a:gs>
              <a:gs pos="100000">
                <a:srgbClr val="002f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3333cc"/>
                </a:solidFill>
                <a:latin typeface="Tahoma"/>
              </a:rPr>
              <a:t>Información Asimétrica</a:t>
            </a:r>
            <a:endParaRPr b="1" lang="en-US" sz="4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2209680" y="441972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ahoma"/>
              </a:rPr>
              <a:t>Patricio Mell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70440" y="25146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1380960" cy="1828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676520" y="6858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 Unicode MS"/>
                <a:ea typeface="Times New Roman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 Unicode MS"/>
              </a:rPr>
              <a:t>FACULTAD  DE CIENCIAS FISICAS Y MATEMAT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Arial Unicode MS"/>
              </a:rPr>
              <a:t>DEPARTAMENTO DE INGENIERIA INDUSTRIAL</a:t>
            </a:r>
            <a:r>
              <a:rPr b="0" lang="es-ES" sz="1800" spc="-1" strike="noStrike">
                <a:solidFill>
                  <a:srgbClr val="003399"/>
                </a:solidFill>
                <a:latin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33520" y="838080"/>
            <a:ext cx="76960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3) R. Coase (1937).- </a:t>
            </a:r>
            <a:r>
              <a:rPr b="1" lang="es-ES_tradnl" sz="2400" spc="-1" strike="noStrike" u="sng">
                <a:solidFill>
                  <a:srgbClr val="003399"/>
                </a:solidFill>
                <a:uFillTx/>
                <a:latin typeface="Times New Roman"/>
              </a:rPr>
              <a:t>Nivel óptimo integración ver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.- Issue: </a:t>
            </a:r>
            <a:r>
              <a:rPr b="1" lang="es-ES_tradnl" sz="2400" spc="-1" strike="noStrike">
                <a:solidFill>
                  <a:srgbClr val="003399"/>
                </a:solidFill>
                <a:latin typeface="Times New Roman"/>
              </a:rPr>
              <a:t>¿Qué se hace dentro/fuera de la empres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spuesta: </a:t>
            </a:r>
            <a:r>
              <a:rPr b="1" lang="es-ES_tradnl" sz="2400" spc="-1" strike="noStrike">
                <a:solidFill>
                  <a:srgbClr val="003399"/>
                </a:solidFill>
                <a:latin typeface="Times New Roman"/>
              </a:rPr>
              <a:t>Costos de transacción (y “hold up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.- Evidencia empírica: Esto cambia a través del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Caso autos: GM (principio XX) - Toyota (fines X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Shock TI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838080" y="380880"/>
            <a:ext cx="7543800" cy="61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3399"/>
                </a:solidFill>
                <a:uFillTx/>
                <a:latin typeface="Times New Roman"/>
              </a:rPr>
              <a:t>II. Dilemas del Manejo de una Emp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edición de la productividad facto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Crucial para asociar pagos a product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Trabajo en equip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Si Y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y w - no están bien correlacionados 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blema de los incen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Rol incentivos - inducir a agentes a hacer bien las co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incentivos para “shirking” - Rol moni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¿Quién monitorea a los monitor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Toma de decisiones- ¿Cuánto se descentraliz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olución: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ueño = Gerente = Coordin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8600" y="304920"/>
            <a:ext cx="8610480" cy="60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blema de los Costos de Trans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.- Origen de Costos de Trans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 Costos coordi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 Costos motiv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.- Costos coordi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Asociados fijación P, meeting/delivery S-D, research gustos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IF: (juntar/transmisión) – demo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.- Costos motiv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IF incompleta/asimétrica-desempeño 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convenios imperf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914400"/>
            <a:ext cx="8077320" cy="456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.-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sto Total= Costo Producción + Costo Trans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Costo transacción asociado: Estructura Organiz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Difícil medir: Costo transac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.- Ej. Caso Intel - paso Monopolio a Duopol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a Min. C. Trans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? Trade-off Min. C. Trans. y Max. Efic.-S. Públ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Xerox: ¿Pq. prefiere arrendar a vender?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4920" y="914400"/>
            <a:ext cx="86104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imes New Roman"/>
              </a:rPr>
              <a:t>III.  </a:t>
            </a:r>
            <a:r>
              <a:rPr b="1" lang="es-ES_tradnl" sz="2400" spc="-1" strike="noStrike" u="sng">
                <a:solidFill>
                  <a:srgbClr val="003399"/>
                </a:solidFill>
                <a:uFillTx/>
                <a:latin typeface="Times New Roman"/>
              </a:rPr>
              <a:t>Corporación Moderna- Disociación Propiedad/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blema: Agente – Princip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2)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¿Cómo monitorear a los geren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¿Cómo proteger intereses accionistas minoritari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3)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istema de incentivos para los Ger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80520" y="68544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1034640" indent="-5911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Tahoma"/>
              </a:rPr>
              <a:t>Empresas Privadas – “Costos de Agencia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9520" indent="-492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Separación propiedad/administración (Berle &amp; Means, 193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73720" indent="-44316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Costo monitoreo accionist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773720" indent="-44316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Gerentes hacen lo que quier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379520" indent="-492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Gerentes enfrentan restricciones (Fama &amp; Jensen, 1983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73720" indent="-44316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 competitiv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773720" indent="-44316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mercado geren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773720" indent="-44316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Mecanismos incentiv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773720" indent="-44316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directori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773720" indent="-44316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Takeov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034640" indent="-5911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Tahoma"/>
              </a:rPr>
              <a:t>Empresas Públicas – problemas de agenc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9520" indent="-492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Objetivos de ejecutiv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9520" indent="-492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Incentivos existen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9520" indent="-492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Trabajadores – “dueños” de la empre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9520" indent="-492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controles extern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9520" indent="-492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Set de principios básicos para E. Públic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9520" indent="-4924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Ex CODEL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8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3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8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3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8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3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8" dur="5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3" dur="500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8" dur="500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3" dur="500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8" dur="500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3" dur="500"/>
                                        <p:tgtEl>
                                          <p:spTgt spid="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8" dur="500"/>
                                        <p:tgtEl>
                                          <p:spTgt spid="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6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3" dur="500"/>
                                        <p:tgtEl>
                                          <p:spTgt spid="6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80520" y="68544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Tahoma"/>
              </a:rPr>
              <a:t>Problema Gerencial de 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Tahoma"/>
              </a:rPr>
              <a:t>Mecanismos para controlar problema de agenc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Condiciones para existencia problema de agen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Monitore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Monitoreo vs merca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Incentivos explícitos en los contra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Problemas – sistema incentiv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Tema: ¿Por qué empresa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La fábrica de alfileres de Adam Smi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Empresas modern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Organización para coordin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828800" indent="-457200" algn="just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Nivel óptimo integración vertic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828800" indent="-457200" algn="just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Incentiv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Tópicos centrales en una empre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Productividad/Pago de fact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0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5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0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5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0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5" dur="5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0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5" dur="500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0" dur="500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5" dur="500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0" dur="500"/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5" dur="500"/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0" dur="500"/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5" dur="500"/>
                                        <p:tgtEl>
                                          <p:spTgt spid="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0" dur="500"/>
                                        <p:tgtEl>
                                          <p:spTgt spid="6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80520" y="68544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689760" indent="-689760" algn="just">
              <a:spcBef>
                <a:spcPts val="700"/>
              </a:spcBef>
              <a:buClr>
                <a:srgbClr val="000000"/>
              </a:buClr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000000"/>
                </a:solidFill>
                <a:uFillTx/>
                <a:latin typeface="Tahoma"/>
              </a:rPr>
              <a:t>Revisión Supuesto Bási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34640" indent="-591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IF perfec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9520" indent="-4924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Todos tienen toda 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9520" indent="-4924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Todos tienen la misma 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34640" indent="-59112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P =&gt; Sistema más eficiente para IF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9520" indent="-4924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Mercado perfectamente competitiv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73720" indent="-443160" algn="just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Cada agente – P que le intere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773720" indent="-44316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Tahoma"/>
              </a:rPr>
              <a:t>costo 0 – adquisición I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034640" indent="-59112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Mundo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9520" indent="-492480" algn="just"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No </a:t>
            </a:r>
            <a:r>
              <a:rPr b="1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 IF perfecta =&gt; </a:t>
            </a:r>
            <a:r>
              <a:rPr b="1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 incertidumbre – futu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379520" indent="-492480" algn="just"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Algunos agentes tienen + IF =&gt; IF asimétric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34640" indent="-591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IF asimétrica – fenómeno corri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34640" indent="-591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IF asimétrica –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Tahoma"/>
              </a:rPr>
              <a:t>explica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esquemas instituciona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34640" indent="-5911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IF asimétrica – puede generar falla merca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4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80520" y="68544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7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Tópicos IF asimétr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Selección adversa (“Características ocultas”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Riesgo moral (“Acciones ocultas”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Problemas de agen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Asimetría IF en mercado trabaj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80520" y="68544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000000"/>
                </a:solidFill>
                <a:uFillTx/>
                <a:latin typeface="Tahoma"/>
              </a:rPr>
              <a:t>Selección Adver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Tahoma"/>
              </a:rPr>
              <a:t>Incertidumbre c/r calidad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– Akerlof (197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Mercado autos usados (“cacharros”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Por qué valor de un auto usado cae tanto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Análisis mercado autos usa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Síntesis =&gt; </a:t>
            </a:r>
            <a:r>
              <a:rPr b="1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selección adversa – deja en el mercado vehículos de baja cal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Implicanci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Seguros – médicos/aut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Mercado de crédi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Importancia reputación y standariz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80520" y="68544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000000"/>
                </a:solidFill>
                <a:uFillTx/>
                <a:latin typeface="Tahoma"/>
              </a:rPr>
              <a:t>Riesgo Mo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seguro =&gt; 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comportamiento =&gt; 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probabilidad de accidentes =&gt; cía seguros paga + pleit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No puede establecerse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Tahoma"/>
              </a:rPr>
              <a:t>contrato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– fiscaliz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jemplos – </a:t>
            </a:r>
            <a:r>
              <a:rPr b="1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seguro médi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Seguro incen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Bodeg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C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Seguro au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fectos </a:t>
            </a:r>
            <a:r>
              <a:rPr b="1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riesgo moral sobre eficiencia económ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Caso incendio edific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422360" indent="-507960" algn="just">
              <a:spcBef>
                <a:spcPts val="499"/>
              </a:spcBef>
              <a:buClr>
                <a:srgbClr val="000000"/>
              </a:buClr>
              <a:buFont typeface="Tahom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</a:rPr>
              <a:t>Gran depresión – sector financie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80520" y="533520"/>
            <a:ext cx="84582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000000"/>
                </a:solidFill>
                <a:uFillTx/>
                <a:latin typeface="Tahoma"/>
              </a:rPr>
              <a:t>Problemas de Agenc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-60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oncepto – </a:t>
            </a:r>
            <a:r>
              <a:rPr b="1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asimetría IF – genera problem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agente/princip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666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Bienestar de una persona – depende de otr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2971800"/>
            <a:ext cx="23619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Du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Princip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62520" y="3352680"/>
            <a:ext cx="1143000" cy="762120"/>
          </a:xfrm>
          <a:prstGeom prst="leftRightArrow">
            <a:avLst>
              <a:gd name="adj1" fmla="val 50000"/>
              <a:gd name="adj2" fmla="val 2985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91320" y="2959200"/>
            <a:ext cx="23619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Gerentes y trabajado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Ag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480060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066680" indent="-609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problema agenc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Gerentes pueden Max función objetivo 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 Función objetivo dueño – a expensas de 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Motivación – Ej auto - carret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14400" y="45720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99"/>
                </a:solidFill>
                <a:latin typeface="Times New Roman"/>
              </a:rPr>
              <a:t>Management de una Empresa .- Visión Ec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90720" y="1523880"/>
            <a:ext cx="7848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99"/>
                </a:solidFill>
                <a:latin typeface="Times New Roman"/>
              </a:rPr>
              <a:t>I.  </a:t>
            </a:r>
            <a:r>
              <a:rPr b="1" lang="es-ES_tradnl" sz="2400" spc="-1" strike="noStrike" u="sng">
                <a:solidFill>
                  <a:srgbClr val="003399"/>
                </a:solidFill>
                <a:uFillTx/>
                <a:latin typeface="Times New Roman"/>
              </a:rPr>
              <a:t>¿Pq. </a:t>
            </a:r>
            <a:r>
              <a:rPr b="1" lang="es-ES_tradnl" sz="2400" spc="-1" strike="noStrike" u="sng">
                <a:solidFill>
                  <a:srgbClr val="003399"/>
                </a:solidFill>
                <a:uFillTx/>
                <a:latin typeface="Symbol"/>
                <a:ea typeface="Symbol"/>
              </a:rPr>
              <a:t></a:t>
            </a:r>
            <a:r>
              <a:rPr b="1" lang="es-ES_tradnl" sz="2400" spc="-1" strike="noStrike" u="sng">
                <a:solidFill>
                  <a:srgbClr val="003399"/>
                </a:solidFill>
                <a:uFillTx/>
                <a:latin typeface="Times New Roman"/>
              </a:rPr>
              <a:t> empres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1) A. Smith (XVIII) -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tesanos vs. Fábr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.- Fábrica de alfile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Ventajas de especi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Probl. de coordinac.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Sincronización entre especial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.- Artesano - Robinson Crus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No tiene problemas de coordi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80880" y="838080"/>
            <a:ext cx="8382240" cy="55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.- Problemas Coordinación: c/activ. prod. debe ser efectuada 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Q adecu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usando Tecnología apropi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tiempo de demora - corr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secuencia correc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Nº correcto de 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con especialidades pertin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2) Issue: </a:t>
            </a:r>
            <a:r>
              <a:rPr b="1" lang="es-ES_tradnl" sz="2400" spc="-1" strike="noStrike" u="sng">
                <a:solidFill>
                  <a:srgbClr val="003399"/>
                </a:solidFill>
                <a:uFillTx/>
                <a:latin typeface="Times New Roman"/>
              </a:rPr>
              <a:t>¿Quién es el coordinad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.- Cooperativa artesa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No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probl. coordin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Uno actúa como vendedor - cobra fee y asigna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90720" y="609480"/>
            <a:ext cx="6858000" cy="55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.-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Manager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Dueño - que hace de coordin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Contrata 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y asigna a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activ. produ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Contratos desempeño -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Compra input/vende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Se queda con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y -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.- Desmembramiento productiv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tching Nº firmas = Nº procesos pr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c/proceso - empresa sepa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transacciones para input intermed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8T22:21:37Z</dcterms:created>
  <dc:creator>Silvia Tapia Bosman</dc:creator>
  <dc:description/>
  <dc:language>en-US</dc:language>
  <cp:lastModifiedBy>............</cp:lastModifiedBy>
  <dcterms:modified xsi:type="dcterms:W3CDTF">2005-10-04T23:03:36Z</dcterms:modified>
  <cp:revision>168</cp:revision>
  <dc:subject/>
  <dc:title>Discriminación de Precios &amp; L1SP</dc:title>
</cp:coreProperties>
</file>