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AA8-E15B-46D2-AA7F-6C07FC27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CDE-6D9E-4A3A-9723-760A64C5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B01-C954-4339-ABD6-D31C65D9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298-CA77-457F-BF26-98CC1808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C69-29CF-49EC-990A-B14A4CDD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288-82C0-48CD-8393-04ADC1EA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96D-8AE3-4C6E-98F8-7585801F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A65-6D6B-4FAF-BEBD-6ADB2D9D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F42-A293-40D2-88A4-C58C7A47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DF3-780A-47A6-81B9-11A4381C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4D2-9E1E-41AE-83ED-50D4DE99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D40-97A0-453B-8DEE-88BF1E74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6F1C-84AF-4BB9-A661-CD0AF79A31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960" y="26028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STEMA NORMATIVO DE LOS DERECH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0520" y="1268280"/>
            <a:ext cx="6861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NES JURI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OS PARA HACER VALER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1600" y="3319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29600" y="107172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ECH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8920" y="1647720"/>
            <a:ext cx="22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88800" y="2035080"/>
            <a:ext cx="517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es o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es o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en derechos o tipifican crí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2840" y="3139920"/>
            <a:ext cx="60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 de Protocolos facultativos o adi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30400" y="3782880"/>
            <a:ext cx="397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UMBRE (Rol no esta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RISPRU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72320" y="522936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 COGENS:   Normas de especial jerar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7800" y="5734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CH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7960" y="62064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TROS CONCEPTO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8000" y="184464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recho en ges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oft Law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ard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4720" y="0"/>
            <a:ext cx="705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ENES JURIDICOS O VALORES PROTE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 DER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836640"/>
            <a:ext cx="375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JURÍDIC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ES J. MÁS ESPECI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8680" y="1773360"/>
            <a:ext cx="541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iolabilidad de la esfera más propia e ínt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identidad, seguridad, priva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ertades civ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rechos po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recho a reconocimiento de cierto status jurí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a la protección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C:     subsistencia, necesidad, igual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arrollo personal/grupal, =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D.HH.   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4720" y="5805360"/>
            <a:ext cx="312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ación discriminación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19960" y="260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TRI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981000"/>
            <a:ext cx="487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PE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CIONES O LI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3880" y="2060640"/>
            <a:ext cx="27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chos de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1840" y="2492280"/>
            <a:ext cx="237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mo derec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 de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3573360"/>
            <a:ext cx="7612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plimiento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generales (Seg. Nacional, Orden público, Moral públi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ud, púb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1080" y="476280"/>
            <a:ext cx="71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ncipios acerca de suspensión y restri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18800" y="1479600"/>
            <a:ext cx="286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sitos f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5:54:25Z</dcterms:created>
  <dc:creator>carolina</dc:creator>
  <dc:description/>
  <dc:language>en-US</dc:language>
  <cp:lastModifiedBy>jzalaq</cp:lastModifiedBy>
  <dcterms:modified xsi:type="dcterms:W3CDTF">2005-08-12T16:10:39Z</dcterms:modified>
  <cp:revision>7</cp:revision>
  <dc:subject/>
  <dc:title>Diapositiva 1</dc:title>
</cp:coreProperties>
</file>