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B58-6C4C-402D-B258-7844F8F6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A0-3E20-407E-B80E-68B2124C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AFB-FFDD-4F73-A232-5180F14F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563-1E38-482B-93CB-B700DBE6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3BC-BC17-4D09-9057-B557BB2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AC6-9B7A-493D-89D1-739D78AD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75D-86E4-4774-9062-AAD57950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BDF-BB9F-4808-8492-2F5C8EF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A8A-5DCD-428C-B4AA-B0B866B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753-8B97-4D88-ADB5-45A63DC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660-E20F-411C-83FE-087461D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D55-3CF2-4327-9682-D1D359D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450-9F10-4051-A0FF-AB2C619B9F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960" y="26028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STEMA NORMATIVO DE LOS DERECH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0520" y="1268280"/>
            <a:ext cx="686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JURI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S PARA HACER VALER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1600" y="3319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9600" y="107172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ECH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8920" y="1647720"/>
            <a:ext cx="22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88800" y="2035080"/>
            <a:ext cx="517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es o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es o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en derechos o tipifican crí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840" y="313992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de Protocolos facultativos o 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0400" y="3782880"/>
            <a:ext cx="397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UMBRE (Rol no est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2320" y="522936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 COGENS:   Normas de especial jer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7800" y="5734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CH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7960" y="620640"/>
            <a:ext cx="54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TROS CONCEP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1844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 en g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oft La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ar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4720" y="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ENES JURIDICOS O VALORES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DER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836640"/>
            <a:ext cx="3755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JURÍD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ES J. MÁS ESPECI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8680" y="1773360"/>
            <a:ext cx="541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iolabilidad de la esfera más propia e ínt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identidad, seguridad, priva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tades civ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s 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recho a reconocimiento de cierto status jur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a la protección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C:     subsistencia, necesidad, igual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personal/grupal, =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D.HH.   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4720" y="5805360"/>
            <a:ext cx="312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ción discriminación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19960" y="260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920" y="981000"/>
            <a:ext cx="487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CIONES 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3880" y="2060640"/>
            <a:ext cx="27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chos de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1840" y="2492280"/>
            <a:ext cx="23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mo 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 de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573360"/>
            <a:ext cx="7612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mien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generales (Seg. Nacional, Orden público, Moral pú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ud,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1080" y="4762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cipios acerca de suspensión y restri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8800" y="1479600"/>
            <a:ext cx="286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s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5:54:25Z</dcterms:created>
  <dc:creator>carolina</dc:creator>
  <dc:description/>
  <dc:language>en-US</dc:language>
  <cp:lastModifiedBy>jzalaq</cp:lastModifiedBy>
  <dcterms:modified xsi:type="dcterms:W3CDTF">2005-08-12T16:10:39Z</dcterms:modified>
  <cp:revision>7</cp:revision>
  <dc:subject/>
  <dc:title>Diapositiva 1</dc:title>
</cp:coreProperties>
</file>