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B63-7935-49C6-918E-BEE98882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472-5718-44E6-B842-BD2D2EEB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4FB-F25D-45A6-94B9-FE907C9F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495-D896-4A0B-9043-7F342C7C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074-889B-4B2C-8FAE-F0671F86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45B-D5CD-427B-9329-4C5B9F78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8FC0-4838-4B3B-A2F7-08E5D0A0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F60-559C-4D55-A993-C93FF231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934-5DE7-4AA3-B889-6FC06358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F54-0345-43D8-AFA6-3375FF6F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FEB-DE3C-4B6B-9F56-A746CD6F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5A5-B7C2-4EC0-8B8C-A4955354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6839-4369-4C97-8776-2601CC6E1D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1960" y="26028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STEMA NORMATIVO DE LOS DERECHO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0520" y="1268280"/>
            <a:ext cx="6861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ENES JURI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O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OS PARA HACER VALER 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51600" y="3319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29600" y="1071720"/>
            <a:ext cx="43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RECH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8920" y="1647720"/>
            <a:ext cx="22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88800" y="2035080"/>
            <a:ext cx="517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es o Unive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es o 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en derechos o tipifican crím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2840" y="3139920"/>
            <a:ext cx="60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 de Protocolos facultativos o adi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30400" y="3782880"/>
            <a:ext cx="397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UMBRE (Rol no esta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RISPRU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IO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72320" y="522936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 COGENS:   Normas de especial jerarqu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587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7800" y="5734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ECHO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67960" y="62064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TROS CONCEPTOS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8000" y="1844640"/>
            <a:ext cx="41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recho en ges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oft Law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versus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ard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4720" y="0"/>
            <a:ext cx="705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ENES JURIDICOS O VALORES PROTEG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 DERE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836640"/>
            <a:ext cx="3755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JURÍDIC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ES J. MÁS ESPECI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8680" y="1773360"/>
            <a:ext cx="5410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violabilidad de la esfera más propia e ínt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identidad, seguridad, privac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ertades civ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rechos polí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gual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recho a reconocimiento de cierto status jurí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y a la protección correspon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SC:     subsistencia, necesidad, igual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sarrollo personal/grupal, = 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D.HH.    Especí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4720" y="5805360"/>
            <a:ext cx="312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ación discriminación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919960" y="260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STRI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0920" y="981000"/>
            <a:ext cx="487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PEN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RICCIONES O LIMI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3880" y="2060640"/>
            <a:ext cx="27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chos de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1840" y="2492280"/>
            <a:ext cx="237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mo derech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os de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3573360"/>
            <a:ext cx="7612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plimiento de la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s generales (Seg. Nacional, Orden público, Moral públic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ud, púb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s 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1080" y="476280"/>
            <a:ext cx="71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ncipios acerca de suspensión y restri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18800" y="1479600"/>
            <a:ext cx="286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sitos for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5:54:25Z</dcterms:created>
  <dc:creator>carolina</dc:creator>
  <dc:description/>
  <dc:language>en-US</dc:language>
  <cp:lastModifiedBy>jzalaq</cp:lastModifiedBy>
  <dcterms:modified xsi:type="dcterms:W3CDTF">2005-08-12T16:10:39Z</dcterms:modified>
  <cp:revision>7</cp:revision>
  <dc:subject/>
  <dc:title>Diapositiva 1</dc:title>
</cp:coreProperties>
</file>