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212-E2BE-4E6B-BE06-C5483752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217-C3E1-4CEC-9E65-70E5D7D4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85C-F114-4C3A-8D7E-E639103B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52D-EBB0-4B26-93C8-249A938B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513-A59B-4290-A490-7CD99F31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979-6B22-4CCC-835A-9B5ACB8C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E1C-AF4A-4C4C-A3E0-4B009DAA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0C7-C07F-4F3A-8036-DF902DA8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2FF-5CA0-404A-9FB3-CDBF84D1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C71-D581-4666-B986-79073EBA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5B2-9E8F-44F9-B604-D91510B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E1D-B42C-4593-9663-F151AF15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FC4E-B7AA-40DF-A517-43003E2F14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960" y="26028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STEMA NORMATIVO DE LOS 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0520" y="1268280"/>
            <a:ext cx="6861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ES JURI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OS PARA HACER VALER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1600" y="3319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9600" y="107172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ECH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8920" y="1647720"/>
            <a:ext cx="22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88800" y="2035080"/>
            <a:ext cx="517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es o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es o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en derechos o tipifican crí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2840" y="3139920"/>
            <a:ext cx="60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 de Protocolos facultativos o adi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30400" y="3782880"/>
            <a:ext cx="397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UMBRE (Rol no esta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2320" y="522936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 COGENS:   Normas de especial jer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7800" y="5734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CH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7960" y="62064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TROS CONCEPTO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8000" y="184464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recho en ges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oft Law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ard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4720" y="0"/>
            <a:ext cx="705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ENES JURIDICOS O VALORES PROTE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 DER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836640"/>
            <a:ext cx="375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JURÍDIC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ES J. MÁS ESPECI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8680" y="1773360"/>
            <a:ext cx="541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iolabilidad de la esfera más propia e ínt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identidad, seguridad, priva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ertades civ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s po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 a reconocimiento de cierto status jurí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a la protección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C:     subsistencia, necesidad, igual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arrollo personal/grupal, =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D.HH.   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4720" y="5805360"/>
            <a:ext cx="312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ación discriminación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19960" y="260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981000"/>
            <a:ext cx="487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P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CIONES O 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3880" y="2060640"/>
            <a:ext cx="27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 de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1840" y="2492280"/>
            <a:ext cx="23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mo der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 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573360"/>
            <a:ext cx="761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plimien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generales (Seg. Nacional, Orden público, Moral públ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ud, púb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1080" y="47628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ncipios acerca de suspensión y 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18800" y="1479600"/>
            <a:ext cx="286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sitos f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5:54:25Z</dcterms:created>
  <dc:creator>carolina</dc:creator>
  <dc:description/>
  <dc:language>en-US</dc:language>
  <cp:lastModifiedBy>jzalaq</cp:lastModifiedBy>
  <dcterms:modified xsi:type="dcterms:W3CDTF">2005-08-12T16:10:39Z</dcterms:modified>
  <cp:revision>7</cp:revision>
  <dc:subject/>
  <dc:title>Diapositiva 1</dc:title>
</cp:coreProperties>
</file>