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8CA3-C7D7-4916-BE33-084EB7B5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6E93-F857-4F30-9806-9FDE33DE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AA55-FD83-4CB3-8249-6536BF0B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F537-D049-4D60-9C1F-3772C1F2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747E-81A4-4AC9-AB7C-028026E4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77DC-4910-499E-B434-DA377807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DAD9-56DA-4A3E-88A6-D1F0AB5E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87A3-E3D8-4B3D-9CCC-BEEFF1F1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B9B2-651F-45D5-94E5-5AB71F5D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6F65-36C8-4943-8162-874B615E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95E9-A770-4BA8-9878-2F43771A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082A-D647-4BC7-9E80-0A26F574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7654-508A-4992-A0C2-03B0D7A2731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1960" y="260280"/>
            <a:ext cx="81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STEMA NORMATIVO DE LOS DERECHOS HU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0520" y="1268280"/>
            <a:ext cx="6861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ENES JURID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OL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OS PARA HACER VALER RESPONS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351600" y="3319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U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29600" y="1071720"/>
            <a:ext cx="43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RECHO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8920" y="1647720"/>
            <a:ext cx="22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88800" y="2035080"/>
            <a:ext cx="517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es o Univer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es o especí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cen derechos o tipifican crím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02840" y="3139920"/>
            <a:ext cx="60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 de Protocolos facultativos o adi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30400" y="3782880"/>
            <a:ext cx="397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UMBRE (Rol no esta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RISPRU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T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IOS GEN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72320" y="5229360"/>
            <a:ext cx="49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 COGENS:   Normas de especial jerarqu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3280" y="5877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97800" y="573408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ECHO IN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67960" y="620640"/>
            <a:ext cx="54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TROS CONCEPTOS RELEV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8000" y="1844640"/>
            <a:ext cx="41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recho en ges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oft Law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versus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ard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44720" y="0"/>
            <a:ext cx="705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IENES JURIDICOS O VALORES PROTEG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Y DEREC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836640"/>
            <a:ext cx="3755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EN JURÍDICO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ENES J. MÁS ESPECIF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68680" y="1773360"/>
            <a:ext cx="5410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violabilidad de la esfera más propia e ínt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identidad, seguridad, privac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bertades civ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rechos polí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gual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recho a reconocimiento de cierto status jurí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y a la protección correspond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SC:     subsistencia, necesidad, iguald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sarrollo personal/grupal, = oportun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D.HH.    Específ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44720" y="5805360"/>
            <a:ext cx="312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eración discriminación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ce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919960" y="2602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STRI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0920" y="981000"/>
            <a:ext cx="487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PEN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TRICCIONES O LIMI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53880" y="2060640"/>
            <a:ext cx="270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echos de 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1840" y="2492280"/>
            <a:ext cx="237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mo derech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os de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3573360"/>
            <a:ext cx="7612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mplimiento de la 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ores generales (Seg. Nacional, Orden público, Moral públic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ud, públ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ores especí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01080" y="476280"/>
            <a:ext cx="71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incipios acerca de suspensión y restri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18800" y="1479600"/>
            <a:ext cx="2861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r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t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sitos for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15:54:25Z</dcterms:created>
  <dc:creator>carolina</dc:creator>
  <dc:description/>
  <dc:language>en-US</dc:language>
  <cp:lastModifiedBy>jzalaq</cp:lastModifiedBy>
  <dcterms:modified xsi:type="dcterms:W3CDTF">2005-08-12T16:10:39Z</dcterms:modified>
  <cp:revision>7</cp:revision>
  <dc:subject/>
  <dc:title>Diapositiva 1</dc:title>
</cp:coreProperties>
</file>