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42.png" ContentType="image/png"/>
  <Override PartName="/ppt/media/image31.wmf" ContentType="image/x-wmf"/>
  <Override PartName="/ppt/media/image32.png" ContentType="image/png"/>
  <Override PartName="/ppt/media/image43.wmf" ContentType="image/x-wmf"/>
  <Override PartName="/ppt/media/image44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B88EF-0CEB-4F8A-89AB-2E4C6804831B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388620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8862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-144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ldImg"/>
          </p:nvPr>
        </p:nvSpPr>
        <p:spPr>
          <a:xfrm>
            <a:off x="1149480" y="69048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383" name=""/>
          <p:cNvSpPr/>
          <p:nvPr/>
        </p:nvSpPr>
        <p:spPr>
          <a:xfrm>
            <a:off x="1281600" y="4637160"/>
            <a:ext cx="46184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There have been several prominent financial “crises” in the 1990s.  Mexico’s in 1994-5 mar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what’s considered the first major episode.  In 1997, several Asian economies experienced cris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starting with Thailand.  The Russian one in 1998 was market by a default on government debt (wil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get back to in this talk); that crisis was followed by the collapse of LTCM.  The latest major cris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occurred in Brazil.  It is worth noting that “crises” have occurred in many other countries in vario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regions (Pakistan, Colombia, Ecuador to name a few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F2D5-5552-4C8E-BE66-FAAEFC8B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FBDD-4693-4839-A33A-8AE84385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24B3-BB5A-43B7-9018-A61B75961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A073-79EB-420E-8101-9DC759DD1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6B0-7F35-4C6C-B7EB-F30B034F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9245-CD88-4A81-AC2C-4CB84119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A9F-55B0-4501-B566-395EFD65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F4E2-8B8C-4A22-A07C-3E71CB8D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92000" y="250560"/>
            <a:ext cx="6994440" cy="55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F6FA-EA04-467D-B1C4-A2C86F451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75D9-6CC2-46AA-B43C-2EE18120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3EFC-64A5-44AC-B7F9-D945E94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C48A-7C51-4EB2-A434-495513B6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361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B2240-3252-4FCA-BCCF-780BDBEBB0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28440" y="130320"/>
            <a:ext cx="1447920" cy="113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4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5.wmf"/><Relationship Id="rId7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208080" y="1268280"/>
          <a:ext cx="8742240" cy="558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8080" y="1268280"/>
                    <a:ext cx="8742240" cy="558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br>
              <a:rPr sz="2800"/>
            </a:b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sector financi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 todos los in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3240" y="1187280"/>
          <a:ext cx="917892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187280"/>
                    <a:ext cx="917892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1692360" y="122760"/>
            <a:ext cx="7451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 Unicode MS"/>
              </a:rPr>
              <a:t>Diversificación de activos: </a:t>
            </a: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Instrumentos corpor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47280" y="419040"/>
            <a:ext cx="75963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Los Fondos de Pensiones son los principales inversionistas de letras hipotecaria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655640"/>
            <a:ext cx="7848720" cy="3789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0920" y="5516640"/>
            <a:ext cx="8569080" cy="1081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inversión de los Fondos de Pensiones en la ofer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 letras hipotecarí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 Banco Estado es de 4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4161" r="-2296" b="9847"/>
          <a:stretch/>
        </p:blipFill>
        <p:spPr>
          <a:xfrm>
            <a:off x="1332000" y="1484280"/>
            <a:ext cx="6767280" cy="49910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Acceso a la vivienda en Chile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2" name=""/>
          <p:cNvSpPr/>
          <p:nvPr/>
        </p:nvSpPr>
        <p:spPr>
          <a:xfrm>
            <a:off x="2879640" y="6568920"/>
            <a:ext cx="62643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nte: CEPAL – SERIE financiamiento del desar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74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 Unicode MS"/>
              </a:rPr>
              <a:t>Efectos de los Fondos de Pensiones en el financiamiento de viviendas en Chil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55640" y="1615680"/>
            <a:ext cx="7632720" cy="148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 observan mayores plazos para créditos hipotecarios y disminución de las tasas de interés de los préstamos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1640" y="3060720"/>
          <a:ext cx="7489800" cy="2600280"/>
        </p:xfrm>
        <a:graphic>
          <a:graphicData uri="http://schemas.openxmlformats.org/drawingml/2006/table">
            <a:tbl>
              <a:tblPr/>
              <a:tblGrid>
                <a:gridCol w="2590560"/>
                <a:gridCol w="2514600"/>
                <a:gridCol w="2384640"/>
              </a:tblGrid>
              <a:tr h="116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Tasa de interés real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81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1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F + 5,3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más de  20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lazo máximo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977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2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certificados con respaldo hipotecari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2004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40 añ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794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 Unicode MS"/>
              </a:rPr>
              <a:t>La gran mayoría de los adultos mayores viven en casa propi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57280" y="1685880"/>
          <a:ext cx="8244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685880"/>
                    <a:ext cx="8244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6154560" y="63025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92000" y="250200"/>
            <a:ext cx="69944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 pesar de eso, hay problemas de dos tip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60" y="1687680"/>
            <a:ext cx="3887640" cy="52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de arrastre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onos de reconocimiento: calculados sobre una “mala base” porque el desempleo entre 1975 y 1979 fue muy alt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año previsiona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05040" indent="-45252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lto desempleo en 80s y 00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blemas estructurales, endógenos y exógen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51280" y="1557360"/>
            <a:ext cx="5292720" cy="50403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3571920"/>
            <a:ext cx="503280" cy="11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6732720" y="2637000"/>
            <a:ext cx="1798560" cy="2376360"/>
            <a:chOff x="6732720" y="2637000"/>
            <a:chExt cx="1798560" cy="2376360"/>
          </a:xfrm>
        </p:grpSpPr>
        <p:sp>
          <p:nvSpPr>
            <p:cNvPr id="135" name=""/>
            <p:cNvSpPr/>
            <p:nvPr/>
          </p:nvSpPr>
          <p:spPr>
            <a:xfrm>
              <a:off x="6732720" y="2637000"/>
              <a:ext cx="934920" cy="2376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28000" y="3787920"/>
              <a:ext cx="503280" cy="115236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7840" y="1270080"/>
          <a:ext cx="8966160" cy="510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40" y="1270080"/>
                    <a:ext cx="896616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1619280" y="462960"/>
            <a:ext cx="74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92000" y="52452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obertura Prevision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878544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1: contexto históric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447560" y="1341000"/>
            <a:ext cx="74674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erencia: en países desarrollados, los esquemas de seguridad social de origen bismarckiano e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tregan beneficios y cobertura a amplios sectores de la población, per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án financieramente en serios apuros por los excesivos beneficios que entregaban en un contexto de baja capacidad “endógena” de modificar las prestaciones a la nueva realidad demográfica y económic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chos beneficios además no entregaban adecuados incentivos para que las personas contribuyan y, en algunos casos, hagan uso racional de las prestaciones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35280" y="91440"/>
            <a:ext cx="685152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Distribución de pensionados actual…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44" name=""/>
          <p:cNvSpPr/>
          <p:nvPr/>
        </p:nvSpPr>
        <p:spPr>
          <a:xfrm>
            <a:off x="2262240" y="1221840"/>
            <a:ext cx="37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tock de pensiones según monto de pens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22320" y="1558800"/>
          <a:ext cx="7254720" cy="1941480"/>
        </p:xfrm>
        <a:graphic>
          <a:graphicData uri="http://schemas.openxmlformats.org/drawingml/2006/table">
            <a:tbl>
              <a:tblPr/>
              <a:tblGrid>
                <a:gridCol w="2936880"/>
                <a:gridCol w="858960"/>
                <a:gridCol w="680760"/>
                <a:gridCol w="779760"/>
                <a:gridCol w="609480"/>
                <a:gridCol w="758880"/>
                <a:gridCol w="63000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7.7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21.19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63.9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74.1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8.53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45.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71.9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59.72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09.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1033560" y="3715920"/>
            <a:ext cx="573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Flujo de pensiones solicitadas durante 2003 según monto de pens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22320" y="4206960"/>
          <a:ext cx="7250040" cy="1941480"/>
        </p:xfrm>
        <a:graphic>
          <a:graphicData uri="http://schemas.openxmlformats.org/drawingml/2006/table">
            <a:tbl>
              <a:tblPr/>
              <a:tblGrid>
                <a:gridCol w="2933640"/>
                <a:gridCol w="858960"/>
                <a:gridCol w="682560"/>
                <a:gridCol w="771480"/>
                <a:gridCol w="617760"/>
                <a:gridCol w="760320"/>
                <a:gridCol w="625320"/>
              </a:tblGrid>
              <a:tr h="30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tiro Program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Renta Vitalicia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ctr" pos="5047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úme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44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ayores o igual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3.0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57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3.3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Pensiones Menores a la Pensión Mínima de vejez de 65 añ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0.2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7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8.1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3.2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9.76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1.4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900000" y="6165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Qué ocurrirá en los próximos 30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751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466560" y="189000"/>
            <a:ext cx="835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Montos de las pen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79640" y="3141720"/>
            <a:ext cx="4248000" cy="2879640"/>
          </a:xfrm>
          <a:prstGeom prst="line">
            <a:avLst/>
          </a:prstGeom>
          <a:ln w="316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43640" y="5789520"/>
            <a:ext cx="201600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Quiénes s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193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5364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55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6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244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39760" y="1257480"/>
            <a:ext cx="8642160" cy="53305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5292720" y="595008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ente: Encuesta CASEN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03280" y="54000"/>
            <a:ext cx="774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Unicode MS"/>
              </a:rPr>
              <a:t>Pensiones para Mayores de 70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843280" y="1916280"/>
            <a:ext cx="5327640" cy="3870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618920" y="188280"/>
            <a:ext cx="745164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Información desagregada : densidad de cotizaciones es menor a la esperada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67" name=""/>
          <p:cNvSpPr/>
          <p:nvPr/>
        </p:nvSpPr>
        <p:spPr>
          <a:xfrm>
            <a:off x="3062520" y="1556640"/>
            <a:ext cx="49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ensidad de Cotizaciones para toda la historia labo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10960" y="5733360"/>
            <a:ext cx="521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Fuente: elaboración propia en base a Historias Previ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116000" y="2852640"/>
            <a:ext cx="3197160" cy="2502000"/>
            <a:chOff x="1116000" y="2852640"/>
            <a:chExt cx="3197160" cy="2502000"/>
          </a:xfrm>
        </p:grpSpPr>
        <p:sp>
          <p:nvSpPr>
            <p:cNvPr id="170" name=""/>
            <p:cNvSpPr/>
            <p:nvPr/>
          </p:nvSpPr>
          <p:spPr>
            <a:xfrm>
              <a:off x="3305160" y="3267000"/>
              <a:ext cx="1008000" cy="2087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391400">
              <a:off x="2772720" y="3460320"/>
              <a:ext cx="432000" cy="360360"/>
            </a:xfrm>
            <a:prstGeom prst="rightArrow">
              <a:avLst>
                <a:gd name="adj1" fmla="val 50000"/>
                <a:gd name="adj2" fmla="val 2997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116000" y="2852640"/>
              <a:ext cx="1944720" cy="133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Principalmente muje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88920" indent="-88920"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 Narrow"/>
                </a:rPr>
                <a:t>Kurtosis   1,92 (muestra: 1,5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659640" y="2060640"/>
            <a:ext cx="1297080" cy="3097080"/>
            <a:chOff x="6659640" y="2060640"/>
            <a:chExt cx="1297080" cy="3097080"/>
          </a:xfrm>
        </p:grpSpPr>
        <p:sp>
          <p:nvSpPr>
            <p:cNvPr id="174" name=""/>
            <p:cNvSpPr/>
            <p:nvPr/>
          </p:nvSpPr>
          <p:spPr>
            <a:xfrm>
              <a:off x="6659640" y="2781360"/>
              <a:ext cx="0" cy="2376360"/>
            </a:xfrm>
            <a:prstGeom prst="line">
              <a:avLst/>
            </a:prstGeom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659640" y="2060640"/>
              <a:ext cx="1297080" cy="576360"/>
            </a:xfrm>
            <a:prstGeom prst="downArrowCallout">
              <a:avLst>
                <a:gd name="adj1" fmla="val 56267"/>
                <a:gd name="adj2" fmla="val 56262"/>
                <a:gd name="adj3" fmla="val 16667"/>
                <a:gd name="adj4" fmla="val 66667"/>
              </a:avLst>
            </a:prstGeom>
            <a:noFill/>
            <a:ln w="381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4000" y="206064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 Narrow"/>
                </a:rPr>
                <a:t>+/- 33%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50920" y="1241280"/>
            <a:ext cx="8642160" cy="480852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Bas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79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83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5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scenario Alcanzable - Todos los afiliados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187" name=""/>
          <p:cNvSpPr/>
          <p:nvPr/>
        </p:nvSpPr>
        <p:spPr>
          <a:xfrm>
            <a:off x="3203640" y="6083280"/>
            <a:ext cx="649080" cy="65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76360" y="6083280"/>
            <a:ext cx="17287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recimiento Pensión Mín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76720" y="61801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292720" y="6083280"/>
            <a:ext cx="2087280" cy="647640"/>
            <a:chOff x="5292720" y="6083280"/>
            <a:chExt cx="2087280" cy="647640"/>
          </a:xfrm>
        </p:grpSpPr>
        <p:sp>
          <p:nvSpPr>
            <p:cNvPr id="191" name=""/>
            <p:cNvSpPr/>
            <p:nvPr/>
          </p:nvSpPr>
          <p:spPr>
            <a:xfrm>
              <a:off x="6659280" y="6083280"/>
              <a:ext cx="649440" cy="64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292720" y="6083280"/>
              <a:ext cx="1368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Rentabilida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732360" y="6180120"/>
              <a:ext cx="647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Narrow"/>
                </a:rPr>
                <a:t>7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0920" y="1262160"/>
            <a:ext cx="8642160" cy="4830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206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yecciones difieren por géner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rcRect l="3749" t="0" r="4349" b="0"/>
          <a:stretch/>
        </p:blipFill>
        <p:spPr>
          <a:xfrm>
            <a:off x="993600" y="1603440"/>
            <a:ext cx="4034160" cy="22143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4216" t="0" r="4240" b="0"/>
          <a:stretch/>
        </p:blipFill>
        <p:spPr>
          <a:xfrm>
            <a:off x="5154480" y="1987560"/>
            <a:ext cx="3810240" cy="36734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70036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43640" y="15318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020000" y="5445000"/>
            <a:ext cx="1944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9280" y="366480"/>
            <a:ext cx="853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Inspiración 2: estrategia de desarrollo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03280" y="1196640"/>
            <a:ext cx="7467840" cy="462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ertura comercial es principal variable explicativa individual del crecimiento chilen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ile se ha integrado al mundo de manera integral, salvo, por los flujos de trabajo que lo son menos (incluso dentro de Chile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cha integración ha sido acompañada de una significativa transferencia de riesgos hacia la ciudadanía: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rbanización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ización del trabajo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tación laboral creciente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rtidumbre sobre las pensiones por tener sistema de contribución definida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6" name=""/>
          <p:cNvSpPr/>
          <p:nvPr/>
        </p:nvSpPr>
        <p:spPr>
          <a:xfrm>
            <a:off x="5292720" y="4430880"/>
            <a:ext cx="3384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(61% a 84%, desde 195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87280" y="1341360"/>
            <a:ext cx="6985080" cy="445284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923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rcentaje creciente entre 25-50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196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560" y="1562040"/>
            <a:ext cx="74278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 calcula la tasa de reemplazo considerando una pensión promedio esperada y el salari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1: último salario observad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2: salarios de los últimos 3 años (sin considerar lagunas)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R3: todos los ingresos de la vida (incluyendo lagunas)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77080" y="5661000"/>
            <a:ext cx="22669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20680" y="4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asas de reemplazo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474920" y="1268280"/>
            <a:ext cx="7200720" cy="19227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474920" y="3284640"/>
            <a:ext cx="7200720" cy="1176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1474920" y="4599000"/>
            <a:ext cx="7200720" cy="1494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03280" y="1628640"/>
            <a:ext cx="7272360" cy="36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132000" y="3357720"/>
            <a:ext cx="1873440" cy="93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rcRect l="12155" t="0" r="12155" b="0"/>
          <a:stretch/>
        </p:blipFill>
        <p:spPr>
          <a:xfrm>
            <a:off x="655560" y="1392120"/>
            <a:ext cx="7777080" cy="53946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rcRect l="12392" t="0" r="12405" b="0"/>
          <a:stretch/>
        </p:blipFill>
        <p:spPr>
          <a:xfrm>
            <a:off x="695160" y="1366920"/>
            <a:ext cx="7728120" cy="5395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920" y="4392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omb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12405" t="0" r="12392" b="0"/>
          <a:stretch/>
        </p:blipFill>
        <p:spPr>
          <a:xfrm>
            <a:off x="611280" y="1268280"/>
            <a:ext cx="7848360" cy="5480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4920" y="44280"/>
            <a:ext cx="9036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ujeres que </a:t>
            </a:r>
            <a:r>
              <a:rPr b="0" lang="en-US" sz="3200" spc="-1" strike="noStrike">
                <a:solidFill>
                  <a:srgbClr val="ff3300"/>
                </a:solidFill>
                <a:latin typeface="Arial Unicode MS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cumplen el requisito para obtener Pensión Mín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rcRect l="25408" t="39603" r="23409" b="16435"/>
          <a:stretch/>
        </p:blipFill>
        <p:spPr>
          <a:xfrm>
            <a:off x="566640" y="1268280"/>
            <a:ext cx="7991640" cy="548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1116000" y="1792440"/>
            <a:ext cx="7792560" cy="5020920"/>
            <a:chOff x="1116000" y="1792440"/>
            <a:chExt cx="7792560" cy="5020920"/>
          </a:xfrm>
        </p:grpSpPr>
        <p:graphicFrame>
          <p:nvGraphicFramePr>
            <p:cNvPr id="220" name=""/>
            <p:cNvGraphicFramePr/>
            <p:nvPr/>
          </p:nvGraphicFramePr>
          <p:xfrm>
            <a:off x="4308120" y="1792440"/>
            <a:ext cx="4203360" cy="1776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8120" y="1792440"/>
                      <a:ext cx="4203360" cy="17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2" name=""/>
            <p:cNvSpPr/>
            <p:nvPr/>
          </p:nvSpPr>
          <p:spPr>
            <a:xfrm>
              <a:off x="1116000" y="2143080"/>
              <a:ext cx="3470040" cy="19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La mitad de los cotizantes no saben bien  cuanto aportan mensualmente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118880" y="38088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Prácticamente nadie sabe bien cuanto le paga a su AFP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4" name=""/>
            <p:cNvGraphicFramePr/>
            <p:nvPr/>
          </p:nvGraphicFramePr>
          <p:xfrm>
            <a:off x="4016160" y="3166200"/>
            <a:ext cx="4892400" cy="3051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22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016160" y="3166200"/>
                      <a:ext cx="4892400" cy="305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6" name=""/>
            <p:cNvSpPr/>
            <p:nvPr/>
          </p:nvSpPr>
          <p:spPr>
            <a:xfrm>
              <a:off x="1471320" y="358560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7" name=""/>
            <p:cNvGraphicFramePr/>
            <p:nvPr/>
          </p:nvGraphicFramePr>
          <p:xfrm>
            <a:off x="4073400" y="5177880"/>
            <a:ext cx="4716000" cy="16354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073400" y="5177880"/>
                      <a:ext cx="4716000" cy="163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9" name=""/>
            <p:cNvSpPr/>
            <p:nvPr/>
          </p:nvSpPr>
          <p:spPr>
            <a:xfrm>
              <a:off x="1501560" y="5186160"/>
              <a:ext cx="649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116000" y="5234400"/>
              <a:ext cx="3101760" cy="13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 Unicode MS"/>
                </a:rPr>
                <a:t>Menos de la mitad sabe cuanto tiene acumulado en su fondo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 Unicode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1387440" y="160200"/>
            <a:ext cx="768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Característica de la demanda: desconocimiento, indiferencia e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979640" y="258480"/>
            <a:ext cx="712944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Imprevisión!!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33" name=""/>
          <p:cNvSpPr/>
          <p:nvPr/>
        </p:nvSpPr>
        <p:spPr>
          <a:xfrm>
            <a:off x="7536960" y="5873760"/>
            <a:ext cx="132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ntique Olive"/>
              </a:rPr>
              <a:t>Fuente: HL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61800" y="1442880"/>
            <a:ext cx="8420400" cy="3972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357120" y="1452600"/>
            <a:ext cx="8429760" cy="39528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52440" y="1447920"/>
            <a:ext cx="8439120" cy="39621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987640" y="5267160"/>
            <a:ext cx="432000" cy="192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19640" y="5241960"/>
            <a:ext cx="316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ntique Olive"/>
              </a:rPr>
              <a:t>Expectativa de vida según tablas de 1985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 Unicode MS"/>
              </a:rPr>
              <a:t>1. Mercado del Trabajo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Desapareció empleo de por vid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&gt; rotación, desempleo  + frecu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Factores del Mercado del trabajo afectan de manera no homogéne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la empleabilidad difiere por educación, ingreso, contactos familiares…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Los trabajadores más pobres están más expuestos a estas incertidumb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+ trabajadores por cuenta propia: </a:t>
            </a: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requieren ahorros líquidos en caso de necesidad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7020000" y="5589720"/>
            <a:ext cx="194472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3=1+2 : Consecuencias </a:t>
            </a:r>
            <a:r>
              <a:rPr b="1" lang="es-CL" sz="2800" spc="-1" strike="noStrike">
                <a:solidFill>
                  <a:srgbClr val="b28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59" name=""/>
          <p:cNvSpPr/>
          <p:nvPr/>
        </p:nvSpPr>
        <p:spPr>
          <a:xfrm>
            <a:off x="1546200" y="1341360"/>
            <a:ext cx="7129440" cy="2043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Chile quiere ser competitivo, tenemos que buscar formas inteligentes y generosas de mitigar estos ries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478240" y="3573360"/>
            <a:ext cx="5549760" cy="132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Hay que compatibiliz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Protección social e incen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47640" y="5114880"/>
            <a:ext cx="7056720" cy="10688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olver bien este problema es CRUCIAL para el desarrollo del paí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692360" y="194760"/>
            <a:ext cx="698328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86421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692000" y="280080"/>
            <a:ext cx="6994440" cy="113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 Unicode MS"/>
              </a:rPr>
              <a:t>Problemas exógenos: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Mercado del Trabajo</a:t>
            </a:r>
            <a:endParaRPr b="0" lang="en-US" sz="32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5184720" cy="424944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5219640" y="1413000"/>
            <a:ext cx="3924360" cy="45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gano natural de muchos trabajadores a cot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9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Proliferación de un mercado formal de trabajadores independientes: requieren de ahorros líquidos mientras que los ahorro de pensión son extremadamente líquid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24000" y="5734080"/>
            <a:ext cx="3456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→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rtalecer Seguro de Cesant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0" y="5734080"/>
            <a:ext cx="4248000" cy="722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→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 obligar, incita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educir costos de transa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05440" cy="394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2. Mujeres, un caso especial: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Comienzan a trabajar más tarde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Tienen más lagunas,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Ganan menos para igual calificación, (20%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Se retiran antes (edad legal de jubilación 60 años vs. 65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 Unicode MS"/>
              </a:rPr>
              <a:t>Viven más (87 vs 82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4716360" y="1773360"/>
            <a:ext cx="4248360" cy="3024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187280" y="5157720"/>
            <a:ext cx="7056720" cy="1618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Chile tiene baja tasa de participación femenina. Para que su aumento no sea un “infierno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Reevaluación del rol masculino en el hogar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Ayuda a la mujer trabajador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Flexibilidad de contratos, etc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92000" y="-24120"/>
            <a:ext cx="699444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xógenos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4032000" cy="35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ados los ahorros, hay que financiar más años de vid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secuencia: pensiones menor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ontradicciones: la gente vive más…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ero se retira 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Y se siente mejor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284720" y="1700280"/>
          <a:ext cx="4859280" cy="47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4720" y="1700280"/>
                    <a:ext cx="485928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144360" y="5516640"/>
            <a:ext cx="4211640" cy="126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ndiciones laborales en la edad mad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dad legal de jubil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4880" y="148284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 Narrow"/>
              </a:rPr>
              <a:t>3. Mayores expectativas de v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969920" y="115560"/>
            <a:ext cx="699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6680" y="1484280"/>
            <a:ext cx="433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 Narrow"/>
              </a:rPr>
              <a:t>1. Competencia y concen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395280" y="2205000"/>
          <a:ext cx="8064360" cy="404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2205000"/>
                    <a:ext cx="8064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893080" cy="40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Arial Unicode MS"/>
              </a:rPr>
              <a:t>Dos problemas de diseño en competencia y concentración: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Inelasticidad de la demand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explicada por carácter obligatorio del bien previsional. El mercado de pensiones es artificial, no hay una demanda espontánea (masiva). Por eso, la gente no presta atención a variables relevantes (rentabilidad, precio, riesgo), en particular cuando son jóvene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000000"/>
                </a:solidFill>
                <a:uFillTx/>
                <a:latin typeface="Arial Unicode MS"/>
              </a:rPr>
              <a:t>Economías de escala</a:t>
            </a: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: típico en el sector financiero, pero aquí exagerado por la necesidad del giro único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63" name=""/>
          <p:cNvSpPr/>
          <p:nvPr/>
        </p:nvSpPr>
        <p:spPr>
          <a:xfrm>
            <a:off x="1042920" y="5424480"/>
            <a:ext cx="7416720" cy="1448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regar demanda vía licitacion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car economías de esca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37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formar a los afil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49560" y="13320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835280" y="3357720"/>
            <a:ext cx="2952720" cy="18000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35280" y="184464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835280" y="5157720"/>
            <a:ext cx="56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940360" y="5300640"/>
            <a:ext cx="187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ntaje 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067280" y="522936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í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835280" y="335772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88000" y="335772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26920" y="32130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3357720"/>
            <a:ext cx="180000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2560" y="18864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recho Universal a Pensión Básic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6" name=""/>
          <p:cNvSpPr/>
          <p:nvPr/>
        </p:nvSpPr>
        <p:spPr>
          <a:xfrm>
            <a:off x="4788000" y="3357720"/>
            <a:ext cx="1800000" cy="1800000"/>
          </a:xfrm>
          <a:prstGeom prst="rtTriangl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 flipV="1">
            <a:off x="4859280" y="3284640"/>
            <a:ext cx="0" cy="141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476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ensión Mínima Gradua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279" name=""/>
          <p:cNvSpPr/>
          <p:nvPr/>
        </p:nvSpPr>
        <p:spPr>
          <a:xfrm>
            <a:off x="576360" y="320688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76360" y="4006800"/>
            <a:ext cx="198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898640" y="1700280"/>
            <a:ext cx="0" cy="30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898640" y="4716360"/>
            <a:ext cx="628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6912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ños cotiz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63960" y="4890960"/>
            <a:ext cx="19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1898280" y="3297240"/>
            <a:ext cx="3057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898640" y="4183200"/>
            <a:ext cx="61959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871880" y="3297240"/>
            <a:ext cx="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1908000" y="3284280"/>
            <a:ext cx="6132600" cy="1440000"/>
            <a:chOff x="1908000" y="3284280"/>
            <a:chExt cx="6132600" cy="1440000"/>
          </a:xfrm>
        </p:grpSpPr>
        <p:grpSp>
          <p:nvGrpSpPr>
            <p:cNvPr id="289" name=""/>
            <p:cNvGrpSpPr/>
            <p:nvPr/>
          </p:nvGrpSpPr>
          <p:grpSpPr>
            <a:xfrm>
              <a:off x="1908000" y="3284280"/>
              <a:ext cx="2963880" cy="1440000"/>
              <a:chOff x="1908000" y="3284280"/>
              <a:chExt cx="2963880" cy="1440000"/>
            </a:xfrm>
          </p:grpSpPr>
          <p:sp>
            <p:nvSpPr>
              <p:cNvPr id="290" name=""/>
              <p:cNvSpPr/>
              <p:nvPr/>
            </p:nvSpPr>
            <p:spPr>
              <a:xfrm>
                <a:off x="1908000" y="4724280"/>
                <a:ext cx="2951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71880" y="3284280"/>
                <a:ext cx="0" cy="143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48718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576360" y="3284640"/>
            <a:ext cx="7451640" cy="1873080"/>
            <a:chOff x="576360" y="3284640"/>
            <a:chExt cx="7451640" cy="1873080"/>
          </a:xfrm>
        </p:grpSpPr>
        <p:grpSp>
          <p:nvGrpSpPr>
            <p:cNvPr id="294" name=""/>
            <p:cNvGrpSpPr/>
            <p:nvPr/>
          </p:nvGrpSpPr>
          <p:grpSpPr>
            <a:xfrm>
              <a:off x="576360" y="3285720"/>
              <a:ext cx="4295520" cy="1872000"/>
              <a:chOff x="576360" y="3285720"/>
              <a:chExt cx="4295520" cy="187200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576360" y="3285720"/>
                <a:ext cx="4295520" cy="1872000"/>
                <a:chOff x="576360" y="3285720"/>
                <a:chExt cx="4295520" cy="187200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576360" y="38350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0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394000" y="4881240"/>
                  <a:ext cx="19828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 flipV="1">
                  <a:off x="3384720" y="3996720"/>
                  <a:ext cx="0" cy="709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 flipH="1">
                  <a:off x="1898640" y="3997080"/>
                  <a:ext cx="1486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384720" y="399708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flipV="1">
                  <a:off x="4129200" y="364140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4129200" y="3643200"/>
                  <a:ext cx="742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4871880" y="3285720"/>
                  <a:ext cx="0" cy="355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4" name=""/>
              <p:cNvSpPr/>
              <p:nvPr/>
            </p:nvSpPr>
            <p:spPr>
              <a:xfrm>
                <a:off x="1908000" y="4724280"/>
                <a:ext cx="144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4859280" y="3284640"/>
              <a:ext cx="316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"/>
          <p:cNvSpPr/>
          <p:nvPr/>
        </p:nvSpPr>
        <p:spPr>
          <a:xfrm>
            <a:off x="3924360" y="3500280"/>
            <a:ext cx="431640" cy="72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539640" y="2492280"/>
            <a:ext cx="7524720" cy="2667240"/>
            <a:chOff x="539640" y="2492280"/>
            <a:chExt cx="7524720" cy="2667240"/>
          </a:xfrm>
        </p:grpSpPr>
        <p:grpSp>
          <p:nvGrpSpPr>
            <p:cNvPr id="308" name=""/>
            <p:cNvGrpSpPr/>
            <p:nvPr/>
          </p:nvGrpSpPr>
          <p:grpSpPr>
            <a:xfrm>
              <a:off x="539640" y="2492280"/>
              <a:ext cx="7380360" cy="2667240"/>
              <a:chOff x="539640" y="2492280"/>
              <a:chExt cx="7380360" cy="2667240"/>
            </a:xfrm>
          </p:grpSpPr>
          <p:grpSp>
            <p:nvGrpSpPr>
              <p:cNvPr id="309" name=""/>
              <p:cNvGrpSpPr/>
              <p:nvPr/>
            </p:nvGrpSpPr>
            <p:grpSpPr>
              <a:xfrm>
                <a:off x="539640" y="2492280"/>
                <a:ext cx="6775200" cy="2667240"/>
                <a:chOff x="539640" y="2492280"/>
                <a:chExt cx="6775200" cy="26672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4836960" y="3289320"/>
                  <a:ext cx="7430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5580000" y="2933640"/>
                  <a:ext cx="0" cy="35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580000" y="2935440"/>
                  <a:ext cx="744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6324480" y="2579400"/>
                  <a:ext cx="0" cy="2128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5332320" y="488304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H="1">
                  <a:off x="1861920" y="2581200"/>
                  <a:ext cx="4462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640" y="2492280"/>
                  <a:ext cx="19825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PM(2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7" name=""/>
              <p:cNvSpPr/>
              <p:nvPr/>
            </p:nvSpPr>
            <p:spPr>
              <a:xfrm flipV="1">
                <a:off x="6324480" y="2579760"/>
                <a:ext cx="0" cy="35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335640" y="2557440"/>
                <a:ext cx="1584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614920" y="3133800"/>
              <a:ext cx="2449440" cy="28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Mujeres e Independiente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258560" y="1052280"/>
            <a:ext cx="746748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jeres: los instrumentos anteriores solo marginalmente corrigen los problemas de género. Estos deberán ser tratados separadamente.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ños de GEPM por hijo nacid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ault option” en la declaración de impuestos.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4076640"/>
            <a:ext cx="802800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ción de protección con incentivos a cotizar necesitará recursos públ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16000" y="5013360"/>
            <a:ext cx="8028000" cy="13816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 totalmente inviable promover la cot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 disminuir barreras a la entrada y un ambiente de mayor compet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71280" y="144000"/>
            <a:ext cx="7993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¿Buena competencia, es posible?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1393920"/>
            <a:ext cx="4427640" cy="333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333399"/>
                </a:solidFill>
                <a:uFillTx/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Giro único garantizado por ley: No se pueden aprovechar eventuales economías de ámbito complet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Importantes economías de escala: No se pueden aprovechar completamente si no se subcontratan funciones o la industria se concentra fuerte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48040" y="1413000"/>
            <a:ext cx="4395960" cy="3311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 u="sng">
                <a:solidFill>
                  <a:srgbClr val="ffffff"/>
                </a:solidFill>
                <a:uFillTx/>
                <a:latin typeface="Arial"/>
              </a:rPr>
              <a:t>DEMAN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bligación de consumi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Producto de difícil comprensión para la gran mayoría de los afili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ndiferencia por producto, induce poca demanda espontánea por información. Deficiente calidad de é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340000" y="4724280"/>
            <a:ext cx="4406760" cy="119124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Barrera a la entrada: masa crítica mínima difícil de obtener por demanda cautiva (alto costo, ventaja de incumbe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97200" y="43920"/>
            <a:ext cx="713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General aspects of the Chilean pension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2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Unicode MS"/>
              </a:rPr>
              <a:t>Multipillar system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1: Old age poverty preventio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ontributory Minimum pension State-guaranteed (20 yr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Non contributory means tested basic pension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2: Consumption smoothing, mandato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Arial Unicode MS"/>
                <a:hlinkClick r:id="rId1" action="ppaction://hlinksldjump"/>
              </a:rPr>
              <a:t>AFP</a:t>
            </a: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  (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CSV (desacumulación)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Unicode MS"/>
              </a:rPr>
              <a:t>Pillar 3: Consumption smoothing, voluntary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AFP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Life Insurance Companies (LIC)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Unicode MS"/>
              </a:rPr>
              <a:t>Mutual Funds, broker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29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demand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36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340000" y="2637000"/>
            <a:ext cx="4176720" cy="2087280"/>
          </a:xfrm>
          <a:custGeom>
            <a:avLst/>
            <a:gdLst/>
            <a:ahLst/>
            <a:rect l="l" t="t" r="r" b="b"/>
            <a:pathLst>
              <a:path w="2594" h="1383">
                <a:moveTo>
                  <a:pt x="99" y="0"/>
                </a:moveTo>
                <a:cubicBezTo>
                  <a:pt x="49" y="487"/>
                  <a:pt x="0" y="975"/>
                  <a:pt x="416" y="1179"/>
                </a:cubicBezTo>
                <a:cubicBezTo>
                  <a:pt x="832" y="1383"/>
                  <a:pt x="2239" y="1217"/>
                  <a:pt x="2594" y="122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67280" y="2060640"/>
            <a:ext cx="431640" cy="316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1557360"/>
            <a:ext cx="33112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arle elasticidad a la deman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jorar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citación (clientes margi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9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00000" y="448560"/>
            <a:ext cx="8244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Gráfico simple ofert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45" name=""/>
          <p:cNvSpPr/>
          <p:nvPr/>
        </p:nvSpPr>
        <p:spPr>
          <a:xfrm>
            <a:off x="2268360" y="1773360"/>
            <a:ext cx="0" cy="35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268360" y="5300640"/>
            <a:ext cx="518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56000" y="2205000"/>
            <a:ext cx="5160960" cy="2244600"/>
          </a:xfrm>
          <a:custGeom>
            <a:avLst/>
            <a:gdLst/>
            <a:ahLst/>
            <a:rect l="l" t="t" r="r" b="b"/>
            <a:pathLst>
              <a:path w="3251" h="1414">
                <a:moveTo>
                  <a:pt x="0" y="0"/>
                </a:moveTo>
                <a:cubicBezTo>
                  <a:pt x="193" y="408"/>
                  <a:pt x="386" y="816"/>
                  <a:pt x="862" y="1043"/>
                </a:cubicBezTo>
                <a:cubicBezTo>
                  <a:pt x="1338" y="1270"/>
                  <a:pt x="2465" y="1308"/>
                  <a:pt x="2858" y="1361"/>
                </a:cubicBezTo>
                <a:cubicBezTo>
                  <a:pt x="3251" y="1414"/>
                  <a:pt x="3235" y="1387"/>
                  <a:pt x="3220" y="136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08720" y="4149720"/>
            <a:ext cx="79236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87640" y="2060640"/>
            <a:ext cx="2158920" cy="309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08720" y="1268280"/>
            <a:ext cx="331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ara disminuir escal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Narrow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ubcontratación de servicios ¿cuál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076720" y="2565360"/>
            <a:ext cx="3816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os que determine un esquema flexible y con fuerte presión de pre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316240" y="2492280"/>
            <a:ext cx="4992480" cy="2065320"/>
          </a:xfrm>
          <a:custGeom>
            <a:avLst/>
            <a:gdLst/>
            <a:ahLst/>
            <a:rect l="l" t="t" r="r" b="b"/>
            <a:pathLst>
              <a:path w="3145" h="1301">
                <a:moveTo>
                  <a:pt x="60" y="0"/>
                </a:moveTo>
                <a:cubicBezTo>
                  <a:pt x="30" y="438"/>
                  <a:pt x="0" y="877"/>
                  <a:pt x="514" y="1089"/>
                </a:cubicBezTo>
                <a:cubicBezTo>
                  <a:pt x="1028" y="1301"/>
                  <a:pt x="2707" y="1240"/>
                  <a:pt x="3145" y="127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5592600"/>
            <a:ext cx="7885080" cy="10159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: (a) regulación de precios de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) Licitación de sus servicios a escala sistémica (S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"/>
                            </p:stCondLst>
                            <p:childTnLst>
                              <p:par>
                                <p:cTn id="228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9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300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6732720" y="5589720"/>
            <a:ext cx="241128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La Licitación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042560" y="1481040"/>
            <a:ext cx="8101080" cy="47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canismo 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pcional para AFP incumbentes y entrante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 discriminatorio y voluntario para todos los afiliados antigu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chas formas de inscripción, Internet, adscripción por default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nor “precio licitado” gan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centivo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trante: llegar más rápido al break even point, ahora más cercano (principal barrera a la entrad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filiado: descuento por permanencia (c/condiciones de salida) realizado por adelantado (rebate) en un pago en efectiv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sguardo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bate no puede ser muy bajo porque el costo de salida del afiliado es proporcional al rebat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áusula de arrastre: descuento máximo, más allá del cual se gatilla beneficio a todos los afiliado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ecio licitado” fijo para la AFP por todo el período de licitación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00000" y="366480"/>
            <a:ext cx="82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Arial"/>
              </a:rPr>
              <a:t>Más medidas pro competencia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332000" y="1801440"/>
            <a:ext cx="7696080" cy="34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iminación comisión fija: transparencia, simplici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ganancia en la demanda superior a distorsión en la oferta)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icitación global del Seguro de Invalidez y Sobrevivencia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transparencia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ecesariamente menor preci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ás incentivo a cubrir personas de bajo ingreso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duación temporal de requisito de Encaje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4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mpliación temporal de banda de rentabilidad mínima y máxima para entrantes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Bancos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0" name=""/>
          <p:cNvSpPr/>
          <p:nvPr/>
        </p:nvSpPr>
        <p:spPr>
          <a:xfrm>
            <a:off x="468360" y="1616040"/>
            <a:ext cx="8136000" cy="4578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no se prevé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92000" y="250560"/>
            <a:ext cx="6994440" cy="1190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Unicode MS"/>
              </a:rPr>
              <a:t>AFP Estatal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2" name=""/>
          <p:cNvSpPr/>
          <p:nvPr/>
        </p:nvSpPr>
        <p:spPr>
          <a:xfrm>
            <a:off x="468360" y="1616040"/>
            <a:ext cx="8064360" cy="52599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Licuación de fondos: ventas at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nflictos de interé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manejo de fondos propios, administración fondos de terc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políticas del gobier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Riesgo sistémico: buy-sell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mpetencia: ingreso probable, qué pasa desp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ff"/>
                </a:solidFill>
                <a:latin typeface="Arial Unicode MS"/>
              </a:rPr>
              <a:t>Cobertura: seguridad que da el Estado, pero eso no cambia iliquidez del ahorro previsional, ni el 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68360" y="1413000"/>
            <a:ext cx="8207280" cy="41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 Unicode MS"/>
              </a:rPr>
              <a:t>2. Regulación a las inversiones compleja y poco flexible</a:t>
            </a:r>
            <a:endParaRPr b="0" lang="en-US" sz="26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1% de mayor rentabilidad en toda la vida significa más de 20% de mayor pensión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structura de límites compleja (94 x fondo), induce cierta delegación de responsabilidad en la autoridad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i se hubiera permitido optimizar en cada minuto, el fondo global sería más de 10% superior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No existe metodología común de medición de riesgo y no conocemos el riesgo de las pensione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4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187280" y="5661000"/>
            <a:ext cx="69138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izar el proceso de inversión de los Fon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394920" y="1700280"/>
            <a:ext cx="8280360" cy="28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 Unicode MS"/>
              </a:rPr>
              <a:t>3. Generar un primer pilar inteligente 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GPM a 20 años no es incitativa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Topping-up implica un gran impuesto a las contribuciones marginales una vez que se cumplió el requisito de 20 años.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Unicode MS"/>
              </a:rPr>
              <a:t>40-50% de la gente no alcanzaría a tener acceso a GPM (algunos nunca habrían tenido)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67" name=""/>
          <p:cNvSpPr/>
          <p:nvPr/>
        </p:nvSpPr>
        <p:spPr>
          <a:xfrm>
            <a:off x="1979640" y="188640"/>
            <a:ext cx="699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Problemas endógenos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 Unicode MS"/>
              </a:rPr>
              <a:t>del sistema de pension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2000" y="4941720"/>
            <a:ext cx="676908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Graduación de P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¿Pensión básica univers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960480" y="3800520"/>
            <a:ext cx="7200720" cy="29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uillermo Larrain Rios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uperintendente de AFP</a:t>
            </a: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sentación para el Magíster en Políticas Públicas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antiago, 15 de noviembre de 2005</a:t>
            </a:r>
            <a:endParaRPr b="0" lang="en-US" sz="18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370" name=""/>
          <p:cNvSpPr/>
          <p:nvPr/>
        </p:nvSpPr>
        <p:spPr>
          <a:xfrm>
            <a:off x="1187280" y="2183760"/>
            <a:ext cx="6840720" cy="1312920"/>
          </a:xfrm>
          <a:prstGeom prst="rect">
            <a:avLst/>
          </a:prstGeom>
          <a:solidFill>
            <a:srgbClr val="333399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 Unicode MS"/>
              </a:rPr>
              <a:t>Reflexiones sobre el Sistema Previsional Chil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19280" y="20520"/>
            <a:ext cx="7489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 Unicode MS"/>
              </a:rPr>
              <a:t>La reforma de pensiones ha sido un éxito financiero indudab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504800"/>
            <a:ext cx="396072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Retorno promedio en activos : 10,2% re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7920" y="1504800"/>
            <a:ext cx="44402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ctivos alcanzan a USD 69 mil mill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0" y="2185920"/>
          <a:ext cx="45720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185920"/>
                    <a:ext cx="45720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0" y="2276640"/>
          <a:ext cx="4572000" cy="4176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2276640"/>
                    <a:ext cx="4572000" cy="41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896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 Unicode MS"/>
              </a:rPr>
              <a:t>Modelo Corbo/Schmidt-Hebbel</a:t>
            </a:r>
            <a:endParaRPr b="0" lang="en-US" sz="20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72" name=""/>
          <p:cNvSpPr/>
          <p:nvPr/>
        </p:nvSpPr>
        <p:spPr>
          <a:xfrm>
            <a:off x="271440" y="365184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forma de pen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28840" y="2379960"/>
            <a:ext cx="1752480" cy="703800"/>
          </a:xfrm>
          <a:prstGeom prst="flowChartProcess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Mercado del Tra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3240" y="3980160"/>
            <a:ext cx="182880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arrollo financi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3240" y="5093280"/>
            <a:ext cx="1219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Aho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843440" y="5093280"/>
            <a:ext cx="16765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Inver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29240" y="4178880"/>
            <a:ext cx="914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86240" y="2913480"/>
            <a:ext cx="1676520" cy="70380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mple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09920" y="2045160"/>
            <a:ext cx="236232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ormaliz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6360" y="5062680"/>
            <a:ext cx="2133360" cy="100872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Financiamiento público de la tran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00840" y="3416760"/>
            <a:ext cx="2057400" cy="398880"/>
          </a:xfrm>
          <a:prstGeom prst="rect">
            <a:avLst/>
          </a:prstGeom>
          <a:solidFill>
            <a:srgbClr val="00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72" idx="3"/>
            <a:endCxn id="75" idx="1"/>
          </p:cNvCxnSpPr>
          <p:nvPr/>
        </p:nvCxnSpPr>
        <p:spPr>
          <a:xfrm>
            <a:off x="2023560" y="4003200"/>
            <a:ext cx="1220040" cy="1289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>
            <a:stCxn id="73" idx="3"/>
            <a:endCxn id="79" idx="1"/>
          </p:cNvCxnSpPr>
          <p:nvPr/>
        </p:nvCxnSpPr>
        <p:spPr>
          <a:xfrm flipV="1">
            <a:off x="4080960" y="2244240"/>
            <a:ext cx="229320" cy="488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stCxn id="73" idx="3"/>
            <a:endCxn id="78" idx="1"/>
          </p:cNvCxnSpPr>
          <p:nvPr/>
        </p:nvCxnSpPr>
        <p:spPr>
          <a:xfrm>
            <a:off x="4080960" y="2732040"/>
            <a:ext cx="305640" cy="5342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4" idx="3"/>
            <a:endCxn id="77" idx="1"/>
          </p:cNvCxnSpPr>
          <p:nvPr/>
        </p:nvCxnSpPr>
        <p:spPr>
          <a:xfrm>
            <a:off x="5072040" y="4332240"/>
            <a:ext cx="457920" cy="468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5" idx="3"/>
            <a:endCxn id="76" idx="1"/>
          </p:cNvCxnSpPr>
          <p:nvPr/>
        </p:nvCxnSpPr>
        <p:spPr>
          <a:xfrm>
            <a:off x="4462560" y="5292360"/>
            <a:ext cx="3816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9" idx="3"/>
            <a:endCxn id="81" idx="1"/>
          </p:cNvCxnSpPr>
          <p:nvPr/>
        </p:nvCxnSpPr>
        <p:spPr>
          <a:xfrm>
            <a:off x="6671880" y="2244600"/>
            <a:ext cx="229320" cy="137232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78" idx="3"/>
            <a:endCxn id="81" idx="1"/>
          </p:cNvCxnSpPr>
          <p:nvPr/>
        </p:nvCxnSpPr>
        <p:spPr>
          <a:xfrm>
            <a:off x="6062760" y="3265560"/>
            <a:ext cx="838800" cy="3513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7" idx="3"/>
            <a:endCxn id="81" idx="1"/>
          </p:cNvCxnSpPr>
          <p:nvPr/>
        </p:nvCxnSpPr>
        <p:spPr>
          <a:xfrm flipV="1">
            <a:off x="6443640" y="3615480"/>
            <a:ext cx="45792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6" idx="3"/>
            <a:endCxn id="81" idx="1"/>
          </p:cNvCxnSpPr>
          <p:nvPr/>
        </p:nvCxnSpPr>
        <p:spPr>
          <a:xfrm flipV="1">
            <a:off x="6519960" y="3615480"/>
            <a:ext cx="381600" cy="1677240"/>
          </a:xfrm>
          <a:prstGeom prst="straightConnector1">
            <a:avLst/>
          </a:prstGeom>
          <a:ln w="38160">
            <a:solidFill>
              <a:srgbClr val="000000"/>
            </a:solidFill>
            <a:miter/>
          </a:ln>
        </p:spPr>
      </p:cxnSp>
      <p:cxnSp>
        <p:nvCxnSpPr>
          <p:cNvPr id="91" name=""/>
          <p:cNvCxnSpPr>
            <a:stCxn id="72" idx="3"/>
            <a:endCxn id="74" idx="1"/>
          </p:cNvCxnSpPr>
          <p:nvPr/>
        </p:nvCxnSpPr>
        <p:spPr>
          <a:xfrm>
            <a:off x="2023560" y="4003200"/>
            <a:ext cx="1220040" cy="329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2" idx="3"/>
            <a:endCxn id="73" idx="1"/>
          </p:cNvCxnSpPr>
          <p:nvPr/>
        </p:nvCxnSpPr>
        <p:spPr>
          <a:xfrm flipV="1">
            <a:off x="2023560" y="2732040"/>
            <a:ext cx="305640" cy="12718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0" idx="3"/>
            <a:endCxn id="75" idx="1"/>
          </p:cNvCxnSpPr>
          <p:nvPr/>
        </p:nvCxnSpPr>
        <p:spPr>
          <a:xfrm flipV="1">
            <a:off x="2709720" y="5292000"/>
            <a:ext cx="534240" cy="2754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  <p:sp>
        <p:nvSpPr>
          <p:cNvPr id="95" name=""/>
          <p:cNvSpPr/>
          <p:nvPr/>
        </p:nvSpPr>
        <p:spPr>
          <a:xfrm>
            <a:off x="3054240" y="4913280"/>
            <a:ext cx="3686400" cy="79236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54240" y="3900600"/>
            <a:ext cx="3686400" cy="887400"/>
          </a:xfrm>
          <a:prstGeom prst="rect">
            <a:avLst/>
          </a:prstGeom>
          <a:noFill/>
          <a:ln w="316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39000" y="4535640"/>
            <a:ext cx="177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6600"/>
                </a:solidFill>
                <a:latin typeface="Arial"/>
              </a:rPr>
              <a:t>Fijarse en las causalida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82520" y="2138400"/>
          <a:ext cx="2855880" cy="354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138400"/>
                    <a:ext cx="2855880" cy="354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3263760" y="1646280"/>
          <a:ext cx="5880240" cy="439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3760" y="1646280"/>
                    <a:ext cx="588024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231840" y="5977080"/>
            <a:ext cx="489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uente: Corbo y Schmidt-Hebbel (20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8000" y="-228960"/>
            <a:ext cx="7164720" cy="173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 Unicode MS"/>
              </a:rPr>
              <a:t>La reforma de pensiones ha tenido importantes efectos macro</a:t>
            </a:r>
            <a:endParaRPr b="0" lang="en-US" sz="3600" spc="-1" strike="noStrike">
              <a:solidFill>
                <a:srgbClr val="000000"/>
              </a:solidFill>
              <a:latin typeface="Arial Unicode MS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35280" y="20520"/>
            <a:ext cx="7308720" cy="119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 Unicode MS"/>
              </a:rPr>
              <a:t>Diversificación de activos: todos los instrumentos</a:t>
            </a:r>
            <a:endParaRPr b="0" lang="en-US" sz="2800" spc="-1" strike="noStrike">
              <a:solidFill>
                <a:srgbClr val="000000"/>
              </a:solidFill>
              <a:latin typeface="Arial Unicode MS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0" y="1187280"/>
          <a:ext cx="9144000" cy="5670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87280"/>
                    <a:ext cx="9144000" cy="567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0T19:24:17Z</dcterms:created>
  <dc:creator>safp</dc:creator>
  <dc:description/>
  <dc:language>en-US</dc:language>
  <cp:lastModifiedBy>safp</cp:lastModifiedBy>
  <dcterms:modified xsi:type="dcterms:W3CDTF">2005-11-14T21:44:16Z</dcterms:modified>
  <cp:revision>113</cp:revision>
  <dc:subject/>
  <dc:title>Cobertura, densidad y pensiones en Chile:  Proyecciones a 30 años plazo</dc:title>
</cp:coreProperties>
</file>