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png" ContentType="image/png"/>
  <Override PartName="/ppt/media/image31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5EB-0C44-4854-84AF-AF3663B0D3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257-66EB-470D-98C9-0173A882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796-9CF0-4C0C-BF24-9D14D2B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708-7271-46D2-9F9A-578CA354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942-1DA5-40E1-A6CA-9F30978D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61E-D6D7-4E22-ACF0-8C2AFE0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F67-C5D0-47C1-8157-348583C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767-624A-4F0E-BFE4-3926674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751-3824-49A2-976E-765D699F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755-48AF-45A2-A429-6455F263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DA6-B83A-4582-BAFC-AE86B6E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3B1-9AAA-4E4D-9D16-DCCB373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BB6-0C36-4503-BFC7-5E5409A7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158-4FAC-4814-9DCA-7DF1A3C16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35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1: contexto históric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erencia: en países desarrollados, los esquemas de seguridad social de origen bismarckiano 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tregan beneficios y cobertura a amplios sectores de la población, per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financieramente en serios apuros por los excesivos beneficios que entregaban en un contexto de baja capacidad “endógena” de modificar las prestaciones a la nueva realidad demográfica y económic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chos beneficios además no entregaban adecuados incentivos para que las personas contribuyan y, en algunos casos, hagan uso racional de las prestacion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70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74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3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91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0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yecciones difieren por gén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749" t="0" r="4349" b="0"/>
          <a:stretch/>
        </p:blipFill>
        <p:spPr>
          <a:xfrm>
            <a:off x="993600" y="1603440"/>
            <a:ext cx="4034160" cy="2214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4216" t="0" r="4240" b="0"/>
          <a:stretch/>
        </p:blipFill>
        <p:spPr>
          <a:xfrm>
            <a:off x="5154480" y="1987560"/>
            <a:ext cx="3810240" cy="3673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0036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20000" y="5445000"/>
            <a:ext cx="1944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36648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2: estrategia de desarroll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7467840" cy="46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ertura comercial es principal variable explicativa individual del crecimiento chilen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e se ha integrado al mundo de manera integral, salvo, por los flujos de trabajo que lo son menos (incluso dentro de Chil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integración ha sido acompañada de una significativa transferencia de riesgos hacia la ciudadaní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ción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del trabajo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ción laboral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rtidumbre sobre las pensiones por tener sistema de contribución defini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430880"/>
            <a:ext cx="338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61% a 84%, desde 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452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centaje creciente entre 25-5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19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560" y="1562040"/>
            <a:ext cx="7427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 calcula la tasa de reemplazo considerando una pensión promedio esperada y el salari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1: último salario observad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2: salarios de los últimos 3 años (sin considerar laguna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3: todos los ingresos de la vida (incluyendo lagunas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77080" y="5661000"/>
            <a:ext cx="2266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20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74920" y="1268280"/>
            <a:ext cx="7200720" cy="1922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74920" y="3284640"/>
            <a:ext cx="7200720" cy="1176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4920" y="4599000"/>
            <a:ext cx="7200720" cy="1494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1628640"/>
            <a:ext cx="727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357720"/>
            <a:ext cx="1873440" cy="93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220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20000" y="5589720"/>
            <a:ext cx="1944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3=1+2 : Consecuencias 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1341360"/>
            <a:ext cx="7129440" cy="2043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Chile quiere ser competitivo, tenemos que buscar formas inteligentes y generosas de mitigar estos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3573360"/>
            <a:ext cx="554976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y que compatibili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tección social e inc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114880"/>
            <a:ext cx="705672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er bien este problema es CRUCIAL para el desarrollo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184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157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ntaje 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í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3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357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335772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echo Universal a Pensión Básic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3357720"/>
            <a:ext cx="1800000" cy="1800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4859280" y="328464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nsión Mínima Gradua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20688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400680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8640" y="1700280"/>
            <a:ext cx="0" cy="30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98640" y="4716360"/>
            <a:ext cx="628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6912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ños cotiz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396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98280" y="3297240"/>
            <a:ext cx="305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98640" y="4183200"/>
            <a:ext cx="6195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871880" y="329724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08000" y="3284280"/>
            <a:ext cx="6132600" cy="1440000"/>
            <a:chOff x="1908000" y="3284280"/>
            <a:chExt cx="6132600" cy="1440000"/>
          </a:xfrm>
        </p:grpSpPr>
        <p:grpSp>
          <p:nvGrpSpPr>
            <p:cNvPr id="289" name=""/>
            <p:cNvGrpSpPr/>
            <p:nvPr/>
          </p:nvGrpSpPr>
          <p:grpSpPr>
            <a:xfrm>
              <a:off x="1908000" y="3284280"/>
              <a:ext cx="2963880" cy="1440000"/>
              <a:chOff x="1908000" y="3284280"/>
              <a:chExt cx="2963880" cy="1440000"/>
            </a:xfrm>
          </p:grpSpPr>
          <p:sp>
            <p:nvSpPr>
              <p:cNvPr id="290" name=""/>
              <p:cNvSpPr/>
              <p:nvPr/>
            </p:nvSpPr>
            <p:spPr>
              <a:xfrm>
                <a:off x="1908000" y="4724280"/>
                <a:ext cx="295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71880" y="3284280"/>
                <a:ext cx="0" cy="14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8718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6360" y="3284640"/>
            <a:ext cx="7451640" cy="1873080"/>
            <a:chOff x="576360" y="3284640"/>
            <a:chExt cx="7451640" cy="1873080"/>
          </a:xfrm>
        </p:grpSpPr>
        <p:grpSp>
          <p:nvGrpSpPr>
            <p:cNvPr id="294" name=""/>
            <p:cNvGrpSpPr/>
            <p:nvPr/>
          </p:nvGrpSpPr>
          <p:grpSpPr>
            <a:xfrm>
              <a:off x="576360" y="3285720"/>
              <a:ext cx="4295520" cy="1872000"/>
              <a:chOff x="576360" y="3285720"/>
              <a:chExt cx="4295520" cy="1872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76360" y="3285720"/>
                <a:ext cx="4295520" cy="1872000"/>
                <a:chOff x="576360" y="3285720"/>
                <a:chExt cx="4295520" cy="1872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76360" y="38350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4000" y="4881240"/>
                  <a:ext cx="198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384720" y="3996720"/>
                  <a:ext cx="0" cy="70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1898640" y="3997080"/>
                  <a:ext cx="148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84720" y="399708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129200" y="364140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29200" y="3643200"/>
                  <a:ext cx="74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871880" y="3285720"/>
                  <a:ext cx="0" cy="35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08000" y="4724280"/>
                <a:ext cx="144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592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924360" y="3500280"/>
            <a:ext cx="431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9640" y="2492280"/>
            <a:ext cx="7524720" cy="2667240"/>
            <a:chOff x="539640" y="2492280"/>
            <a:chExt cx="7524720" cy="2667240"/>
          </a:xfrm>
        </p:grpSpPr>
        <p:grpSp>
          <p:nvGrpSpPr>
            <p:cNvPr id="308" name=""/>
            <p:cNvGrpSpPr/>
            <p:nvPr/>
          </p:nvGrpSpPr>
          <p:grpSpPr>
            <a:xfrm>
              <a:off x="539640" y="2492280"/>
              <a:ext cx="7380360" cy="2667240"/>
              <a:chOff x="539640" y="2492280"/>
              <a:chExt cx="7380360" cy="2667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39640" y="2492280"/>
                <a:ext cx="6775200" cy="2667240"/>
                <a:chOff x="539640" y="2492280"/>
                <a:chExt cx="6775200" cy="2667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836960" y="3289320"/>
                  <a:ext cx="74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80000" y="293364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80000" y="293544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6324480" y="2579400"/>
                  <a:ext cx="0" cy="212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2320" y="488304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861920" y="2581200"/>
                  <a:ext cx="446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640" y="24922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V="1">
                <a:off x="6324480" y="2579760"/>
                <a:ext cx="0" cy="3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5640" y="255744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614920" y="3133800"/>
              <a:ext cx="24494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ujeres e Independient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4674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jeres: los instrumentos anteriores solo marginalmente corrigen los problemas de género. Estos deberán ser tratados separadam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ños de GEPM por hijo nacid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option” en la declaración de impues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4076640"/>
            <a:ext cx="80280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ción de protección con incentivos a cotizar necesitará recurs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5013360"/>
            <a:ext cx="8028000" cy="1381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totalmente inviable promover la cot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 disminuir barreras a la entrada y un ambiente de mayor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144000"/>
            <a:ext cx="79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¿Buena competencia, es posibl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393920"/>
            <a:ext cx="4427640" cy="333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99"/>
                </a:solidFill>
                <a:uFillTx/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Giro único garantizado por ley: No se pueden aprovechar eventuales economías de ámbi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Importantes economías de escala: No se pueden aprovechar completamente si no se subcontratan funciones o la industria se concentra fuer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48040" y="1413000"/>
            <a:ext cx="4395960" cy="33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bligación de consu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ducto de difícil comprensión para la gran mayoría de los afil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diferencia por producto, induce poca demanda espontánea por información. Deficiente calidad de é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724280"/>
            <a:ext cx="4406760" cy="119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Barrera a la entrada: masa crítica mínima difícil de obtener por demanda cautiva (alto costo, ventaja de incumb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SV (des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dema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1557360"/>
            <a:ext cx="331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arle elasticidad a la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jorar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citación (clientes margi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ofer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08720" y="1268280"/>
            <a:ext cx="331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isminuir esc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ontratación de servicios ¿cuá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256536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s que determine un esquema flexible y con fuerte presión de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16240" y="2492280"/>
            <a:ext cx="4992480" cy="2065320"/>
          </a:xfrm>
          <a:custGeom>
            <a:avLst/>
            <a:gdLst/>
            <a:ahLst/>
            <a:rect l="l" t="t" r="r" b="b"/>
            <a:pathLst>
              <a:path w="3145" h="1301">
                <a:moveTo>
                  <a:pt x="60" y="0"/>
                </a:moveTo>
                <a:cubicBezTo>
                  <a:pt x="30" y="438"/>
                  <a:pt x="0" y="877"/>
                  <a:pt x="514" y="1089"/>
                </a:cubicBezTo>
                <a:cubicBezTo>
                  <a:pt x="1028" y="1301"/>
                  <a:pt x="2707" y="1240"/>
                  <a:pt x="3145" y="12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5592600"/>
            <a:ext cx="788508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: (a) regulación de precios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Licitación de sus servicios a escala sistémica 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32720" y="5589720"/>
            <a:ext cx="2411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La Licita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1481040"/>
            <a:ext cx="8101080" cy="47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cional para AFP incumbentes y entrant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iscriminatorio y voluntario para todos los afiliados antigu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 formas de inscripción, Internet, adscripción por defaul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or “precio licitado” gan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entiv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nte: llegar más rápido al break even point, ahora más cercano (principal barrera a la entrad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iliado: descuento por permanencia (c/condiciones de salida) realizado por adelantado (rebate) en un pago en efectiv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bate no puede ser muy bajo porque el costo de salida del afiliado es proporcional al rebat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áusula de arrastre: descuento máximo, más allá del cual se gatilla beneficio a todos los afiliad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licitado” fijo para la AFP por todo el período de licit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ás medidas pro competenc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32000" y="1801440"/>
            <a:ext cx="7696080" cy="34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minación comisión fija: transparencia, simplici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ganancia en la demanda superior a distorsión en la ofert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global del Seguro de Invalidez y Sobrevivenci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transparenc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cesariamente menor preci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incentivo a cubrir personas de bajo ingres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ción temporal de requisito de Encaje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ción temporal de banda de rentabilidad mínima y máxima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9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2" idx="3"/>
            <a:endCxn id="75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9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3" idx="3"/>
            <a:endCxn id="78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3"/>
            <a:endCxn id="77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5" idx="3"/>
            <a:endCxn id="76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3"/>
            <a:endCxn id="81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8" idx="3"/>
            <a:endCxn id="81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3"/>
            <a:endCxn id="81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6" idx="3"/>
            <a:endCxn id="81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2" idx="3"/>
            <a:endCxn id="74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2" idx="3"/>
            <a:endCxn id="73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0" idx="3"/>
            <a:endCxn id="75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11-14T21:44:16Z</dcterms:modified>
  <cp:revision>113</cp:revision>
  <dc:subject/>
  <dc:title>Cobertura, densidad y pensiones en Chile:  Proyecciones a 30 años plazo</dc:title>
</cp:coreProperties>
</file>