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25.wmf" ContentType="image/x-wmf"/>
  <Override PartName="/ppt/media/image2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42.png" ContentType="image/png"/>
  <Override PartName="/ppt/media/image31.wmf" ContentType="image/x-wmf"/>
  <Override PartName="/ppt/media/image32.png" ContentType="image/png"/>
  <Override PartName="/ppt/media/image43.wmf" ContentType="image/x-wmf"/>
  <Override PartName="/ppt/media/image44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37.wmf" ContentType="image/x-wmf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36.wmf" ContentType="image/x-wmf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8832E-B9D0-471D-B73D-35E9B9829133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3886200" y="-144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-144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ldImg"/>
          </p:nvPr>
        </p:nvSpPr>
        <p:spPr>
          <a:xfrm>
            <a:off x="1149480" y="690480"/>
            <a:ext cx="4557600" cy="3417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3886200" y="-144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-144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ldImg"/>
          </p:nvPr>
        </p:nvSpPr>
        <p:spPr>
          <a:xfrm>
            <a:off x="1149480" y="69048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83" name=""/>
          <p:cNvSpPr/>
          <p:nvPr/>
        </p:nvSpPr>
        <p:spPr>
          <a:xfrm>
            <a:off x="1281600" y="4637160"/>
            <a:ext cx="461844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There have been several prominent financial “crises” in the 1990s.  Mexico’s in 1994-5 mark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what’s considered the first major episode.  In 1997, several Asian economies experienced cris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starting with Thailand.  The Russian one in 1998 was market by a default on government debt (wi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get back to in this talk); that crisis was followed by the collapse of LTCM.  The latest major cris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occurred in Brazil.  It is worth noting that “crises” have occurred in many other countries in vario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regions (Pakistan, Colombia, Ecuador to name a few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07C7-0B5E-4D16-B892-1FA0609E4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8464-5712-4CC1-9646-23651AD10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37A5-99AF-4DD9-8577-CD39B1673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26E5-06FB-4DAE-8178-1EB0C78DC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58B9-3F30-45B0-8ACF-47488FC63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123B-2D17-4EA5-BB55-B67C1CF88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A5B9-D95F-49DB-8503-1CB8E6181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71EE-0F58-4B7A-925E-1D61181DC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92000" y="250560"/>
            <a:ext cx="699444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FBBB-E6A1-44C4-A13F-2A6401ADE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5CDD-8F57-49FB-A7FA-6712E754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09DC-57E3-46FB-B2EF-0DD3CDB4A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13FE-0EB0-4F9C-93B1-995ECE5D5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59651-14FE-4ED8-AEC3-46A0AA60C0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28440" y="130320"/>
            <a:ext cx="1447920" cy="113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4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5.wmf"/><Relationship Id="rId7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960480" y="3800520"/>
            <a:ext cx="7200720" cy="29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uillermo Larrain Rio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uperintendente de AFP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sentación para el Magíster en Políticas Pública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antiago, 15 de noviembre de 2005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" name=""/>
          <p:cNvSpPr/>
          <p:nvPr/>
        </p:nvSpPr>
        <p:spPr>
          <a:xfrm>
            <a:off x="1187280" y="2183760"/>
            <a:ext cx="6840720" cy="1312920"/>
          </a:xfrm>
          <a:prstGeom prst="rect">
            <a:avLst/>
          </a:prstGeom>
          <a:solidFill>
            <a:srgbClr val="333399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 Unicode MS"/>
              </a:rPr>
              <a:t>Reflexiones sobre el Sistema Previsional Chile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208080" y="1268280"/>
          <a:ext cx="8742240" cy="558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8080" y="1268280"/>
                    <a:ext cx="8742240" cy="558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835280" y="20520"/>
            <a:ext cx="730872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Diversificación de activos: </a:t>
            </a:r>
            <a:br>
              <a:rPr sz="2800"/>
            </a:b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sector financiero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5280" y="20520"/>
            <a:ext cx="730872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Diversificación de activos:  todos los intrumento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0" y="1187280"/>
          <a:ext cx="9144000" cy="567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87280"/>
                    <a:ext cx="9144000" cy="567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3240" y="1187280"/>
          <a:ext cx="9178920" cy="567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1187280"/>
                    <a:ext cx="9178920" cy="567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1692360" y="122760"/>
            <a:ext cx="7451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 Unicode MS"/>
              </a:rPr>
              <a:t>Diversificación de activos: </a:t>
            </a: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Instrumentos corpora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47280" y="419040"/>
            <a:ext cx="7596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Arial Unicode MS"/>
              </a:rPr>
              <a:t>Los Fondos de Pensiones son los principales inversionistas de letras hipotecaria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55640" y="1655640"/>
            <a:ext cx="7848720" cy="37893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50920" y="5516640"/>
            <a:ext cx="8569080" cy="1081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inversión de los Fondos de Pensiones en la ofer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 letras hipotecarí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l Banco Estado es de 47%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rcRect l="0" t="4161" r="-2296" b="9847"/>
          <a:stretch/>
        </p:blipFill>
        <p:spPr>
          <a:xfrm>
            <a:off x="1332000" y="1484280"/>
            <a:ext cx="6767280" cy="49910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06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Unicode MS"/>
              </a:rPr>
              <a:t>Acceso a la vivienda en Chile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2" name=""/>
          <p:cNvSpPr/>
          <p:nvPr/>
        </p:nvSpPr>
        <p:spPr>
          <a:xfrm>
            <a:off x="2879640" y="6568920"/>
            <a:ext cx="6264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uente: CEPAL – SERIE financiamiento del desarro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 Unicode MS"/>
              </a:rPr>
              <a:t>Efectos de los Fondos de Pensiones en el financiamiento de viviendas en Chil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55640" y="1615680"/>
            <a:ext cx="7632720" cy="14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e observan mayores plazos para créditos hipotecarios y disminución de las tasas de interés de los préstamos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71640" y="3060720"/>
          <a:ext cx="7489800" cy="2600280"/>
        </p:xfrm>
        <a:graphic>
          <a:graphicData uri="http://schemas.openxmlformats.org/drawingml/2006/table">
            <a:tbl>
              <a:tblPr/>
              <a:tblGrid>
                <a:gridCol w="2590560"/>
                <a:gridCol w="2514600"/>
                <a:gridCol w="2384640"/>
              </a:tblGrid>
              <a:tr h="116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Tasa de interés real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981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UF + 13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004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UF + 5,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 más de  20 añ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Plazo máximo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977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2 añ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(certificados con respaldo hipotecari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004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40 añ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7948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Unicode MS"/>
              </a:rPr>
              <a:t>La gran mayoría de los adultos mayores viven en casa propia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557280" y="1685880"/>
          <a:ext cx="8244000" cy="461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685880"/>
                    <a:ext cx="8244000" cy="46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154560" y="630252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nte: CASEN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92000" y="250200"/>
            <a:ext cx="69944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A pesar de eso, hay problemas de dos tipos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4560" y="1687680"/>
            <a:ext cx="3887640" cy="52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spcBef>
                <a:spcPts val="601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roblemas de arrastr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905040" indent="-45252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onos de reconocimiento: calculados sobre una “mala base” porque el desempleo entre 1975 y 1979 fue muy alto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905040" indent="-45252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año previsiona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905040" indent="-45252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Alto desempleo en 80s y 00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528120" indent="-528120">
              <a:spcBef>
                <a:spcPts val="601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roblemas estructurales, endógenos y exógeno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851280" y="1557360"/>
            <a:ext cx="5292720" cy="5040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084720" y="3571920"/>
            <a:ext cx="503280" cy="1152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6732720" y="2637000"/>
            <a:ext cx="1798560" cy="2376360"/>
            <a:chOff x="6732720" y="2637000"/>
            <a:chExt cx="1798560" cy="2376360"/>
          </a:xfrm>
        </p:grpSpPr>
        <p:sp>
          <p:nvSpPr>
            <p:cNvPr id="135" name=""/>
            <p:cNvSpPr/>
            <p:nvPr/>
          </p:nvSpPr>
          <p:spPr>
            <a:xfrm>
              <a:off x="6732720" y="2637000"/>
              <a:ext cx="934920" cy="237636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028000" y="3787920"/>
              <a:ext cx="503280" cy="115236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21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77840" y="1270080"/>
          <a:ext cx="8966160" cy="510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1270080"/>
                    <a:ext cx="896616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1619280" y="462960"/>
            <a:ext cx="74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Cobertura previs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92000" y="524520"/>
            <a:ext cx="6994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Cobertura Previsional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87854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00000" y="366480"/>
            <a:ext cx="82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Inspiración 1: contexto histórico</a:t>
            </a:r>
            <a:r>
              <a:rPr b="1" lang="es-CL" sz="2800" spc="-1" strike="noStrike">
                <a:solidFill>
                  <a:srgbClr val="b28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7560" y="134100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4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ferencia: en países desarrollados, los esquemas de seguridad social de origen bismarckiano e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tregan beneficios y cobertura a amplios sectores de la población, pero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4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án financieramente en serios apuros por los excesivos beneficios que entregaban en un contexto de baja capacidad “endógena” de modificar las prestaciones a la nueva realidad demográfica y económica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4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ichos beneficios además no entregaban adecuados incentivos para que las personas contribuyan y, en algunos casos, hagan uso racional de las prestaciones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835280" y="91440"/>
            <a:ext cx="68515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Distribución de pensionados actual…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4" name=""/>
          <p:cNvSpPr/>
          <p:nvPr/>
        </p:nvSpPr>
        <p:spPr>
          <a:xfrm>
            <a:off x="2262240" y="1221840"/>
            <a:ext cx="37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tock de pensiones según monto de pens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922320" y="1558800"/>
          <a:ext cx="7254720" cy="1941480"/>
        </p:xfrm>
        <a:graphic>
          <a:graphicData uri="http://schemas.openxmlformats.org/drawingml/2006/table">
            <a:tbl>
              <a:tblPr/>
              <a:tblGrid>
                <a:gridCol w="2936880"/>
                <a:gridCol w="858960"/>
                <a:gridCol w="680760"/>
                <a:gridCol w="779760"/>
                <a:gridCol w="609480"/>
                <a:gridCol w="758880"/>
                <a:gridCol w="630000"/>
              </a:tblGrid>
              <a:tr h="303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tiro Program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nta Vitalic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ctr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úme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ctr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úme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úme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ensiones Mayores o iguales a la Pensión Mínima de vejez de 65 añ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7.7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21.19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63.9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ensiones Menores a la Pensión Mínima de vejez de 65 añ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74.1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8.53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45.1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71.9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59.72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09.1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"/>
          <p:cNvSpPr/>
          <p:nvPr/>
        </p:nvSpPr>
        <p:spPr>
          <a:xfrm>
            <a:off x="1033560" y="3715920"/>
            <a:ext cx="573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lujo de pensiones solicitadas durante 2003 según monto de pens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922320" y="4206960"/>
          <a:ext cx="7250040" cy="1941480"/>
        </p:xfrm>
        <a:graphic>
          <a:graphicData uri="http://schemas.openxmlformats.org/drawingml/2006/table">
            <a:tbl>
              <a:tblPr/>
              <a:tblGrid>
                <a:gridCol w="2933640"/>
                <a:gridCol w="858960"/>
                <a:gridCol w="682560"/>
                <a:gridCol w="771480"/>
                <a:gridCol w="617760"/>
                <a:gridCol w="760320"/>
                <a:gridCol w="625320"/>
              </a:tblGrid>
              <a:tr h="303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tiro Program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nta Vitalicia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ctr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úme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ctr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úme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úme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440" indent="-1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ensiones Mayores o iguales a la Pensión Mínima de vejez de 65 añ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3.0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9.57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3.3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ensiones Menores a la Pensión Mínima de vejez de 65 añ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0.2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8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8.1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3.2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9.76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1.4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>
            <a:off x="900000" y="616572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¿Qué ocurrirá en los próximos 30 añ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39760" y="1257480"/>
            <a:ext cx="8642160" cy="53751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466560" y="189000"/>
            <a:ext cx="8353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Montos de las pens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979640" y="3141720"/>
            <a:ext cx="4248000" cy="287964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443640" y="5789520"/>
            <a:ext cx="201600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¿Quiénes s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39760" y="1257480"/>
            <a:ext cx="8642160" cy="53193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03280" y="53640"/>
            <a:ext cx="77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Unicode MS"/>
              </a:rPr>
              <a:t>Pensiones para Mayores de 60 año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5" name=""/>
          <p:cNvSpPr/>
          <p:nvPr/>
        </p:nvSpPr>
        <p:spPr>
          <a:xfrm>
            <a:off x="5292720" y="59500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nte: Encuesta CASEN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39760" y="1257480"/>
            <a:ext cx="8642160" cy="53244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5292720" y="59500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nte: Encuesta CASEN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Unicode MS"/>
              </a:rPr>
              <a:t>Pensiones para Mayores de 60 añ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39760" y="1257480"/>
            <a:ext cx="8642160" cy="53244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5292720" y="59500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nte: Encuesta CASEN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Unicode MS"/>
              </a:rPr>
              <a:t>Pensiones para Mayores de 70 añ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39760" y="1257480"/>
            <a:ext cx="8642160" cy="53305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5292720" y="59500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nte: Encuesta CASEN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Unicode MS"/>
              </a:rPr>
              <a:t>Pensiones para Mayores de 70 añ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843280" y="1916280"/>
            <a:ext cx="5327640" cy="38700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18920" y="188280"/>
            <a:ext cx="74516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Información desagregada : densidad de cotizaciones es menor a la esperada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7" name=""/>
          <p:cNvSpPr/>
          <p:nvPr/>
        </p:nvSpPr>
        <p:spPr>
          <a:xfrm>
            <a:off x="3062520" y="1556640"/>
            <a:ext cx="49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ensidad de Cotizaciones para toda la historia labo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910960" y="5733360"/>
            <a:ext cx="521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uente: elaboración propia en base a Historias Previs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116000" y="2852640"/>
            <a:ext cx="3197160" cy="2502000"/>
            <a:chOff x="1116000" y="2852640"/>
            <a:chExt cx="3197160" cy="2502000"/>
          </a:xfrm>
        </p:grpSpPr>
        <p:sp>
          <p:nvSpPr>
            <p:cNvPr id="170" name=""/>
            <p:cNvSpPr/>
            <p:nvPr/>
          </p:nvSpPr>
          <p:spPr>
            <a:xfrm>
              <a:off x="3305160" y="3267000"/>
              <a:ext cx="1008000" cy="2087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1391400">
              <a:off x="2772720" y="3460320"/>
              <a:ext cx="432000" cy="360360"/>
            </a:xfrm>
            <a:prstGeom prst="rightArrow">
              <a:avLst>
                <a:gd name="adj1" fmla="val 50000"/>
                <a:gd name="adj2" fmla="val 2997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116000" y="2852640"/>
              <a:ext cx="1944720" cy="133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88920" indent="-88920"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 Narrow"/>
                </a:rPr>
                <a:t>Principalmente muje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88920" indent="-88920"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 Narrow"/>
                </a:rPr>
                <a:t>Kurtosis   1,92 (muestra: 1,5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6659640" y="2060640"/>
            <a:ext cx="1297080" cy="3097080"/>
            <a:chOff x="6659640" y="2060640"/>
            <a:chExt cx="1297080" cy="3097080"/>
          </a:xfrm>
        </p:grpSpPr>
        <p:sp>
          <p:nvSpPr>
            <p:cNvPr id="174" name=""/>
            <p:cNvSpPr/>
            <p:nvPr/>
          </p:nvSpPr>
          <p:spPr>
            <a:xfrm>
              <a:off x="6659640" y="2781360"/>
              <a:ext cx="0" cy="23763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659640" y="2060640"/>
              <a:ext cx="1297080" cy="576360"/>
            </a:xfrm>
            <a:prstGeom prst="downArrowCallout">
              <a:avLst>
                <a:gd name="adj1" fmla="val 56267"/>
                <a:gd name="adj2" fmla="val 56262"/>
                <a:gd name="adj3" fmla="val 16667"/>
                <a:gd name="adj4" fmla="val 66667"/>
              </a:avLst>
            </a:prstGeom>
            <a:noFill/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804000" y="2060640"/>
              <a:ext cx="10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</a:rPr>
                <a:t>+/- 33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50920" y="1241280"/>
            <a:ext cx="8642160" cy="48085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scenario Base - Todos los afiliado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9" name=""/>
          <p:cNvSpPr/>
          <p:nvPr/>
        </p:nvSpPr>
        <p:spPr>
          <a:xfrm>
            <a:off x="3203640" y="6083280"/>
            <a:ext cx="649080" cy="65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476360" y="6083280"/>
            <a:ext cx="17287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recimiento Pensión Mín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76720" y="61801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5292720" y="6083280"/>
            <a:ext cx="2087280" cy="647640"/>
            <a:chOff x="5292720" y="6083280"/>
            <a:chExt cx="2087280" cy="647640"/>
          </a:xfrm>
        </p:grpSpPr>
        <p:sp>
          <p:nvSpPr>
            <p:cNvPr id="183" name=""/>
            <p:cNvSpPr/>
            <p:nvPr/>
          </p:nvSpPr>
          <p:spPr>
            <a:xfrm>
              <a:off x="6659280" y="6083280"/>
              <a:ext cx="649440" cy="64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92720" y="6083280"/>
              <a:ext cx="1368360" cy="64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Rentabilid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732360" y="618012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5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scenario Alcanzable - Todos los afiliado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7" name=""/>
          <p:cNvSpPr/>
          <p:nvPr/>
        </p:nvSpPr>
        <p:spPr>
          <a:xfrm>
            <a:off x="3203640" y="6083280"/>
            <a:ext cx="649080" cy="65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476360" y="6083280"/>
            <a:ext cx="17287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recimiento Pensión Mín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276720" y="61801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5292720" y="6083280"/>
            <a:ext cx="2087280" cy="647640"/>
            <a:chOff x="5292720" y="6083280"/>
            <a:chExt cx="2087280" cy="647640"/>
          </a:xfrm>
        </p:grpSpPr>
        <p:sp>
          <p:nvSpPr>
            <p:cNvPr id="191" name=""/>
            <p:cNvSpPr/>
            <p:nvPr/>
          </p:nvSpPr>
          <p:spPr>
            <a:xfrm>
              <a:off x="6659280" y="6083280"/>
              <a:ext cx="649440" cy="64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292720" y="6083280"/>
              <a:ext cx="1368360" cy="64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Rentabilid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732360" y="618012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7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50920" y="1262160"/>
            <a:ext cx="8642160" cy="4830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206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yecciones difieren por género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3749" t="0" r="4349" b="0"/>
          <a:stretch/>
        </p:blipFill>
        <p:spPr>
          <a:xfrm>
            <a:off x="993600" y="1603440"/>
            <a:ext cx="4034160" cy="22143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rcRect l="4216" t="0" r="4240" b="0"/>
          <a:stretch/>
        </p:blipFill>
        <p:spPr>
          <a:xfrm>
            <a:off x="5154480" y="1987560"/>
            <a:ext cx="3810240" cy="36734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2700360" y="153180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443640" y="153180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020000" y="5445000"/>
            <a:ext cx="194472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19280" y="366480"/>
            <a:ext cx="8532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Inspiración 2: estrategia de desarrollo</a:t>
            </a:r>
            <a:r>
              <a:rPr b="1" lang="es-CL" sz="2800" spc="-1" strike="noStrike">
                <a:solidFill>
                  <a:srgbClr val="b28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03280" y="1196640"/>
            <a:ext cx="7467840" cy="462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4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pertura comercial es principal variable explicativa individual del crecimiento chileno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4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hile se ha integrado al mundo de manera integral, salvo, por los flujos de trabajo que lo son menos (incluso dentro de Chile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4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cha integración ha sido acompañada de una significativa transferencia de riesgos hacia la ciudadanía: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banización creciente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ización del trabajo creciente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tación laboral creciente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ertidumbre sobre las pensiones por tener sistema de contribución definida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6" name=""/>
          <p:cNvSpPr/>
          <p:nvPr/>
        </p:nvSpPr>
        <p:spPr>
          <a:xfrm>
            <a:off x="5292720" y="4430880"/>
            <a:ext cx="33847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(61% a 84%, desde 19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187280" y="1341360"/>
            <a:ext cx="6985080" cy="445284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923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rcentaje creciente entre 25-50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196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asas de reemplazo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58560" y="1562040"/>
            <a:ext cx="74278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e calcula la tasa de reemplazo considerando una pensión promedio esperada y el salario: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R1: último salario observado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R2: salarios de los últimos 3 años (sin considerar lagunas)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R3: todos los ingresos de la vida (incluyendo lagunas)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6877080" y="5661000"/>
            <a:ext cx="226692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20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asas de reemplazo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474920" y="1268280"/>
            <a:ext cx="7200720" cy="19227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1474920" y="3284640"/>
            <a:ext cx="7200720" cy="11761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1474920" y="4599000"/>
            <a:ext cx="7200720" cy="1494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1403280" y="1628640"/>
            <a:ext cx="7272360" cy="36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132000" y="3357720"/>
            <a:ext cx="1873440" cy="934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rcRect l="12155" t="0" r="12155" b="0"/>
          <a:stretch/>
        </p:blipFill>
        <p:spPr>
          <a:xfrm>
            <a:off x="655560" y="1392120"/>
            <a:ext cx="7777080" cy="53946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Hombres que cumplen el requisito para obtener Pensión Mínima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Mujeres que cumplen el requisito para obtener Pensión Mínima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rcRect l="12392" t="0" r="12405" b="0"/>
          <a:stretch/>
        </p:blipFill>
        <p:spPr>
          <a:xfrm>
            <a:off x="695160" y="1366920"/>
            <a:ext cx="7728120" cy="5395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4920" y="439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Hombres que </a:t>
            </a:r>
            <a:r>
              <a:rPr b="0" lang="en-US" sz="3200" spc="-1" strike="noStrike">
                <a:solidFill>
                  <a:srgbClr val="ff3300"/>
                </a:solidFill>
                <a:latin typeface="Arial Unicode MS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cumplen el requisito para obtener Pensión Mínima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12405" t="0" r="12392" b="0"/>
          <a:stretch/>
        </p:blipFill>
        <p:spPr>
          <a:xfrm>
            <a:off x="611280" y="1268280"/>
            <a:ext cx="7848360" cy="5480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4920" y="44280"/>
            <a:ext cx="903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Mujeres que </a:t>
            </a:r>
            <a:r>
              <a:rPr b="0" lang="en-US" sz="3200" spc="-1" strike="noStrike">
                <a:solidFill>
                  <a:srgbClr val="ff3300"/>
                </a:solidFill>
                <a:latin typeface="Arial Unicode MS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cumplen el requisito para obtener Pensión Mín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rcRect l="25408" t="39603" r="23409" b="16435"/>
          <a:stretch/>
        </p:blipFill>
        <p:spPr>
          <a:xfrm>
            <a:off x="566640" y="1268280"/>
            <a:ext cx="7991640" cy="5489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1116000" y="1792440"/>
            <a:ext cx="7792560" cy="5020920"/>
            <a:chOff x="1116000" y="1792440"/>
            <a:chExt cx="7792560" cy="5020920"/>
          </a:xfrm>
        </p:grpSpPr>
        <p:graphicFrame>
          <p:nvGraphicFramePr>
            <p:cNvPr id="220" name=""/>
            <p:cNvGraphicFramePr/>
            <p:nvPr/>
          </p:nvGraphicFramePr>
          <p:xfrm>
            <a:off x="4308120" y="1792440"/>
            <a:ext cx="4203360" cy="17762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2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8120" y="1792440"/>
                      <a:ext cx="4203360" cy="1776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2" name=""/>
            <p:cNvSpPr/>
            <p:nvPr/>
          </p:nvSpPr>
          <p:spPr>
            <a:xfrm>
              <a:off x="1116000" y="2143080"/>
              <a:ext cx="3470040" cy="19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La mitad de los cotizantes no saben bien  cuanto aportan mensualmente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Arial Unicode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118880" y="3808800"/>
              <a:ext cx="3101760" cy="13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Prácticamente nadie sabe bien cuanto le paga a su AFP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Arial Unicode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24" name=""/>
            <p:cNvGraphicFramePr/>
            <p:nvPr/>
          </p:nvGraphicFramePr>
          <p:xfrm>
            <a:off x="4016160" y="3166200"/>
            <a:ext cx="4892400" cy="305136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22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016160" y="3166200"/>
                      <a:ext cx="4892400" cy="305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6" name=""/>
            <p:cNvSpPr/>
            <p:nvPr/>
          </p:nvSpPr>
          <p:spPr>
            <a:xfrm>
              <a:off x="1471320" y="3585600"/>
              <a:ext cx="649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27" name=""/>
            <p:cNvGraphicFramePr/>
            <p:nvPr/>
          </p:nvGraphicFramePr>
          <p:xfrm>
            <a:off x="4073400" y="5177880"/>
            <a:ext cx="4716000" cy="163548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22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073400" y="5177880"/>
                      <a:ext cx="4716000" cy="163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9" name=""/>
            <p:cNvSpPr/>
            <p:nvPr/>
          </p:nvSpPr>
          <p:spPr>
            <a:xfrm>
              <a:off x="1501560" y="5186160"/>
              <a:ext cx="649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116000" y="5234400"/>
              <a:ext cx="3101760" cy="13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Menos de la mitad sabe cuanto tiene acumulado en su fondo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Arial Unicode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1387440" y="160200"/>
            <a:ext cx="7680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Característica de la demanda: desconocimiento, indiferencia e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979640" y="258480"/>
            <a:ext cx="712944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Imprevisión!!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3" name=""/>
          <p:cNvSpPr/>
          <p:nvPr/>
        </p:nvSpPr>
        <p:spPr>
          <a:xfrm>
            <a:off x="7536960" y="5873760"/>
            <a:ext cx="132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ntique Olive"/>
              </a:rPr>
              <a:t>Fuente: HL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61800" y="1442880"/>
            <a:ext cx="8420400" cy="39722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357120" y="1452600"/>
            <a:ext cx="8429760" cy="39528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352440" y="1447920"/>
            <a:ext cx="8439120" cy="39621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987640" y="5267160"/>
            <a:ext cx="432000" cy="192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19640" y="5241960"/>
            <a:ext cx="31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ntique Olive"/>
              </a:rPr>
              <a:t>Expectativa de vida según tablas de 1985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692000" y="-24120"/>
            <a:ext cx="699444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Problemas exógenos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del sistema de pensiones: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 Unicode MS"/>
              </a:rPr>
              <a:t>1. Mercado del Trabajo: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Desapareció empleo de por vida: 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</a:rPr>
              <a:t>&gt; rotación, desempleo  + frecuente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Factores del Mercado del trabajo afectan de manera no homogénea: 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</a:rPr>
              <a:t>la empleabilidad difiere por educación, ingreso, contactos familiares…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Los trabajadores más pobres están más expuestos a estas incertidumbr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+ trabajadores por cuenta propia: 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</a:rPr>
              <a:t>requieren ahorros líquidos en caso de necesidad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020000" y="5589720"/>
            <a:ext cx="194472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0000" y="366480"/>
            <a:ext cx="82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3=1+2 : Consecuencias </a:t>
            </a:r>
            <a:r>
              <a:rPr b="1" lang="es-CL" sz="2800" spc="-1" strike="noStrike">
                <a:solidFill>
                  <a:srgbClr val="b28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" name=""/>
          <p:cNvSpPr/>
          <p:nvPr/>
        </p:nvSpPr>
        <p:spPr>
          <a:xfrm>
            <a:off x="1546200" y="1341360"/>
            <a:ext cx="7129440" cy="2043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 Chile quiere ser competitivo, tenemos que buscar formas inteligentes y generosas de mitigar estos riesg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78240" y="3573360"/>
            <a:ext cx="5549760" cy="132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Hay que compatibiliz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rotección social e incen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47640" y="5114880"/>
            <a:ext cx="7056720" cy="1068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olver bien este problema es CRUCIAL para el desarrollo del paí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692360" y="194760"/>
            <a:ext cx="6983280" cy="11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Unicode MS"/>
              </a:rPr>
              <a:t>Problemas exógenos: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Mercado del Trabajo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86421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692000" y="280080"/>
            <a:ext cx="6994440" cy="11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Unicode MS"/>
              </a:rPr>
              <a:t>Problemas exógenos: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Mercado del Trabajo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5184720" cy="424944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5219640" y="1413000"/>
            <a:ext cx="3924360" cy="45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Desgano natural de muchos trabajadores a cotiz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roliferación de un mercado formal de trabajadores independientes: requieren de ahorros líquidos mientras que los ahorro de pensión son extremadamente líquido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24000" y="5734080"/>
            <a:ext cx="345600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→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rtalecer Seguro de Cesant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0" y="5734080"/>
            <a:ext cx="4248000" cy="722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→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o obligar, incita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educir costos de transa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92000" y="-24120"/>
            <a:ext cx="699444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Problemas exógenos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del sistema de pensiones: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05440" cy="39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 Unicode MS"/>
              </a:rPr>
              <a:t>2. Mujeres, un caso especial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Unicode MS"/>
              </a:rPr>
              <a:t>Comienzan a trabajar más tarde,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Unicode MS"/>
              </a:rPr>
              <a:t>Tienen más lagunas,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Unicode MS"/>
              </a:rPr>
              <a:t>Ganan menos para igual calificación, (20%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Unicode MS"/>
              </a:rPr>
              <a:t>Se retiran antes (edad legal de jubilación 60 años vs. 65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Unicode MS"/>
              </a:rPr>
              <a:t>Viven más (87 vs 82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4716360" y="1773360"/>
            <a:ext cx="4248360" cy="30240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187280" y="5157720"/>
            <a:ext cx="7056720" cy="1618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hile tiene baja tasa de participación femenina. Para que su aumento no sea un “infierno”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Reevaluación del rol masculino en el hogar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Ayuda a la mujer trabajador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Flexibilidad de contratos, etc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92000" y="-24120"/>
            <a:ext cx="699444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Problemas exógenos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del sistema de pensiones: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0920" y="1989000"/>
            <a:ext cx="4032000" cy="35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Dados los ahorros, hay que financiar más años de vida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onsecuencia: pensiones menor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ontradicciones: la gente vive más…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Pero se retira ante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Y se siente mejor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4284720" y="1700280"/>
          <a:ext cx="4859280" cy="475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1700280"/>
                    <a:ext cx="485928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"/>
          <p:cNvSpPr/>
          <p:nvPr/>
        </p:nvSpPr>
        <p:spPr>
          <a:xfrm>
            <a:off x="144360" y="5516640"/>
            <a:ext cx="4211640" cy="1267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ndiciones laborales en la edad madur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dad legal de jubila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54880" y="1482840"/>
            <a:ext cx="459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 Narrow"/>
              </a:rPr>
              <a:t>3. Mayores expectativas de v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969920" y="115560"/>
            <a:ext cx="699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Problemas endógenos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del sistema de pension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6680" y="1484280"/>
            <a:ext cx="433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Narrow"/>
              </a:rPr>
              <a:t>1. Competencia y concent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395280" y="2205000"/>
          <a:ext cx="8064360" cy="404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205000"/>
                    <a:ext cx="8064360" cy="40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250560" y="1412640"/>
            <a:ext cx="889308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Arial Unicode MS"/>
              </a:rPr>
              <a:t>Dos problemas de diseño en competencia y concentración: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Arial Unicode MS"/>
              </a:rPr>
              <a:t>Inelasticidad de la demanda</a:t>
            </a: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: explicada por carácter obligatorio del bien previsional. El mercado de pensiones es artificial, no hay una demanda espontánea (masiva). Por eso, la gente no presta atención a variables relevantes (rentabilidad, precio, riesgo), en particular cuando son jóven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Arial Unicode MS"/>
              </a:rPr>
              <a:t>Economías de escala</a:t>
            </a: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: típico en el sector financiero, pero aquí exagerado por la necesidad del giro único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3" name=""/>
          <p:cNvSpPr/>
          <p:nvPr/>
        </p:nvSpPr>
        <p:spPr>
          <a:xfrm>
            <a:off x="1042920" y="5424480"/>
            <a:ext cx="7416720" cy="1448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regar demanda vía licita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car economías de esca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formar a los afili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149560" y="133200"/>
            <a:ext cx="699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Problemas endógenos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del sistema de pension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835280" y="3357720"/>
            <a:ext cx="2952720" cy="1800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835280" y="3357720"/>
            <a:ext cx="2952720" cy="1800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835280" y="184464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835280" y="5157720"/>
            <a:ext cx="56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940360" y="530064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ntaje C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067280" y="5229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ím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835280" y="335772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788000" y="335772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26920" y="321300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788000" y="3357720"/>
            <a:ext cx="180000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2560" y="18864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Derecho Universal a Pensión Básica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6" name=""/>
          <p:cNvSpPr/>
          <p:nvPr/>
        </p:nvSpPr>
        <p:spPr>
          <a:xfrm>
            <a:off x="4788000" y="3357720"/>
            <a:ext cx="1800000" cy="1800000"/>
          </a:xfrm>
          <a:prstGeom prst="rtTriangl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 flipV="1">
            <a:off x="4859280" y="3284640"/>
            <a:ext cx="0" cy="1419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476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ensión Mínima Graduada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9" name=""/>
          <p:cNvSpPr/>
          <p:nvPr/>
        </p:nvSpPr>
        <p:spPr>
          <a:xfrm>
            <a:off x="576360" y="3206880"/>
            <a:ext cx="198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76360" y="4006800"/>
            <a:ext cx="198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898640" y="1700280"/>
            <a:ext cx="0" cy="301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898640" y="4716360"/>
            <a:ext cx="628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69120" y="4890960"/>
            <a:ext cx="198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ños cotizan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963960" y="4890960"/>
            <a:ext cx="198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1898280" y="3297240"/>
            <a:ext cx="3057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898640" y="4183200"/>
            <a:ext cx="61959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4871880" y="3297240"/>
            <a:ext cx="0" cy="35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1908000" y="3284280"/>
            <a:ext cx="6132600" cy="1440000"/>
            <a:chOff x="1908000" y="3284280"/>
            <a:chExt cx="6132600" cy="1440000"/>
          </a:xfrm>
        </p:grpSpPr>
        <p:grpSp>
          <p:nvGrpSpPr>
            <p:cNvPr id="289" name=""/>
            <p:cNvGrpSpPr/>
            <p:nvPr/>
          </p:nvGrpSpPr>
          <p:grpSpPr>
            <a:xfrm>
              <a:off x="1908000" y="3284280"/>
              <a:ext cx="2963880" cy="1440000"/>
              <a:chOff x="1908000" y="3284280"/>
              <a:chExt cx="2963880" cy="1440000"/>
            </a:xfrm>
          </p:grpSpPr>
          <p:sp>
            <p:nvSpPr>
              <p:cNvPr id="290" name=""/>
              <p:cNvSpPr/>
              <p:nvPr/>
            </p:nvSpPr>
            <p:spPr>
              <a:xfrm>
                <a:off x="1908000" y="4724280"/>
                <a:ext cx="2951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V="1">
                <a:off x="4871880" y="3284280"/>
                <a:ext cx="0" cy="143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2" name=""/>
            <p:cNvSpPr/>
            <p:nvPr/>
          </p:nvSpPr>
          <p:spPr>
            <a:xfrm>
              <a:off x="4871880" y="3284640"/>
              <a:ext cx="3168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576360" y="3284640"/>
            <a:ext cx="7451640" cy="1873080"/>
            <a:chOff x="576360" y="3284640"/>
            <a:chExt cx="7451640" cy="1873080"/>
          </a:xfrm>
        </p:grpSpPr>
        <p:grpSp>
          <p:nvGrpSpPr>
            <p:cNvPr id="294" name=""/>
            <p:cNvGrpSpPr/>
            <p:nvPr/>
          </p:nvGrpSpPr>
          <p:grpSpPr>
            <a:xfrm>
              <a:off x="576360" y="3285720"/>
              <a:ext cx="4295520" cy="1872000"/>
              <a:chOff x="576360" y="3285720"/>
              <a:chExt cx="4295520" cy="1872000"/>
            </a:xfrm>
          </p:grpSpPr>
          <p:grpSp>
            <p:nvGrpSpPr>
              <p:cNvPr id="295" name=""/>
              <p:cNvGrpSpPr/>
              <p:nvPr/>
            </p:nvGrpSpPr>
            <p:grpSpPr>
              <a:xfrm>
                <a:off x="576360" y="3285720"/>
                <a:ext cx="4295520" cy="1872000"/>
                <a:chOff x="576360" y="3285720"/>
                <a:chExt cx="4295520" cy="187200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576360" y="3835080"/>
                  <a:ext cx="1982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PM(0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2394000" y="4881240"/>
                  <a:ext cx="19828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 flipV="1">
                  <a:off x="3384720" y="3996720"/>
                  <a:ext cx="0" cy="70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 flipH="1">
                  <a:off x="1898640" y="3997080"/>
                  <a:ext cx="1486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3384720" y="3997080"/>
                  <a:ext cx="744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 flipV="1">
                  <a:off x="4129200" y="3641400"/>
                  <a:ext cx="0" cy="35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4129200" y="3643200"/>
                  <a:ext cx="742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 flipV="1">
                  <a:off x="4871880" y="3285720"/>
                  <a:ext cx="0" cy="355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4" name=""/>
              <p:cNvSpPr/>
              <p:nvPr/>
            </p:nvSpPr>
            <p:spPr>
              <a:xfrm>
                <a:off x="1908000" y="4724280"/>
                <a:ext cx="1440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" name=""/>
            <p:cNvSpPr/>
            <p:nvPr/>
          </p:nvSpPr>
          <p:spPr>
            <a:xfrm>
              <a:off x="4859280" y="3284640"/>
              <a:ext cx="3168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3924360" y="3500280"/>
            <a:ext cx="431640" cy="72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539640" y="2492280"/>
            <a:ext cx="7524720" cy="2667240"/>
            <a:chOff x="539640" y="2492280"/>
            <a:chExt cx="7524720" cy="2667240"/>
          </a:xfrm>
        </p:grpSpPr>
        <p:grpSp>
          <p:nvGrpSpPr>
            <p:cNvPr id="308" name=""/>
            <p:cNvGrpSpPr/>
            <p:nvPr/>
          </p:nvGrpSpPr>
          <p:grpSpPr>
            <a:xfrm>
              <a:off x="539640" y="2492280"/>
              <a:ext cx="7380360" cy="2667240"/>
              <a:chOff x="539640" y="2492280"/>
              <a:chExt cx="7380360" cy="2667240"/>
            </a:xfrm>
          </p:grpSpPr>
          <p:grpSp>
            <p:nvGrpSpPr>
              <p:cNvPr id="309" name=""/>
              <p:cNvGrpSpPr/>
              <p:nvPr/>
            </p:nvGrpSpPr>
            <p:grpSpPr>
              <a:xfrm>
                <a:off x="539640" y="2492280"/>
                <a:ext cx="6775200" cy="2667240"/>
                <a:chOff x="539640" y="2492280"/>
                <a:chExt cx="6775200" cy="266724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4836960" y="3289320"/>
                  <a:ext cx="743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 flipV="1">
                  <a:off x="5580000" y="2933640"/>
                  <a:ext cx="0" cy="35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5580000" y="2935440"/>
                  <a:ext cx="744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flipV="1">
                  <a:off x="6324480" y="2579400"/>
                  <a:ext cx="0" cy="212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5332320" y="4883040"/>
                  <a:ext cx="1982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3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flipH="1">
                  <a:off x="1861920" y="2581200"/>
                  <a:ext cx="446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539640" y="2492280"/>
                  <a:ext cx="1982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PM(2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7" name=""/>
              <p:cNvSpPr/>
              <p:nvPr/>
            </p:nvSpPr>
            <p:spPr>
              <a:xfrm flipV="1">
                <a:off x="6324480" y="2579760"/>
                <a:ext cx="0" cy="355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335640" y="2557440"/>
                <a:ext cx="158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614920" y="3133800"/>
              <a:ext cx="2449440" cy="28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6" dur="5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00000" y="366480"/>
            <a:ext cx="82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Mujeres e Independiente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258560" y="1052280"/>
            <a:ext cx="746748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4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ujeres: los instrumentos anteriores solo marginalmente corrigen los problemas de género. Estos deberán ser tratados separadamente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ños de GEPM por hijo nacido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4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dependiente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ault option” en la declaración de impuestos.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2" name=""/>
          <p:cNvSpPr/>
          <p:nvPr/>
        </p:nvSpPr>
        <p:spPr>
          <a:xfrm>
            <a:off x="1116000" y="4076640"/>
            <a:ext cx="8028000" cy="825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ación de protección con incentivos a cotizar necesitará recursos públ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116000" y="5013360"/>
            <a:ext cx="8028000" cy="13816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 totalmente inviable promover la cotiz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 disminuir barreras a la entrada y un ambiente de mayor compet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71280" y="144000"/>
            <a:ext cx="799308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¿Buena competencia, es posible?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1393920"/>
            <a:ext cx="4427640" cy="3330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333399"/>
                </a:solidFill>
                <a:uFillTx/>
                <a:latin typeface="Arial"/>
              </a:rPr>
              <a:t>OFE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Giro único garantizado por ley: No se pueden aprovechar eventuales economías de ámbito completa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Importantes economías de escala: No se pueden aprovechar completamente si no se subcontratan funciones o la industria se concentra fuerte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748040" y="1413000"/>
            <a:ext cx="4395960" cy="33112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ffffff"/>
                </a:solidFill>
                <a:uFillTx/>
                <a:latin typeface="Arial"/>
              </a:rPr>
              <a:t>DEM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Obligación de consumi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Producto de difícil comprensión para la gran mayoría de los afili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Indiferencia por producto, induce poca demanda espontánea por información. Deficiente calidad de és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340000" y="4724280"/>
            <a:ext cx="4406760" cy="119124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Barrera a la entrada: masa crítica mínima difícil de obtener por demanda cautiva (alto costo, ventaja de incumben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897200" y="43920"/>
            <a:ext cx="713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General aspects of the Chilean pension system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2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Multipillar system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Pillar 1: Old age poverty prevention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Contributory Minimum pension State-guaranteed (20 yr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Non contributory means tested basic pension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Pillar 2: Consumption smoothing, mandatory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 Unicode MS"/>
                <a:hlinkClick r:id="rId1" action="ppaction://hlinksldjump"/>
              </a:rPr>
              <a:t>AFP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 (acumulación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CSV (desacumulación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Pillar 3: Consumption smoothing, voluntary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AFP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Life Insurance Companies (LIC)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Mutual Funds, broker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00000" y="448560"/>
            <a:ext cx="8244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Gráfico simple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9" name=""/>
          <p:cNvSpPr/>
          <p:nvPr/>
        </p:nvSpPr>
        <p:spPr>
          <a:xfrm>
            <a:off x="2268360" y="1773360"/>
            <a:ext cx="0" cy="35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268360" y="5300640"/>
            <a:ext cx="518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2205000"/>
            <a:ext cx="5160960" cy="2244600"/>
          </a:xfrm>
          <a:custGeom>
            <a:avLst/>
            <a:gdLst/>
            <a:ahLst/>
            <a:rect l="l" t="t" r="r" b="b"/>
            <a:pathLst>
              <a:path w="3251" h="1414">
                <a:moveTo>
                  <a:pt x="0" y="0"/>
                </a:moveTo>
                <a:cubicBezTo>
                  <a:pt x="193" y="408"/>
                  <a:pt x="386" y="816"/>
                  <a:pt x="862" y="1043"/>
                </a:cubicBezTo>
                <a:cubicBezTo>
                  <a:pt x="1338" y="1270"/>
                  <a:pt x="2465" y="1308"/>
                  <a:pt x="2858" y="1361"/>
                </a:cubicBezTo>
                <a:cubicBezTo>
                  <a:pt x="3251" y="1414"/>
                  <a:pt x="3235" y="1387"/>
                  <a:pt x="3220" y="136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308720" y="4149720"/>
            <a:ext cx="792360" cy="57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340000" y="2637000"/>
            <a:ext cx="4176720" cy="2087280"/>
          </a:xfrm>
          <a:custGeom>
            <a:avLst/>
            <a:gdLst/>
            <a:ahLst/>
            <a:rect l="l" t="t" r="r" b="b"/>
            <a:pathLst>
              <a:path w="2594" h="1383">
                <a:moveTo>
                  <a:pt x="99" y="0"/>
                </a:moveTo>
                <a:cubicBezTo>
                  <a:pt x="49" y="487"/>
                  <a:pt x="0" y="975"/>
                  <a:pt x="416" y="1179"/>
                </a:cubicBezTo>
                <a:cubicBezTo>
                  <a:pt x="832" y="1383"/>
                  <a:pt x="2239" y="1217"/>
                  <a:pt x="2594" y="122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067280" y="2060640"/>
            <a:ext cx="431640" cy="316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00000" y="448560"/>
            <a:ext cx="8244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Gráfico simple demanda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6" name=""/>
          <p:cNvSpPr/>
          <p:nvPr/>
        </p:nvSpPr>
        <p:spPr>
          <a:xfrm>
            <a:off x="2268360" y="1773360"/>
            <a:ext cx="0" cy="35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268360" y="5300640"/>
            <a:ext cx="518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556000" y="2205000"/>
            <a:ext cx="5160960" cy="2244600"/>
          </a:xfrm>
          <a:custGeom>
            <a:avLst/>
            <a:gdLst/>
            <a:ahLst/>
            <a:rect l="l" t="t" r="r" b="b"/>
            <a:pathLst>
              <a:path w="3251" h="1414">
                <a:moveTo>
                  <a:pt x="0" y="0"/>
                </a:moveTo>
                <a:cubicBezTo>
                  <a:pt x="193" y="408"/>
                  <a:pt x="386" y="816"/>
                  <a:pt x="862" y="1043"/>
                </a:cubicBezTo>
                <a:cubicBezTo>
                  <a:pt x="1338" y="1270"/>
                  <a:pt x="2465" y="1308"/>
                  <a:pt x="2858" y="1361"/>
                </a:cubicBezTo>
                <a:cubicBezTo>
                  <a:pt x="3251" y="1414"/>
                  <a:pt x="3235" y="1387"/>
                  <a:pt x="3220" y="136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308720" y="4149720"/>
            <a:ext cx="792360" cy="57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340000" y="2637000"/>
            <a:ext cx="4176720" cy="2087280"/>
          </a:xfrm>
          <a:custGeom>
            <a:avLst/>
            <a:gdLst/>
            <a:ahLst/>
            <a:rect l="l" t="t" r="r" b="b"/>
            <a:pathLst>
              <a:path w="2594" h="1383">
                <a:moveTo>
                  <a:pt x="99" y="0"/>
                </a:moveTo>
                <a:cubicBezTo>
                  <a:pt x="49" y="487"/>
                  <a:pt x="0" y="975"/>
                  <a:pt x="416" y="1179"/>
                </a:cubicBezTo>
                <a:cubicBezTo>
                  <a:pt x="832" y="1383"/>
                  <a:pt x="2239" y="1217"/>
                  <a:pt x="2594" y="122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067280" y="2060640"/>
            <a:ext cx="431640" cy="316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987640" y="2060640"/>
            <a:ext cx="2158920" cy="309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1557360"/>
            <a:ext cx="33112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ara darle elasticidad a la deman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ejorar inform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icitación (clientes margin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9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00000" y="448560"/>
            <a:ext cx="8244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Gráfico simple oferta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5" name=""/>
          <p:cNvSpPr/>
          <p:nvPr/>
        </p:nvSpPr>
        <p:spPr>
          <a:xfrm>
            <a:off x="2268360" y="1773360"/>
            <a:ext cx="0" cy="35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268360" y="5300640"/>
            <a:ext cx="518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556000" y="2205000"/>
            <a:ext cx="5160960" cy="2244600"/>
          </a:xfrm>
          <a:custGeom>
            <a:avLst/>
            <a:gdLst/>
            <a:ahLst/>
            <a:rect l="l" t="t" r="r" b="b"/>
            <a:pathLst>
              <a:path w="3251" h="1414">
                <a:moveTo>
                  <a:pt x="0" y="0"/>
                </a:moveTo>
                <a:cubicBezTo>
                  <a:pt x="193" y="408"/>
                  <a:pt x="386" y="816"/>
                  <a:pt x="862" y="1043"/>
                </a:cubicBezTo>
                <a:cubicBezTo>
                  <a:pt x="1338" y="1270"/>
                  <a:pt x="2465" y="1308"/>
                  <a:pt x="2858" y="1361"/>
                </a:cubicBezTo>
                <a:cubicBezTo>
                  <a:pt x="3251" y="1414"/>
                  <a:pt x="3235" y="1387"/>
                  <a:pt x="3220" y="136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308720" y="4149720"/>
            <a:ext cx="792360" cy="57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87640" y="2060640"/>
            <a:ext cx="2158920" cy="309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508720" y="1268280"/>
            <a:ext cx="3311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ara disminuir esca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ubcontratación de servicios ¿cuá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076720" y="2565360"/>
            <a:ext cx="3816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Los que determine un esquema flexible y con fuerte presión de prec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316240" y="2492280"/>
            <a:ext cx="4992480" cy="2065320"/>
          </a:xfrm>
          <a:custGeom>
            <a:avLst/>
            <a:gdLst/>
            <a:ahLst/>
            <a:rect l="l" t="t" r="r" b="b"/>
            <a:pathLst>
              <a:path w="3145" h="1301">
                <a:moveTo>
                  <a:pt x="60" y="0"/>
                </a:moveTo>
                <a:cubicBezTo>
                  <a:pt x="30" y="438"/>
                  <a:pt x="0" y="877"/>
                  <a:pt x="514" y="1089"/>
                </a:cubicBezTo>
                <a:cubicBezTo>
                  <a:pt x="1028" y="1301"/>
                  <a:pt x="2707" y="1240"/>
                  <a:pt x="3145" y="127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84360" y="5592600"/>
            <a:ext cx="7885080" cy="1015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ere : (a) regulación de precios de provee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) Licitación de sus servicios a escala sistémica (S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9" dur="300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300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6732720" y="5589720"/>
            <a:ext cx="2411280" cy="71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00000" y="366480"/>
            <a:ext cx="82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La Licitación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042560" y="1481040"/>
            <a:ext cx="8101080" cy="47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4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ecanismo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4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pcional para AFP incumbentes y entrante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4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 discriminatorio y voluntario para todos los afiliados antiguo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4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uchas formas de inscripción, Internet, adscripción por default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4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nor “precio licitado” gana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4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centivo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4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rante: llegar más rápido al break even point, ahora más cercano (principal barrera a la entrada)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4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filiado: descuento por permanencia (c/condiciones de salida) realizado por adelantado (rebate) en un pago en efectivo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4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esguardo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4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bate no puede ser muy bajo porque el costo de salida del afiliado es proporcional al rebate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4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láusula de arrastre: descuento máximo, más allá del cual se gatilla beneficio a todos los afiliado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4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ecio licitado” fijo para la AFP por todo el período de licitación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00000" y="366480"/>
            <a:ext cx="82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Más medidas pro competencia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332000" y="1801440"/>
            <a:ext cx="7696080" cy="34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4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iminación comisión fija: transparencia, simplicidad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ganancia en la demanda superior a distorsión en la oferta)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4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icitación global del Seguro de Invalidez y Sobrevivencia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4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ás transparencia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4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necesariamente menor precio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4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ás incentivo a cubrir personas de bajo ingreso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4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raduación temporal de requisito de Encaje para entrante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4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mpliación temporal de banda de rentabilidad mínima y máxima para entrante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Bancos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0" name=""/>
          <p:cNvSpPr/>
          <p:nvPr/>
        </p:nvSpPr>
        <p:spPr>
          <a:xfrm>
            <a:off x="468360" y="1616040"/>
            <a:ext cx="8136000" cy="457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Licuación de fondos: ventas at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Conflictos de interé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manejo de fondos propios, administración fondos de terc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Riesgo sistémico: buy-sell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Competencia: ingreso probable, qué pasa despu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Cobertura: no se prevé gana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AFP Estatal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2" name=""/>
          <p:cNvSpPr/>
          <p:nvPr/>
        </p:nvSpPr>
        <p:spPr>
          <a:xfrm>
            <a:off x="468360" y="1616040"/>
            <a:ext cx="8064360" cy="52599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Licuación de fondos: ventas at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Conflictos de interé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manejo de fondos propios, administración fondos de terc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políticas del gobier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Riesgo sistémico: buy-sell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Competencia: ingreso probable, qué pasa despu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Cobertura: seguridad que da el Estado, pero eso no cambia iliquidez del ahorro previsional, ni el mercado del tr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07280" cy="41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 Unicode MS"/>
              </a:rPr>
              <a:t>2. Regulación a las inversiones compleja y poco flexible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1% de mayor rentabilidad en toda la vida significa más de 20% de mayor pensión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Estructura de límites compleja (94 x fondo), induce cierta delegación de responsabilidad en la autoridad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i se hubiera permitido optimizar en cada minuto, el fondo global sería más de 10% superior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No existe metodología común de medición de riesgo y no conocemos el riesgo de las pensiones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4" name=""/>
          <p:cNvSpPr/>
          <p:nvPr/>
        </p:nvSpPr>
        <p:spPr>
          <a:xfrm>
            <a:off x="1979640" y="188640"/>
            <a:ext cx="699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Problemas endógenos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del sistema de pension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187280" y="5661000"/>
            <a:ext cx="691380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izar el proceso de inversión de los Fon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394920" y="1700280"/>
            <a:ext cx="8280360" cy="28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 Unicode MS"/>
              </a:rPr>
              <a:t>3. Generar un primer pilar inteligente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GPM a 20 años no es incitativa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Topping-up implica un gran impuesto a las contribuciones marginales una vez que se cumplió el requisito de 20 años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40-50% de la gente no alcanzaría a tener acceso a GPM (algunos nunca habrían tenido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7" name=""/>
          <p:cNvSpPr/>
          <p:nvPr/>
        </p:nvSpPr>
        <p:spPr>
          <a:xfrm>
            <a:off x="1979640" y="188640"/>
            <a:ext cx="699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Problemas endógenos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del sistema de pension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332000" y="4941720"/>
            <a:ext cx="676908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¿Graduación de P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¿Pensión básica univers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nanci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960480" y="3800520"/>
            <a:ext cx="7200720" cy="29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uillermo Larrain Rio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uperintendente de AFP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sentación para el Magíster en Políticas Pública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antiago, 15 de noviembre de 2005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0" name=""/>
          <p:cNvSpPr/>
          <p:nvPr/>
        </p:nvSpPr>
        <p:spPr>
          <a:xfrm>
            <a:off x="1187280" y="2183760"/>
            <a:ext cx="6840720" cy="1312920"/>
          </a:xfrm>
          <a:prstGeom prst="rect">
            <a:avLst/>
          </a:prstGeom>
          <a:solidFill>
            <a:srgbClr val="333399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 Unicode MS"/>
              </a:rPr>
              <a:t>Reflexiones sobre el Sistema Previsional Chile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619280" y="20520"/>
            <a:ext cx="748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Unicode MS"/>
              </a:rPr>
              <a:t>La reforma de pensiones ha sido un éxito financiero indud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0920" y="1504800"/>
            <a:ext cx="3960720" cy="642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etorno promedio en activos : 10,2% re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7920" y="1504800"/>
            <a:ext cx="4440240" cy="642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ctivos alcanzan a USD 69 mil mill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0" y="2185920"/>
          <a:ext cx="4572000" cy="433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185920"/>
                    <a:ext cx="4572000" cy="43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0" y="2276640"/>
          <a:ext cx="4572000" cy="4176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276640"/>
                    <a:ext cx="457200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8960" y="144756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Modelo Corbo/Schmidt-Hebb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" name=""/>
          <p:cNvSpPr/>
          <p:nvPr/>
        </p:nvSpPr>
        <p:spPr>
          <a:xfrm>
            <a:off x="271440" y="3651840"/>
            <a:ext cx="1752480" cy="703800"/>
          </a:xfrm>
          <a:prstGeom prst="flowChartProcess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Reforma de pens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28840" y="2379960"/>
            <a:ext cx="1752480" cy="703800"/>
          </a:xfrm>
          <a:prstGeom prst="flowChartProcess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Mercado del Tra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3240" y="3980160"/>
            <a:ext cx="1828800" cy="70380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Desarrollo financi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3240" y="5093280"/>
            <a:ext cx="1219320" cy="39888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Ahor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843440" y="5093280"/>
            <a:ext cx="1676520" cy="39888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Inver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29240" y="4178880"/>
            <a:ext cx="914400" cy="39888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PT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386240" y="2913480"/>
            <a:ext cx="1676520" cy="70380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mpleo to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309920" y="2045160"/>
            <a:ext cx="2362320" cy="39888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Formal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6360" y="5062680"/>
            <a:ext cx="2133360" cy="100872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Financiamiento público de la transi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900840" y="3416760"/>
            <a:ext cx="2057400" cy="39888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reci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"/>
          <p:cNvCxnSpPr>
            <a:stCxn id="72" idx="3"/>
            <a:endCxn id="75" idx="1"/>
          </p:cNvCxnSpPr>
          <p:nvPr/>
        </p:nvCxnSpPr>
        <p:spPr>
          <a:xfrm>
            <a:off x="2023560" y="4003200"/>
            <a:ext cx="1220040" cy="1289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" name=""/>
          <p:cNvCxnSpPr>
            <a:stCxn id="73" idx="3"/>
            <a:endCxn id="79" idx="1"/>
          </p:cNvCxnSpPr>
          <p:nvPr/>
        </p:nvCxnSpPr>
        <p:spPr>
          <a:xfrm flipV="1">
            <a:off x="4080960" y="2244240"/>
            <a:ext cx="229320" cy="488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" name=""/>
          <p:cNvCxnSpPr>
            <a:stCxn id="73" idx="3"/>
            <a:endCxn id="78" idx="1"/>
          </p:cNvCxnSpPr>
          <p:nvPr/>
        </p:nvCxnSpPr>
        <p:spPr>
          <a:xfrm>
            <a:off x="4080960" y="2732040"/>
            <a:ext cx="305640" cy="534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74" idx="3"/>
            <a:endCxn id="77" idx="1"/>
          </p:cNvCxnSpPr>
          <p:nvPr/>
        </p:nvCxnSpPr>
        <p:spPr>
          <a:xfrm>
            <a:off x="5072040" y="4332240"/>
            <a:ext cx="457920" cy="46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"/>
          <p:cNvCxnSpPr>
            <a:stCxn id="75" idx="3"/>
            <a:endCxn id="76" idx="1"/>
          </p:cNvCxnSpPr>
          <p:nvPr/>
        </p:nvCxnSpPr>
        <p:spPr>
          <a:xfrm>
            <a:off x="4462560" y="5292360"/>
            <a:ext cx="3816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79" idx="3"/>
            <a:endCxn id="81" idx="1"/>
          </p:cNvCxnSpPr>
          <p:nvPr/>
        </p:nvCxnSpPr>
        <p:spPr>
          <a:xfrm>
            <a:off x="6671880" y="2244600"/>
            <a:ext cx="229320" cy="13723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88" name=""/>
          <p:cNvCxnSpPr>
            <a:stCxn id="78" idx="3"/>
            <a:endCxn id="81" idx="1"/>
          </p:cNvCxnSpPr>
          <p:nvPr/>
        </p:nvCxnSpPr>
        <p:spPr>
          <a:xfrm>
            <a:off x="6062760" y="3265560"/>
            <a:ext cx="838800" cy="351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"/>
          <p:cNvCxnSpPr>
            <a:stCxn id="77" idx="3"/>
            <a:endCxn id="81" idx="1"/>
          </p:cNvCxnSpPr>
          <p:nvPr/>
        </p:nvCxnSpPr>
        <p:spPr>
          <a:xfrm flipV="1">
            <a:off x="6443640" y="3615480"/>
            <a:ext cx="457920" cy="762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76" idx="3"/>
            <a:endCxn id="81" idx="1"/>
          </p:cNvCxnSpPr>
          <p:nvPr/>
        </p:nvCxnSpPr>
        <p:spPr>
          <a:xfrm flipV="1">
            <a:off x="6519960" y="3615480"/>
            <a:ext cx="381600" cy="16772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91" name=""/>
          <p:cNvCxnSpPr>
            <a:stCxn id="72" idx="3"/>
            <a:endCxn id="74" idx="1"/>
          </p:cNvCxnSpPr>
          <p:nvPr/>
        </p:nvCxnSpPr>
        <p:spPr>
          <a:xfrm>
            <a:off x="2023560" y="4003200"/>
            <a:ext cx="1220040" cy="329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72" idx="3"/>
            <a:endCxn id="73" idx="1"/>
          </p:cNvCxnSpPr>
          <p:nvPr/>
        </p:nvCxnSpPr>
        <p:spPr>
          <a:xfrm flipV="1">
            <a:off x="2023560" y="2732040"/>
            <a:ext cx="305640" cy="1271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80" idx="3"/>
            <a:endCxn id="75" idx="1"/>
          </p:cNvCxnSpPr>
          <p:nvPr/>
        </p:nvCxnSpPr>
        <p:spPr>
          <a:xfrm flipV="1">
            <a:off x="2709720" y="5292000"/>
            <a:ext cx="534240" cy="275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908000" y="-228960"/>
            <a:ext cx="7164720" cy="173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Unicode MS"/>
              </a:rPr>
              <a:t>La reforma de pensiones ha tenido importantes efectos macro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5" name=""/>
          <p:cNvSpPr/>
          <p:nvPr/>
        </p:nvSpPr>
        <p:spPr>
          <a:xfrm>
            <a:off x="3054240" y="4913280"/>
            <a:ext cx="3686400" cy="792360"/>
          </a:xfrm>
          <a:prstGeom prst="rect">
            <a:avLst/>
          </a:prstGeom>
          <a:noFill/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54240" y="3900600"/>
            <a:ext cx="3686400" cy="887400"/>
          </a:xfrm>
          <a:prstGeom prst="rect">
            <a:avLst/>
          </a:prstGeom>
          <a:noFill/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39000" y="4535640"/>
            <a:ext cx="177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6600"/>
                </a:solidFill>
                <a:latin typeface="Arial"/>
              </a:rPr>
              <a:t>Fijarse en las causalidad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82520" y="2138400"/>
          <a:ext cx="2855880" cy="354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520" y="2138400"/>
                    <a:ext cx="2855880" cy="35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3263760" y="1646280"/>
          <a:ext cx="5880240" cy="439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63760" y="1646280"/>
                    <a:ext cx="5880240" cy="43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231840" y="5977080"/>
            <a:ext cx="489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Fuente: Corbo y Schmidt-Hebbel (200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8000" y="-228960"/>
            <a:ext cx="7164720" cy="173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Unicode MS"/>
              </a:rPr>
              <a:t>La reforma de pensiones ha tenido importantes efectos macro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835280" y="20520"/>
            <a:ext cx="730872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Diversificación de activos: todos los instrumento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0" y="1187280"/>
          <a:ext cx="9144000" cy="567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87280"/>
                    <a:ext cx="9144000" cy="567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0T19:24:17Z</dcterms:created>
  <dc:creator>safp</dc:creator>
  <dc:description/>
  <dc:language>en-US</dc:language>
  <cp:lastModifiedBy>safp</cp:lastModifiedBy>
  <dcterms:modified xsi:type="dcterms:W3CDTF">2005-11-14T21:44:16Z</dcterms:modified>
  <cp:revision>113</cp:revision>
  <dc:subject/>
  <dc:title>Cobertura, densidad y pensiones en Chile:  Proyecciones a 30 años plazo</dc:title>
</cp:coreProperties>
</file>