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E0387-9E23-455A-A438-84054D303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4B97E-E076-4B1A-8C9C-2755C6BD6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A359C-C41B-4E71-A380-6125A2688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2FDE6-4A94-40EB-8E58-0EA427C21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CD323-AD42-42D6-AC75-A9ED39D46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998E7-6DEA-4EDA-A3A3-864286081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94C8-1844-4082-A9A4-C6DCBE974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4B7BA-2D98-4798-B130-C28E31029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1E397-9B5E-4020-B31D-2333C20B7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15A7-CE24-4A0C-B3E3-0F95CBF8B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63B36-22DF-4605-A944-6933EE20B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BDB6-35EC-4102-8842-5C85573F4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FDA2-77E3-47B8-AB6E-80C16BC0D82E}" type="datetime">
              <a:rPr b="0" lang="es-ES"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9F42-87C4-4D3B-B9A0-95C01CB3DE4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centivos Económicos y Compensació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 69 E y F Sección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a:t>
            </a:r>
            <a:r>
              <a:rPr b="0" lang="es-MX" sz="2000" spc="-1" strike="noStrike">
                <a:solidFill>
                  <a:srgbClr val="000000"/>
                </a:solidFill>
                <a:latin typeface="Times New Roman"/>
              </a:rPr>
              <a:t>	</a:t>
            </a:r>
            <a:r>
              <a:rPr b="0" lang="es-MX" sz="2000" spc="-1" strike="noStrike">
                <a:solidFill>
                  <a:srgbClr val="000000"/>
                </a:solidFill>
                <a:latin typeface="Times New Roman"/>
              </a:rPr>
              <a:t>Emilio Covarrubias Noé</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EE56EE6-A12D-4EDE-ACC7-E0A879626E83}" type="slidenum">
              <a:t>1</a:t>
            </a:fld>
          </a:p>
        </p:txBody>
      </p:sp>
      <p:sp>
        <p:nvSpPr>
          <p:cNvPr id="6" name="PlaceHolder 5"/>
          <p:cNvSpPr>
            <a:spLocks noGrp="1"/>
          </p:cNvSpPr>
          <p:nvPr>
            <p:ph type="dt" idx="1"/>
          </p:nvPr>
        </p:nvSpPr>
        <p:spPr/>
        <p:txBody>
          <a:bodyPr/>
          <a:p>
            <a:fld id="{C68D2AD9-4494-4636-904D-E975F32E427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ncipios Generales para el Diseño de Incentivos Contractuales</a:t>
            </a:r>
            <a:endParaRPr b="0" lang="en-US" sz="3200" spc="-1" strike="noStrike">
              <a:solidFill>
                <a:srgbClr val="000000"/>
              </a:solidFill>
              <a:latin typeface="Times New Roman"/>
            </a:endParaRPr>
          </a:p>
        </p:txBody>
      </p:sp>
      <p:sp>
        <p:nvSpPr>
          <p:cNvPr id="5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Tratamiento del Riesgo</a:t>
            </a:r>
            <a:endParaRPr b="0" lang="en-US" sz="24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subyacentes (Son fuertes y frecuentemente irrea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agentes son racionales, aversos al riesgo y buscan maximizar su riqueza, bajo condiciones de incertidumbre.  Es decir, buscan maximizar el valor equivalente cierto de su riqueza total.</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contrato eficiente se define como uno tal que maximiza el valor equivalente cierto de la riqueza total de todos los agentes que participan en la transacció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suficiente riqueza como para pagar todos sus compromiso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una disposición a pagar bien definida por cualquier producto o servicio y esta disposición a pagar no depende del monto de su riqueza. (Es decir,  elasticidad ingreso de la demanda = 0).</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950EBF2-5262-45A7-B046-C1BF442A2D78}" type="slidenum">
              <a:t>10</a:t>
            </a:fld>
          </a:p>
        </p:txBody>
      </p:sp>
      <p:sp>
        <p:nvSpPr>
          <p:cNvPr id="6" name="PlaceHolder 5"/>
          <p:cNvSpPr>
            <a:spLocks noGrp="1"/>
          </p:cNvSpPr>
          <p:nvPr>
            <p:ph type="dt" idx="1"/>
          </p:nvPr>
        </p:nvSpPr>
        <p:spPr/>
        <p:txBody>
          <a:bodyPr/>
          <a:p>
            <a:fld id="{7781D383-64F8-4C11-837B-C542EDDEC74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último supuesto en condiciones de incertidumbre significa que el premio por riesgo que una persona está dispuesta a pagar por eliminar la variabilidad de un cierto ingreso riesgoso, no debe depender del valor esperado de éste:</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eficiente ARA =  </a:t>
            </a:r>
            <a:r>
              <a:rPr b="0" lang="es-MX" sz="2000" spc="-1" strike="noStrike">
                <a:solidFill>
                  <a:srgbClr val="000000"/>
                </a:solidFill>
                <a:latin typeface="Times New Roman"/>
                <a:ea typeface="Times New Roman"/>
              </a:rPr>
              <a:t>(-U’’(W) / U’(W)) (Absolute Risk Aversión, con W = </a:t>
            </a:r>
            <a:r>
              <a:rPr b="0" lang="es-MX" sz="2000" spc="-1" strike="noStrike">
                <a:solidFill>
                  <a:srgbClr val="000000"/>
                </a:solidFill>
                <a:latin typeface="Times New Roman"/>
              </a:rPr>
              <a:t>E [Wi]) será representado con la notación r(W).</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este no debe depender de E [Wi].   Por tanto, en adelante se asumira que el coeficiente ARA no depende de W, y se expresará simplemente con la letra r.  En consecuenci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valente Cierto de su Riqueza:</a:t>
            </a:r>
            <a:r>
              <a:rPr b="0" lang="es-MX" sz="2000" spc="-1" strike="noStrike" baseline="30000">
                <a:solidFill>
                  <a:srgbClr val="000000"/>
                </a:solidFill>
                <a:latin typeface="Times New Roman"/>
                <a:ea typeface="Times New Roman"/>
              </a:rPr>
              <a:t>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0F12AD2-56F4-4029-810D-DE5F68860A06}" type="slidenum">
              <a:t>11</a:t>
            </a:fld>
          </a:p>
        </p:txBody>
      </p:sp>
      <p:sp>
        <p:nvSpPr>
          <p:cNvPr id="6" name="PlaceHolder 5"/>
          <p:cNvSpPr>
            <a:spLocks noGrp="1"/>
          </p:cNvSpPr>
          <p:nvPr>
            <p:ph type="dt" idx="1"/>
          </p:nvPr>
        </p:nvSpPr>
        <p:spPr/>
        <p:txBody>
          <a:bodyPr/>
          <a:p>
            <a:fld id="{9FE830A8-275F-40A5-9D7E-CBCAAC46871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Pool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ntes de la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post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Spread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de cada participante:</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mos que para cualquier companía de seguros con una gran base de asegurados y para cualquier corporación con gran número de accionistas, es razonable suponer que su tolerancia al riesgo es infinitamente superior que la de cada asegurado o la de cada empleado respectivamente.  Es decir, asumiremos que son instituciones neutrales al riesgo.</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7E56CA8-842F-43FF-9682-0F6F08D40A4A}" type="slidenum">
              <a:t>12</a:t>
            </a:fld>
          </a:p>
        </p:txBody>
      </p:sp>
      <p:sp>
        <p:nvSpPr>
          <p:cNvPr id="6" name="PlaceHolder 5"/>
          <p:cNvSpPr>
            <a:spLocks noGrp="1"/>
          </p:cNvSpPr>
          <p:nvPr>
            <p:ph type="dt" idx="1"/>
          </p:nvPr>
        </p:nvSpPr>
        <p:spPr/>
        <p:txBody>
          <a:bodyPr/>
          <a:p>
            <a:fld id="{EC8F4B1F-F439-4B0F-8B80-223442F89DF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5"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n cualquier contrato en el cual haya que decidir la repartición óptima del riesgo entre la compañía de seguros y el asegurado, o entre la empresa y el empleado, el óptimo es que la institución neutral al riesgo tome todo el riesgo (típicamente el principal: cía. De seguros o empresa), y la parte aversa al riesgo no tome riesgo alguno (típicamente el agente: asegurado o emplea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o, por cuanto el agente neutral al riesgo no incurre en costo alguno de asumir el riesg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a conclusión no toma en consideración los problemas de comportamiento oportunista, por lo tanto no contribuye a su solució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11E1BD5-C03F-43F4-B9E9-D2C6DE8A2A5F}" type="slidenum">
              <a:t>13</a:t>
            </a:fld>
          </a:p>
        </p:txBody>
      </p:sp>
      <p:sp>
        <p:nvSpPr>
          <p:cNvPr id="6" name="PlaceHolder 5"/>
          <p:cNvSpPr>
            <a:spLocks noGrp="1"/>
          </p:cNvSpPr>
          <p:nvPr>
            <p:ph type="dt" idx="1"/>
          </p:nvPr>
        </p:nvSpPr>
        <p:spPr/>
        <p:txBody>
          <a:bodyPr/>
          <a:p>
            <a:fld id="{E29712C5-7EC2-4C24-9648-77EAA19F6FC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seño de Incentivos para Disminuir la Asimetría de Información y el Comportamiento Oportunista</a:t>
            </a:r>
            <a:endParaRPr b="0" lang="en-US" sz="2800" spc="-1" strike="noStrike">
              <a:solidFill>
                <a:srgbClr val="000000"/>
              </a:solidFill>
              <a:latin typeface="Times New Roman"/>
            </a:endParaRPr>
          </a:p>
        </p:txBody>
      </p:sp>
      <p:sp>
        <p:nvSpPr>
          <p:cNvPr id="67"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ido a que los esfuerzos  que realiza un empleado, su inteligencia, honestidad, y muchas otras cualidades suyas, no son fácilmente medibles, típicamente se prefieren las medidas objetivas de desempeño para determinar su remuneració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depender la remuneración de medidas objetivas de desempeño traspasa inevitablemente una cierta cantidad de riesgo al empleado, lo que es ineficiente y causa un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valor económico de la pérdida corresponde a la diferencia entre el premio por riesgo del sistema ineficiente y el del sistema eficient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que introducen sistemas de remuneración por desempeño buscan lograr que el mejor rendimento supere ampliamente est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644A1B5-611F-4D31-9299-2BF15428F9F6}" type="slidenum">
              <a:t>14</a:t>
            </a:fld>
          </a:p>
        </p:txBody>
      </p:sp>
      <p:sp>
        <p:nvSpPr>
          <p:cNvPr id="6" name="PlaceHolder 5"/>
          <p:cNvSpPr>
            <a:spLocks noGrp="1"/>
          </p:cNvSpPr>
          <p:nvPr>
            <p:ph type="dt" idx="1"/>
          </p:nvPr>
        </p:nvSpPr>
        <p:spPr/>
        <p:txBody>
          <a:bodyPr/>
          <a:p>
            <a:fld id="{E53863A9-011B-4CF9-94C8-3ECD2C67FC91}"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a:t>
            </a:r>
            <a:endParaRPr b="0" lang="en-US" sz="3200" spc="-1" strike="noStrike">
              <a:solidFill>
                <a:srgbClr val="000000"/>
              </a:solidFill>
              <a:latin typeface="Times New Roman"/>
            </a:endParaRPr>
          </a:p>
        </p:txBody>
      </p:sp>
      <p:sp>
        <p:nvSpPr>
          <p:cNvPr id="69"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 deberá realizar un cierto esfuerzo “e” incurriendo en un costo personal C(e) para lograr un desempeño acorde con los objetivos del empleador.</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contribuye directamente a aumentar la utilidad P (Profit) de la empresa, P = P(e) .  A mayor e, mayor P. Pero no es indispensable conocer exactamente la función P(e). Ésta puede entenderse como la percepción subjetiva que tiene el empleador del efecto de “e” en P.  SI la relación es aleatoria, entonces P(e) será el valor esperado de las utilidades cuando un esfuerzo “e” es ejercido por el emplead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es una magnitud cardinal (cuantificable) aunque pudiera ser imposible de medir. De hecho si “e” fuera fácilmente medible, la remuneración podría hacerse dependiente de “e” sin traspasar riesgo alguno al empleado.</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EA39C43-6957-43C4-BC58-286427A6CE5B}" type="slidenum">
              <a:t>15</a:t>
            </a:fld>
          </a:p>
        </p:txBody>
      </p:sp>
      <p:sp>
        <p:nvSpPr>
          <p:cNvPr id="6" name="PlaceHolder 5"/>
          <p:cNvSpPr>
            <a:spLocks noGrp="1"/>
          </p:cNvSpPr>
          <p:nvPr>
            <p:ph type="dt" idx="1"/>
          </p:nvPr>
        </p:nvSpPr>
        <p:spPr/>
        <p:txBody>
          <a:bodyPr/>
          <a:p>
            <a:fld id="{2D3A6276-CA84-48DC-B5DE-B1503F3A882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 (Cont.)</a:t>
            </a:r>
            <a:endParaRPr b="0" lang="en-US" sz="3200" spc="-1" strike="noStrike">
              <a:solidFill>
                <a:srgbClr val="000000"/>
              </a:solidFill>
              <a:latin typeface="Times New Roman"/>
            </a:endParaRPr>
          </a:p>
        </p:txBody>
      </p:sp>
      <p:sp>
        <p:nvSpPr>
          <p:cNvPr id="71"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medidas imperfectas de “e”, tal vez contaminadas con señales aleatorias fuera del control del emplead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otros indicadores de factores que influyen el desempeño pero que no son controlables por el empleado, por ej.  Las condiciones generales de la economí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indicador de esfuerzo observable se puede expresar de la siguiente forma:</a:t>
            </a:r>
            <a:endParaRPr b="0" lang="en-US" sz="20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z = e + x</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al qu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 Variable aleatoria</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y: Indicador observable, no influenciable por el esfuerzo “e” pero posiblemente relacionada con x (estadísticament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ótese que ni “e” ni “x” son directamente observables, sólo “z”, su suma, lo es.</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7FF3915-66E4-4040-9E31-68F4C672B731}" type="slidenum">
              <a:t>16</a:t>
            </a:fld>
          </a:p>
        </p:txBody>
      </p:sp>
      <p:sp>
        <p:nvSpPr>
          <p:cNvPr id="6" name="PlaceHolder 5"/>
          <p:cNvSpPr>
            <a:spLocks noGrp="1"/>
          </p:cNvSpPr>
          <p:nvPr>
            <p:ph type="dt" idx="1"/>
          </p:nvPr>
        </p:nvSpPr>
        <p:spPr/>
        <p:txBody>
          <a:bodyPr/>
          <a:p>
            <a:fld id="{27C7F261-52F7-4094-A172-7AE7D849F1F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68000"/>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 = E[y] = 0</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z] = E[e + x] = E[e]  + E[x] = E[e] = e</a:t>
            </a:r>
            <a:endParaRPr b="0" lang="en-US" sz="2000" spc="-1" strike="noStrike">
              <a:solidFill>
                <a:srgbClr val="000000"/>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 Modelo lineal de compensación:</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w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z + </a:t>
            </a:r>
            <a:r>
              <a:rPr b="1" lang="es-MX" sz="2000" spc="-1" strike="noStrike">
                <a:solidFill>
                  <a:srgbClr val="000000"/>
                </a:solidFill>
                <a:latin typeface="Symbol"/>
                <a:ea typeface="Symbol"/>
              </a:rPr>
              <a:t></a:t>
            </a:r>
            <a:r>
              <a:rPr b="1" lang="es-MX" sz="2000" spc="-1" strike="noStrike">
                <a:solidFill>
                  <a:srgbClr val="000000"/>
                </a:solidFill>
                <a:latin typeface="Times New Roman"/>
              </a:rPr>
              <a:t> y)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e + x + </a:t>
            </a:r>
            <a:r>
              <a:rPr b="1" lang="es-MX" sz="2000" spc="-1" strike="noStrike">
                <a:solidFill>
                  <a:srgbClr val="000000"/>
                </a:solidFill>
                <a:latin typeface="Symbol"/>
                <a:ea typeface="Symbol"/>
              </a:rPr>
              <a:t></a:t>
            </a:r>
            <a:r>
              <a:rPr b="1"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salario;  </a:t>
            </a:r>
            <a:r>
              <a:rPr b="0" lang="es-MX" sz="2000" spc="-1" strike="noStrike">
                <a:solidFill>
                  <a:srgbClr val="000000"/>
                </a:solidFill>
                <a:latin typeface="Symbol"/>
                <a:ea typeface="Symbol"/>
              </a:rPr>
              <a:t></a:t>
            </a:r>
            <a:r>
              <a:rPr b="0" lang="es-MX" sz="2000" spc="-1" strike="noStrike">
                <a:solidFill>
                  <a:srgbClr val="000000"/>
                </a:solidFill>
                <a:latin typeface="Times New Roman"/>
              </a:rPr>
              <a:t> =  salario base fijo; </a:t>
            </a:r>
            <a:r>
              <a:rPr b="0" lang="es-MX" sz="2000" spc="-1" strike="noStrike">
                <a:solidFill>
                  <a:srgbClr val="000000"/>
                </a:solidFill>
                <a:latin typeface="Symbol"/>
                <a:ea typeface="Symbol"/>
              </a:rPr>
              <a:t></a:t>
            </a:r>
            <a:r>
              <a:rPr b="0" lang="es-MX" sz="2000" spc="-1" strike="noStrike">
                <a:solidFill>
                  <a:srgbClr val="000000"/>
                </a:solidFill>
                <a:latin typeface="Times New Roman"/>
              </a:rPr>
              <a:t> = intensidad de los incentivos;</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so relativo de la variable “y” en comparación con “z”.</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tonces   z + </a:t>
            </a:r>
            <a:r>
              <a:rPr b="0" lang="es-MX" sz="2000" spc="-1" strike="noStrike">
                <a:solidFill>
                  <a:srgbClr val="000000"/>
                </a:solidFill>
                <a:latin typeface="Symbol"/>
                <a:ea typeface="Symbol"/>
              </a:rPr>
              <a:t></a:t>
            </a:r>
            <a:r>
              <a:rPr b="0" lang="es-MX" sz="2000" spc="-1" strike="noStrike">
                <a:solidFill>
                  <a:srgbClr val="000000"/>
                </a:solidFill>
                <a:latin typeface="Times New Roman"/>
              </a:rPr>
              <a:t>y  da una estimación del valor de “e”. Además, dados los supuestos: E[w] = E[</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z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z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 </a:t>
            </a:r>
            <a:r>
              <a:rPr b="0" lang="es-MX" sz="2000" spc="-1" strike="noStrike">
                <a:solidFill>
                  <a:srgbClr val="000000"/>
                </a:solidFill>
                <a:latin typeface="Symbol"/>
                <a:ea typeface="Symbol"/>
              </a:rPr>
              <a:t></a:t>
            </a:r>
            <a:r>
              <a:rPr b="0" lang="es-MX" sz="2000" spc="-1" strike="noStrike">
                <a:solidFill>
                  <a:srgbClr val="000000"/>
                </a:solidFill>
                <a:latin typeface="Times New Roman"/>
              </a:rPr>
              <a:t>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o de los aspectos esenciales del diseño de incentivos es definir el peso que tendrá </a:t>
            </a:r>
            <a:r>
              <a:rPr b="0" lang="es-MX" sz="2000" spc="-1" strike="noStrike">
                <a:solidFill>
                  <a:srgbClr val="000000"/>
                </a:solidFill>
                <a:latin typeface="Symbol"/>
                <a:ea typeface="Symbol"/>
              </a:rPr>
              <a:t></a:t>
            </a:r>
            <a:r>
              <a:rPr b="0" lang="es-MX" sz="2000" spc="-1" strike="noStrike">
                <a:solidFill>
                  <a:srgbClr val="000000"/>
                </a:solidFill>
                <a:latin typeface="Times New Roman"/>
              </a:rPr>
              <a:t>si es que tendrá algún peso</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89BD02A-04B3-47C7-9BB9-F4EF4D17A389}" type="slidenum">
              <a:t>17</a:t>
            </a:fld>
          </a:p>
        </p:txBody>
      </p:sp>
      <p:sp>
        <p:nvSpPr>
          <p:cNvPr id="6" name="PlaceHolder 5"/>
          <p:cNvSpPr>
            <a:spLocks noGrp="1"/>
          </p:cNvSpPr>
          <p:nvPr>
            <p:ph type="dt" idx="1"/>
          </p:nvPr>
        </p:nvSpPr>
        <p:spPr/>
        <p:txBody>
          <a:bodyPr/>
          <a:p>
            <a:fld id="{1C712A75-8287-4B70-8B03-676E05CEB29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jemplo esquemático del modelo lineal:</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gam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10.000</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20    </a:t>
            </a:r>
            <a:r>
              <a:rPr b="0" lang="es-MX" sz="2000" spc="-1" strike="noStrike">
                <a:solidFill>
                  <a:srgbClr val="000000"/>
                </a:solidFill>
                <a:latin typeface="Symbol"/>
                <a:ea typeface="Symbol"/>
              </a:rPr>
              <a:t></a:t>
            </a:r>
            <a:r>
              <a:rPr b="0" lang="es-MX" sz="2000" spc="-1" strike="noStrike">
                <a:solidFill>
                  <a:srgbClr val="000000"/>
                </a:solidFill>
                <a:latin typeface="Times New Roman"/>
              </a:rPr>
              <a:t> = 0,5</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la remuneración esperada e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w]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10.000 + $20e</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l empleado realiza un esfuerzo de e = 100, E[w] = $12.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l valor real de w será diferente a E[w] sino no habría incertidumbre: Supongamos que x resulta más favorable  (= 100) pero y resulta peor de lo esperado (= -4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ahora un esfuerzo e = 100 significa una remuneración:</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10.000 + $20 (100 + 100 + 0,5(-400)) = $10.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decir, W no sólo depende del esfuerzo del trabajador sino de eventos inciert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C330CE9-2363-40A6-B2B9-7D18CA67B5EE}" type="slidenum">
              <a:t>18</a:t>
            </a:fld>
          </a:p>
        </p:txBody>
      </p:sp>
      <p:sp>
        <p:nvSpPr>
          <p:cNvPr id="6" name="PlaceHolder 5"/>
          <p:cNvSpPr>
            <a:spLocks noGrp="1"/>
          </p:cNvSpPr>
          <p:nvPr>
            <p:ph type="dt" idx="1"/>
          </p:nvPr>
        </p:nvSpPr>
        <p:spPr/>
        <p:txBody>
          <a:bodyPr/>
          <a:p>
            <a:fld id="{EA905E07-0B36-4511-98D3-2C9742A40837}"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a:t>
            </a:r>
            <a:endParaRPr b="0" lang="en-US" sz="3200" spc="-1" strike="noStrike">
              <a:solidFill>
                <a:srgbClr val="000000"/>
              </a:solidFill>
              <a:latin typeface="Times New Roman"/>
            </a:endParaRPr>
          </a:p>
        </p:txBody>
      </p:sp>
      <p:sp>
        <p:nvSpPr>
          <p:cNvPr id="77"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forma ideal de compensación dependerá siempre de la naturaleza de los esfuerzos que deba hacer el empleado y de las formas disponibles para controlar su desempeño.  Al respecto, cabe recordar que es imposible representar todos los temas relevantes en modelos matemát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modelos lineales son simplificaciones muy populares y funcionan bastante bien en ciertas circunstanci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por ven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a los abogad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gos por niveles de produc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EC8C106-7FC7-49BB-AF3B-301AAFFCF5E9}" type="slidenum">
              <a:t>19</a:t>
            </a:fld>
          </a:p>
        </p:txBody>
      </p:sp>
      <p:sp>
        <p:nvSpPr>
          <p:cNvPr id="6" name="PlaceHolder 5"/>
          <p:cNvSpPr>
            <a:spLocks noGrp="1"/>
          </p:cNvSpPr>
          <p:nvPr>
            <p:ph type="dt" idx="1"/>
          </p:nvPr>
        </p:nvSpPr>
        <p:spPr/>
        <p:txBody>
          <a:bodyPr/>
          <a:p>
            <a:fld id="{DD446195-958C-4146-9439-374CF3E6EA2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a:t>
            </a:r>
            <a:endParaRPr b="0" lang="en-US" sz="3200" spc="-1" strike="noStrike">
              <a:solidFill>
                <a:srgbClr val="000000"/>
              </a:solidFill>
              <a:latin typeface="Times New Roman"/>
            </a:endParaRPr>
          </a:p>
        </p:txBody>
      </p:sp>
      <p:sp>
        <p:nvSpPr>
          <p:cNvPr id="4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Ronald H Coase, Premio Nobel de Economía, en 1937 desarrolló un modelo de firma basado en el hecho que los costos de transacción dan orígen a las firmas en su intento de minimizarlos, y el tamaño de las firmas está dado por la capacidad que tiene el empresario de transar en el mercado incurriendo en los costos de transacción o producir internamente evitando esos costos.</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la búsqueda de evidencias de que la firma, modelada según sus conceptos, existe en el mundo real, Coase analiza profundamente la relación contractual que existe entre el empleador y el empleado.  Y la destaca como ejemplo de eliminación de costos de transacción.</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n embargo esta relación no está excenta de costos de transacción propios.  De hecho es muy difícil para un empleador controlar todo lo que los empleados hacen, por la dificultad del acceso a la información relevante. De hecho los trabajadores están mejor informados que el empleador.</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B6F3614-B8CF-433F-8E12-B206863C73BF}" type="slidenum">
              <a:t>2</a:t>
            </a:fld>
          </a:p>
        </p:txBody>
      </p:sp>
      <p:sp>
        <p:nvSpPr>
          <p:cNvPr id="6" name="PlaceHolder 5"/>
          <p:cNvSpPr>
            <a:spLocks noGrp="1"/>
          </p:cNvSpPr>
          <p:nvPr>
            <p:ph type="dt" idx="1"/>
          </p:nvPr>
        </p:nvSpPr>
        <p:spPr/>
        <p:txBody>
          <a:bodyPr/>
          <a:p>
            <a:fld id="{FAFC44D9-DE4C-4CE8-81A2-47005673C1C7}"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 (Cont.)</a:t>
            </a:r>
            <a:endParaRPr b="0" lang="en-US" sz="3200" spc="-1" strike="noStrike">
              <a:solidFill>
                <a:srgbClr val="000000"/>
              </a:solidFill>
              <a:latin typeface="Times New Roman"/>
            </a:endParaRPr>
          </a:p>
        </p:txBody>
      </p:sp>
      <p:sp>
        <p:nvSpPr>
          <p:cNvPr id="79"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lidades del modelo linea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simples de entender y administrar, ambos aspectos son esenciales para la efectividad de los sistemas de incen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comparación con un modelo no lineal típico: pago de bonos por cumplimiento de metas de vent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a gran desventaja es que, una vez cumplida la meta, no hay incentivo a superarla.  En cambio el modelo lineal aplica una motivación contínua a seguir mejorando, independientemente de cuán rápido se pueda haber cumplido una meta establec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75F98F3-8E44-4EB3-A2C9-B9EA3D62F1ED}" type="slidenum">
              <a:t>20</a:t>
            </a:fld>
          </a:p>
        </p:txBody>
      </p:sp>
      <p:sp>
        <p:nvSpPr>
          <p:cNvPr id="6" name="PlaceHolder 5"/>
          <p:cNvSpPr>
            <a:spLocks noGrp="1"/>
          </p:cNvSpPr>
          <p:nvPr>
            <p:ph type="dt" idx="1"/>
          </p:nvPr>
        </p:nvSpPr>
        <p:spPr/>
        <p:txBody>
          <a:bodyPr/>
          <a:p>
            <a:fld id="{222D9F51-C5CE-48F6-B797-CF93631DBA27}"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en Modelo Lineal Básico</a:t>
            </a:r>
            <a:endParaRPr b="0" lang="en-US" sz="3200" spc="-1" strike="noStrike">
              <a:solidFill>
                <a:srgbClr val="000000"/>
              </a:solidFill>
              <a:latin typeface="Times New Roman"/>
            </a:endParaRPr>
          </a:p>
        </p:txBody>
      </p:sp>
      <p:sp>
        <p:nvSpPr>
          <p:cNvPr id="8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sando nuestro modelo lineal básico, lo podemos caracterizar por los parámetros: (e, </a:t>
            </a:r>
            <a:r>
              <a:rPr b="0" lang="es-MX" sz="2000" spc="-1" strike="noStrike">
                <a:solidFill>
                  <a:srgbClr val="000000"/>
                </a:solidFill>
                <a:latin typeface="Symbol"/>
                <a:ea typeface="Symbol"/>
              </a:rPr>
              <a:t></a:t>
            </a:r>
            <a:r>
              <a:rPr b="0" lang="es-MX" sz="2000" spc="-1" strike="noStrike">
                <a:solidFill>
                  <a:srgbClr val="000000"/>
                </a:solidFill>
                <a:latin typeface="Times New Roman"/>
              </a:rPr>
              <a:t>) que especifícan el nivel de esfuerzo que el empleador espera que el empleado haga  y cómo será remunerado en función de su desempeñ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a:t>
            </a:r>
            <a:r>
              <a:rPr b="0" lang="es-MX" sz="2000" spc="-1" strike="noStrike">
                <a:solidFill>
                  <a:srgbClr val="000000"/>
                </a:solidFill>
                <a:latin typeface="Times New Roman"/>
              </a:rPr>
              <a:t> será su remuneración esperada menos el costo personal del esfuerzo y menos cualqioer premio por riesgo que exist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w]  - C(e) - </a:t>
            </a:r>
            <a:r>
              <a:rPr b="0" lang="es-MX" sz="2000" spc="-1" strike="noStrike">
                <a:solidFill>
                  <a:srgbClr val="000000"/>
                </a:solidFill>
                <a:latin typeface="Times New Roman"/>
                <a:ea typeface="Times New Roman"/>
              </a:rPr>
              <a:t>½ r Var[</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r</a:t>
            </a:r>
            <a:r>
              <a:rPr b="0" lang="es-MX" sz="2000" spc="-1" strike="noStrike">
                <a:solidFill>
                  <a:srgbClr val="000000"/>
                </a:solidFill>
                <a:latin typeface="Times New Roman"/>
              </a:rPr>
              <a:t>, si es aproximadamente neutral al riesgo, será su utilidad bruta esperada menos el costo de la remuneración esperad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P(e)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6162F4E-9EC2-4154-895D-4A1E55B666BA}" type="slidenum">
              <a:t>21</a:t>
            </a:fld>
          </a:p>
        </p:txBody>
      </p:sp>
      <p:sp>
        <p:nvSpPr>
          <p:cNvPr id="6" name="PlaceHolder 5"/>
          <p:cNvSpPr>
            <a:spLocks noGrp="1"/>
          </p:cNvSpPr>
          <p:nvPr>
            <p:ph type="dt" idx="1"/>
          </p:nvPr>
        </p:nvSpPr>
        <p:spPr/>
        <p:txBody>
          <a:bodyPr/>
          <a:p>
            <a:fld id="{24C3F667-E7A8-42C2-93D9-70FCB7AA160B}"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79000"/>
          </a:bodyPr>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 consecuencia, un contrato eficiente debe especificar los parámetros que maximicen el valor equivalente cierto de la suma de los ingresos de ambas partes. Es decir:</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ricciones:</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ivel del esfuerzo debe ser compatible con los incentivos que se están dando al empleado. </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adicionales:</a:t>
            </a:r>
            <a:endParaRPr b="0" lang="en-US" sz="20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costos C(e) varían suavemente con el nivel de “e”.</a:t>
            </a:r>
            <a:endParaRPr b="0" lang="en-US" sz="18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e) &gt; 0   y  C’’(e)  &gt; 0</a:t>
            </a:r>
            <a:endParaRPr b="0" lang="en-US" sz="18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ondición de 1er orden de max. de la riqueza equivalente cierta del empleado es: d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de = 0</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 por tanto </a:t>
            </a:r>
            <a:r>
              <a:rPr b="0" lang="es-MX" sz="2000" spc="-1" strike="noStrike">
                <a:solidFill>
                  <a:srgbClr val="000000"/>
                </a:solidFill>
                <a:latin typeface="Symbol"/>
                <a:ea typeface="Symbol"/>
              </a:rPr>
              <a:t></a:t>
            </a:r>
            <a:r>
              <a:rPr b="0" lang="es-MX" sz="2000" spc="-1" strike="noStrike">
                <a:solidFill>
                  <a:srgbClr val="000000"/>
                </a:solidFill>
                <a:latin typeface="Times New Roman"/>
              </a:rPr>
              <a:t> = C’(e)</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restricción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se llama restricción de incentivo.</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AF54E5C-63D4-43E2-A867-F876FA557F4E}" type="slidenum">
              <a:t>22</a:t>
            </a:fld>
          </a:p>
        </p:txBody>
      </p:sp>
      <p:sp>
        <p:nvSpPr>
          <p:cNvPr id="6" name="PlaceHolder 5"/>
          <p:cNvSpPr>
            <a:spLocks noGrp="1"/>
          </p:cNvSpPr>
          <p:nvPr>
            <p:ph type="dt" idx="1"/>
          </p:nvPr>
        </p:nvSpPr>
        <p:spPr/>
        <p:txBody>
          <a:bodyPr/>
          <a:p>
            <a:fld id="{B377710D-E2C0-4522-967D-9DBA72B16DBD}"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optimización queda entonces:</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s.a.</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a:t>
            </a:r>
            <a:endParaRPr b="0" lang="en-US" sz="20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 de solución:</a:t>
            </a:r>
            <a:endParaRPr b="0" lang="en-US" sz="20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fija “e”  en algún nivel y se eligen los parámetros óptimos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ecir, se busca obtener el nivel de esfuerzo requerido en la forma más eficeinte posible.</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implica  definir </a:t>
            </a:r>
            <a:r>
              <a:rPr b="0" lang="es-MX" sz="1800" spc="-1" strike="noStrike">
                <a:solidFill>
                  <a:srgbClr val="000000"/>
                </a:solidFill>
                <a:latin typeface="Symbol"/>
                <a:ea typeface="Symbol"/>
              </a:rPr>
              <a:t></a:t>
            </a:r>
            <a:r>
              <a:rPr b="0" lang="es-MX" sz="1800" spc="-1" strike="noStrike">
                <a:solidFill>
                  <a:srgbClr val="000000"/>
                </a:solidFill>
                <a:latin typeface="Times New Roman"/>
              </a:rPr>
              <a:t> = C’(e), sin embargo se puede elegir la intensidad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 aplicando la relación lineal simpificad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asumiendo C’’ cte y &gt; 0).</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arámetro </a:t>
            </a:r>
            <a:r>
              <a:rPr b="0" lang="es-MX" sz="1800" spc="-1" strike="noStrike">
                <a:solidFill>
                  <a:srgbClr val="000000"/>
                </a:solidFill>
                <a:latin typeface="Symbol"/>
                <a:ea typeface="Symbol"/>
              </a:rPr>
              <a:t></a:t>
            </a:r>
            <a:r>
              <a:rPr b="0" lang="es-MX" sz="1800" spc="-1" strike="noStrike">
                <a:solidFill>
                  <a:srgbClr val="000000"/>
                </a:solidFill>
                <a:latin typeface="Times New Roman"/>
              </a:rPr>
              <a:t> no afecta el equivalente cierto total, sin embargo define cómo se reparte la riqueza entre el empleador y el empleado.  Entonces cabría establecer la restricción adicional de que las partes deben estar de acuerdo con el contrato, lo que limitaría el rango de </a:t>
            </a:r>
            <a:r>
              <a:rPr b="0" lang="es-MX" sz="1800" spc="-1" strike="noStrike">
                <a:solidFill>
                  <a:srgbClr val="000000"/>
                </a:solidFill>
                <a:latin typeface="Symbol"/>
                <a:ea typeface="Symbol"/>
              </a:rPr>
              <a:t></a:t>
            </a:r>
            <a:r>
              <a:rPr b="0" lang="es-MX" sz="1800" spc="-1" strike="noStrike">
                <a:solidFill>
                  <a:srgbClr val="000000"/>
                </a:solidFill>
                <a:latin typeface="Times New Roman"/>
              </a:rPr>
              <a:t>’s factibles.</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ecto de </a:t>
            </a:r>
            <a:r>
              <a:rPr b="0" lang="es-MX" sz="1800" spc="-1" strike="noStrike">
                <a:solidFill>
                  <a:srgbClr val="000000"/>
                </a:solidFill>
                <a:latin typeface="Symbol"/>
                <a:ea typeface="Symbol"/>
              </a:rPr>
              <a:t></a:t>
            </a:r>
            <a:r>
              <a:rPr b="0" lang="es-MX" sz="1800" spc="-1" strike="noStrike">
                <a:solidFill>
                  <a:srgbClr val="000000"/>
                </a:solidFill>
                <a:latin typeface="Times New Roman"/>
              </a:rPr>
              <a:t>, es claro que debe ser elegido de tal forma que minimize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y de esta forma disminuya el premio por riesgo. Es decir los costos para el empleado de quedar sometido al riesgo que introduce el sistema de incentivos.</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13F2498-9352-4F04-B0AD-DE26DCC2F15F}" type="slidenum">
              <a:t>23</a:t>
            </a:fld>
          </a:p>
        </p:txBody>
      </p:sp>
      <p:sp>
        <p:nvSpPr>
          <p:cNvPr id="6" name="PlaceHolder 5"/>
          <p:cNvSpPr>
            <a:spLocks noGrp="1"/>
          </p:cNvSpPr>
          <p:nvPr>
            <p:ph type="dt" idx="1"/>
          </p:nvPr>
        </p:nvSpPr>
        <p:spPr/>
        <p:txBody>
          <a:bodyPr/>
          <a:p>
            <a:fld id="{8C679C82-95DE-45F3-BA2A-4066DD26E1CB}"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ios que guían el diseño de contratos óptimos</a:t>
            </a:r>
            <a:endParaRPr b="0" lang="en-US" sz="3200" spc="-1" strike="noStrike">
              <a:solidFill>
                <a:srgbClr val="000000"/>
              </a:solidFill>
              <a:latin typeface="Times New Roman"/>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form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en la motiv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de monitoreo</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gualdad de compensació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Ratch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7CB2464-9FB2-44C1-8621-30C6AA6E9C74}" type="slidenum">
              <a:t>24</a:t>
            </a:fld>
          </a:p>
        </p:txBody>
      </p:sp>
      <p:sp>
        <p:nvSpPr>
          <p:cNvPr id="6" name="PlaceHolder 5"/>
          <p:cNvSpPr>
            <a:spLocks noGrp="1"/>
          </p:cNvSpPr>
          <p:nvPr>
            <p:ph type="dt" idx="1"/>
          </p:nvPr>
        </p:nvSpPr>
        <p:spPr/>
        <p:txBody>
          <a:bodyPr/>
          <a:p>
            <a:fld id="{D29BC21A-2705-43D4-964F-EDDF10DFFF5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a:t>
            </a:r>
            <a:endParaRPr b="0" lang="en-US" sz="3200" spc="-1" strike="noStrike">
              <a:solidFill>
                <a:srgbClr val="000000"/>
              </a:solidFill>
              <a:latin typeface="Times New Roman"/>
            </a:endParaRPr>
          </a:p>
        </p:txBody>
      </p:sp>
      <p:sp>
        <p:nvSpPr>
          <p:cNvPr id="89"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fórmulas de compensación la riqueza total es siempre incrementada estableciendo mecanismos y sus parámetros (con su peso apropiado) que permitan reducir el error con el cual se determina el esfuerzo realizado por el empleado.</a:t>
            </a:r>
            <a:endParaRPr b="0" lang="en-US" sz="2000" spc="-1" strike="noStrike">
              <a:solidFill>
                <a:srgbClr val="000000"/>
              </a:solidFill>
              <a:latin typeface="Times New Roman"/>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modelo lineal este principio se reduce 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tal que minimize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Var(x) +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y] + 2 </a:t>
            </a:r>
            <a:r>
              <a:rPr b="0" lang="es-MX" sz="2000" spc="-1" strike="noStrike">
                <a:solidFill>
                  <a:srgbClr val="000000"/>
                </a:solidFill>
                <a:latin typeface="Symbol"/>
                <a:ea typeface="Symbol"/>
              </a:rPr>
              <a:t></a:t>
            </a:r>
            <a:r>
              <a:rPr b="0" lang="es-MX" sz="2000" spc="-1" strike="noStrike">
                <a:solidFill>
                  <a:srgbClr val="000000"/>
                </a:solidFill>
                <a:latin typeface="Times New Roman"/>
              </a:rPr>
              <a:t>Cov(x,y)</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d. 1er orden par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lvl="1" marL="921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 + Cov(x,y) = 0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Cov(x,y)/</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s independiente de y, entonces Cov(x,y) =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si y no aporta información respecto a x, mejor no incluirlo ya que aumenta el ruido.</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 y están relacionados positivamente, entonces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6C7A277-9B28-486C-8341-109BA7921CDA}" type="slidenum">
              <a:t>25</a:t>
            </a:fld>
          </a:p>
        </p:txBody>
      </p:sp>
      <p:sp>
        <p:nvSpPr>
          <p:cNvPr id="6" name="PlaceHolder 5"/>
          <p:cNvSpPr>
            <a:spLocks noGrp="1"/>
          </p:cNvSpPr>
          <p:nvPr>
            <p:ph type="dt" idx="1"/>
          </p:nvPr>
        </p:nvSpPr>
        <p:spPr/>
        <p:txBody>
          <a:bodyPr/>
          <a:p>
            <a:fld id="{649576D6-6642-4ABF-BF3E-06B230B540A4}"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Evaluación comparativa de desempeñ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Pudiera establecerse un esquema de incentivos que premiara el esfuerzo personal pero corrigiera el incentivo comparando entre el desempeño de diversos empleados.¿Cuándo es valioso un sistema así?</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upongamos que para un empleado A que será comparado con el empleado B, za = ea + xa + xc, tal que xa, xc son independientes.  xa es un componente aleatorio que afecta el desempeño de A solamente y xc es un componente aleatorio que afecta el desempeño tanto de a como b. Entonces, de la misma forma xb = eb + xb + xc</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Qué es mejor, establecer un incentivo para A que dependa de za, o uno que dependa de za-zb = ea – eb + xa – 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berá elegirse la medida que tenga menor varianza:</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Var(za) = Var(xa) + Var(xc) vs Var (za – zb)= Var(xa) + Var(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decisión depende de si Var(xc) &gt;&lt; Var (xb)  Es decir,  si la variabilidad está dada principalmente por factores externos a ambos, es bueno el sistema comparativo ya que elimina la principal fuente de ruido.  Si en cambio la variabilidad es principalmente por factores personales, es mejor un sistema absolu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49C2342-7025-49CC-9396-9FAE185999A8}" type="slidenum">
              <a:t>26</a:t>
            </a:fld>
          </a:p>
        </p:txBody>
      </p:sp>
      <p:sp>
        <p:nvSpPr>
          <p:cNvPr id="6" name="PlaceHolder 5"/>
          <p:cNvSpPr>
            <a:spLocks noGrp="1"/>
          </p:cNvSpPr>
          <p:nvPr>
            <p:ph type="dt" idx="1"/>
          </p:nvPr>
        </p:nvSpPr>
        <p:spPr/>
        <p:txBody>
          <a:bodyPr/>
          <a:p>
            <a:fld id="{B4ED98BA-D489-4B54-8270-86073E328841}"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Deducibles y Copagos en seguros:</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eguros automotrices de dos tipos:  Conta accidentes y General</a:t>
            </a:r>
            <a:endParaRPr b="0" lang="en-US" sz="1800" spc="-1" strike="noStrike">
              <a:solidFill>
                <a:srgbClr val="000000"/>
              </a:solidFill>
              <a:latin typeface="Times New Roman"/>
            </a:endParaRPr>
          </a:p>
          <a:p>
            <a:pPr lvl="1" marL="802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bos tipos de seguro normalmente contmplan el pago de deducibles.</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utomovilistas podrían comportarse cuidadosamente al conducir, dejar el auto en custodia y/o con llave cuando estacionan, etc.  Es decir podrían tener comportamiento voluntario que ayuda a disminuir los eventos que causan pérdidas patrimoniales, y es el comportamiento que la aseguradora quiere fomentar.</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frente a un accidente o robo, el dueño del automóvil no puede controlar la magnitud de la pérdida. Por tanto la magnitud del daño no es un buen indicador del cuidado puesto por el dueño.</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confrome al principio de información, el deducible no debiera depender de la magnitud de la pérdida sino de el indicador de desempeño más informativo, que es el hecho que una pérdida ocurrió.</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un contrato óptimo define un deducible fijo por accidente o evento que causa pérdida.</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lo contrasta con los planes de salud que contemplan cláusulas de copago por cualquier servicio solicitado por el asegurado.</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FA85C2C-72AA-40B7-A714-32E013A25F06}" type="slidenum">
              <a:t>27</a:t>
            </a:fld>
          </a:p>
        </p:txBody>
      </p:sp>
      <p:sp>
        <p:nvSpPr>
          <p:cNvPr id="6" name="PlaceHolder 5"/>
          <p:cNvSpPr>
            <a:spLocks noGrp="1"/>
          </p:cNvSpPr>
          <p:nvPr>
            <p:ph type="dt" idx="1"/>
          </p:nvPr>
        </p:nvSpPr>
        <p:spPr/>
        <p:txBody>
          <a:bodyPr/>
          <a:p>
            <a:fld id="{E5A75640-F6BB-46DF-A8BE-9E629E2049B6}"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a:t>
            </a:r>
            <a:endParaRPr b="0" lang="en-US" sz="3200" spc="-1" strike="noStrike">
              <a:solidFill>
                <a:srgbClr val="000000"/>
              </a:solidFill>
              <a:latin typeface="Times New Roman"/>
            </a:endParaRPr>
          </a:p>
        </p:txBody>
      </p:sp>
      <p:sp>
        <p:nvSpPr>
          <p:cNvPr id="9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tensidad óptima de los incentivos depende de cuatro factores:</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utilidades incrementales aportadas por el esfuerzo adicional: Por ej. no tiene sentido incentivar mayor producción de trabajadores cuyo producto está antes de un cuello de botella, ya que sólo incrementará los inventarios.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proporcional a P’(e), las utilidades incrementales aportadas por el esfuerzo adicional.</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precisión en la medición del desempeño: Si la medición del desempeño es muy imprecisa no puede establecerse un sistema de incentivos fuerte.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V, la varianza  de la medición del desempeño (V = aprox. Var[x + </a:t>
            </a:r>
            <a:r>
              <a:rPr b="0" lang="es-MX" sz="1800" spc="-1" strike="noStrike">
                <a:solidFill>
                  <a:srgbClr val="000000"/>
                </a:solidFill>
                <a:latin typeface="Symbol"/>
                <a:ea typeface="Symbol"/>
              </a:rPr>
              <a:t></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lerancia al riesgo del agente: a mayor aversión al riesgo, mayor costo de asumir riesgo, por tanto deben usarse incentivos bajos para disminuir el costo del riesgo.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r, la aversión al riesgo del agent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ensibilidad del agente a los incentivos. Por ej.  Un trabajador en una línea de montaje que tiene una tasa fija de producción no podrá ser incentivado por unidades producidas ya que él no puede alterar su tasa de producción.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C’’(e),  la pendiente 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ya 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2595FBA-6FF5-4788-81C7-D4ECC7E84DDC}" type="slidenum">
              <a:t>28</a:t>
            </a:fld>
          </a:p>
        </p:txBody>
      </p:sp>
      <p:sp>
        <p:nvSpPr>
          <p:cNvPr id="6" name="PlaceHolder 5"/>
          <p:cNvSpPr>
            <a:spLocks noGrp="1"/>
          </p:cNvSpPr>
          <p:nvPr>
            <p:ph type="dt" idx="1"/>
          </p:nvPr>
        </p:nvSpPr>
        <p:spPr/>
        <p:txBody>
          <a:bodyPr/>
          <a:p>
            <a:fld id="{16557F80-B17B-4E1E-9CD7-1AC2AA440004}"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 (Cont.)</a:t>
            </a:r>
            <a:endParaRPr b="0" lang="en-US" sz="3200" spc="-1" strike="noStrike">
              <a:solidFill>
                <a:srgbClr val="000000"/>
              </a:solidFill>
              <a:latin typeface="Times New Roman"/>
            </a:endParaRPr>
          </a:p>
        </p:txBody>
      </p:sp>
      <p:sp>
        <p:nvSpPr>
          <p:cNvPr id="9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hecho, la intensidad óptima e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 / (1 + rVC’’(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 las utilidades incrementales aportadas por el esfuerzo adiciona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 la aversión al riesgo del agent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 la varianza  de la medición del desempeño (aprox. Var[x + </a:t>
            </a:r>
            <a:r>
              <a:rPr b="0" lang="es-MX" sz="2000" spc="-1" strike="noStrike">
                <a:solidFill>
                  <a:srgbClr val="000000"/>
                </a:solidFill>
                <a:latin typeface="Symbol"/>
                <a:ea typeface="Symbol"/>
              </a:rPr>
              <a:t></a:t>
            </a:r>
            <a:r>
              <a:rPr b="0" lang="es-MX" sz="2000" spc="-1" strike="noStrike">
                <a:solidFill>
                  <a:srgbClr val="000000"/>
                </a:solidFill>
                <a:latin typeface="Times New Roman"/>
              </a:rPr>
              <a:t>y])</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e) es la pendiente de la recta </a:t>
            </a:r>
            <a:r>
              <a:rPr b="0" lang="es-MX" sz="2000" spc="-1" strike="noStrike">
                <a:solidFill>
                  <a:srgbClr val="000000"/>
                </a:solidFill>
                <a:latin typeface="Symbol"/>
                <a:ea typeface="Symbol"/>
              </a:rPr>
              <a:t></a:t>
            </a:r>
            <a:r>
              <a:rPr b="0" lang="es-MX" sz="2000" spc="-1" strike="noStrike">
                <a:solidFill>
                  <a:srgbClr val="000000"/>
                </a:solidFill>
                <a:latin typeface="Times New Roman"/>
              </a:rPr>
              <a:t>2 – </a:t>
            </a:r>
            <a:r>
              <a:rPr b="0" lang="es-MX" sz="2000" spc="-1" strike="noStrike">
                <a:solidFill>
                  <a:srgbClr val="000000"/>
                </a:solidFill>
                <a:latin typeface="Symbol"/>
                <a:ea typeface="Symbol"/>
              </a:rPr>
              <a:t></a:t>
            </a:r>
            <a:r>
              <a:rPr b="0" lang="es-MX" sz="2000" spc="-1" strike="noStrike">
                <a:solidFill>
                  <a:srgbClr val="000000"/>
                </a:solidFill>
                <a:latin typeface="Times New Roman"/>
              </a:rPr>
              <a:t>1 = (e2 – e1) C’’ ya vista.</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EF7D2A8-AE28-44E6-B857-C9D59C039470}" type="slidenum">
              <a:t>29</a:t>
            </a:fld>
          </a:p>
        </p:txBody>
      </p:sp>
      <p:sp>
        <p:nvSpPr>
          <p:cNvPr id="6" name="PlaceHolder 5"/>
          <p:cNvSpPr>
            <a:spLocks noGrp="1"/>
          </p:cNvSpPr>
          <p:nvPr>
            <p:ph type="dt" idx="1"/>
          </p:nvPr>
        </p:nvSpPr>
        <p:spPr/>
        <p:txBody>
          <a:bodyPr/>
          <a:p>
            <a:fld id="{B447D64B-B3F6-4739-AF24-B3BEA25108D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6"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sta asimetría de información causa el Problema Agente - Principal o Problema de Agenciamiento.</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relación de agencia existe en cualquier situación en que hay un acuerdo de empleo producto del cual el bienestar de la parte contratante depende de las acciones de la contratada.  El agente es la persona que realiza la acción (el empleado), el principal es la persona a quién la acción afecta (empleador.)</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una empresa la administación y los trabajadores son los agentes y el dueño es el principal. El problema de agenciamiento consiste en que la administración y trabajadores pueden perseguir sus propios objetivos, incluso arriesgando que el dueño obtenga menores utilida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8BF2222-1E7B-40C5-A4AC-F0D98BCB0087}" type="slidenum">
              <a:t>3</a:t>
            </a:fld>
          </a:p>
        </p:txBody>
      </p:sp>
      <p:sp>
        <p:nvSpPr>
          <p:cNvPr id="6" name="PlaceHolder 5"/>
          <p:cNvSpPr>
            <a:spLocks noGrp="1"/>
          </p:cNvSpPr>
          <p:nvPr>
            <p:ph type="dt" idx="1"/>
          </p:nvPr>
        </p:nvSpPr>
        <p:spPr/>
        <p:txBody>
          <a:bodyPr/>
          <a:p>
            <a:fld id="{2A50C092-F069-4BB2-BCAC-E41789DD7F7C}"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ducción matemática: </a:t>
            </a:r>
            <a:endParaRPr b="0" lang="en-US" sz="3200" spc="-1" strike="noStrike">
              <a:solidFill>
                <a:srgbClr val="000000"/>
              </a:solidFill>
              <a:latin typeface="Times New Roman"/>
            </a:endParaRPr>
          </a:p>
        </p:txBody>
      </p:sp>
      <p:sp>
        <p:nvSpPr>
          <p:cNvPr id="99"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0000"/>
          </a:bodyPr>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del problema de max. Eq. Cierto Total, respecto a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d(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d</a:t>
            </a:r>
            <a:r>
              <a:rPr b="0" lang="es-MX" sz="1800" spc="-1" strike="noStrike">
                <a:solidFill>
                  <a:srgbClr val="000000"/>
                </a:solidFill>
                <a:latin typeface="Symbol"/>
                <a:ea typeface="Symbol"/>
              </a:rPr>
              <a:t></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mos que el beneficio neto del esfuerzo es:</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enef (e) = P(e) – C(e)  entonces d Benef (e)/de =  P’(e) – C’(e)</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sabemos que:</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d</a:t>
            </a:r>
            <a:r>
              <a:rPr b="0" lang="es-MX" sz="1800" spc="-1" strike="noStrike">
                <a:solidFill>
                  <a:srgbClr val="000000"/>
                </a:solidFill>
                <a:latin typeface="Symbol"/>
                <a:ea typeface="Symbol"/>
              </a:rPr>
              <a:t></a:t>
            </a:r>
            <a:r>
              <a:rPr b="0" lang="es-MX" sz="1800" spc="-1" strike="noStrike">
                <a:solidFill>
                  <a:srgbClr val="000000"/>
                </a:solidFill>
                <a:latin typeface="Times New Roman"/>
              </a:rPr>
              <a:t> = 1/C’’= el eincremento del esfuerzo dado un incremento en incentivo.</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 esto podemos determinar:</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d Benef (e)/de * d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C’(e)) /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ada la restricción del problema de optimización del Eq. Cierto Tot.</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C’(e), entonces 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haciendo V =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tenemo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 /C’’ -  r</a:t>
            </a:r>
            <a:r>
              <a:rPr b="0" lang="es-MX" sz="1800" spc="-1" strike="noStrike">
                <a:solidFill>
                  <a:srgbClr val="000000"/>
                </a:solidFill>
                <a:latin typeface="Symbol"/>
                <a:ea typeface="Symbol"/>
              </a:rPr>
              <a:t></a:t>
            </a:r>
            <a:r>
              <a:rPr b="0" lang="es-MX" sz="1800" spc="-1" strike="noStrike">
                <a:solidFill>
                  <a:srgbClr val="000000"/>
                </a:solidFill>
                <a:latin typeface="Times New Roman"/>
              </a:rPr>
              <a:t>V = 0  Entonces </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1 + rVC’’(e))</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CA060FC-2EB2-4152-AA5C-8581A577FE35}" type="slidenum">
              <a:t>30</a:t>
            </a:fld>
          </a:p>
        </p:txBody>
      </p:sp>
      <p:sp>
        <p:nvSpPr>
          <p:cNvPr id="6" name="PlaceHolder 5"/>
          <p:cNvSpPr>
            <a:spLocks noGrp="1"/>
          </p:cNvSpPr>
          <p:nvPr>
            <p:ph type="dt" idx="1"/>
          </p:nvPr>
        </p:nvSpPr>
        <p:spPr/>
        <p:txBody>
          <a:bodyPr/>
          <a:p>
            <a:fld id="{8397CF4B-E28F-4C3A-B803-F1532F60F80C}"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nitoreo</a:t>
            </a:r>
            <a:endParaRPr b="0" lang="en-US" sz="3200" spc="-1" strike="noStrike">
              <a:solidFill>
                <a:srgbClr val="000000"/>
              </a:solidFill>
              <a:latin typeface="Times New Roman"/>
            </a:endParaRPr>
          </a:p>
        </p:txBody>
      </p:sp>
      <p:sp>
        <p:nvSpPr>
          <p:cNvPr id="101"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la intensidad del insentivo es alta será rentable gastar más en sistemas de medida más precisos para el desempeño. Entonces, cuando </a:t>
            </a:r>
            <a:r>
              <a:rPr b="0" lang="es-MX" sz="1800" spc="-1" strike="noStrike">
                <a:solidFill>
                  <a:srgbClr val="000000"/>
                </a:solidFill>
                <a:latin typeface="Symbol"/>
                <a:ea typeface="Symbol"/>
              </a:rPr>
              <a:t></a:t>
            </a:r>
            <a:r>
              <a:rPr b="0" lang="es-MX" sz="1800" spc="-1" strike="noStrike">
                <a:solidFill>
                  <a:srgbClr val="000000"/>
                </a:solidFill>
                <a:latin typeface="Times New Roman"/>
              </a:rPr>
              <a:t> es alto, se incurre en más costos para disminuir la varianza, y se consigue una varianza menor.</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V = Var(x + gy) puede ser reducida incurriendo en costos de monitoreo M(V), para verificar con mayor precisión el esfuerzo del empleado. Por ej con más supervisores por empleado, más controles de calidad, entrevistas a los clientes, monitoreo de llamadas telefónicas, etc.  Dada la definición de M(V), se asume que M’(V) &lt; 0. Pero también se asume que M’’(V) &gt; 0 (rend. mg. decrecientes = Cmg crec.).</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el problema de optimización será: 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t>
            </a:r>
            <a:r>
              <a:rPr b="0" lang="es-MX" sz="1800" spc="-1" strike="noStrike">
                <a:solidFill>
                  <a:srgbClr val="000000"/>
                </a:solidFill>
                <a:latin typeface="Times New Roman"/>
              </a:rPr>
              <a:t> – M(V)</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respecto a V es:  d (Eq. Cierto Tot.)/ d V </a:t>
            </a:r>
            <a:endParaRPr b="0" lang="en-US" sz="1800" spc="-1" strike="noStrike">
              <a:solidFill>
                <a:srgbClr val="000000"/>
              </a:solidFill>
              <a:latin typeface="Times New Roman"/>
            </a:endParaRPr>
          </a:p>
          <a:p>
            <a:pPr marL="50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rPr>
              <a:t> – M’(V) = 0  Es decir en el óptimo -M’(V)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ambas determinaciones: intensidad de monitoreo e intensidad de incentivos se dan simultáne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7604DA5-0E9F-42DB-AA3F-8909CECC741E}" type="slidenum">
              <a:t>31</a:t>
            </a:fld>
          </a:p>
        </p:txBody>
      </p:sp>
      <p:sp>
        <p:nvSpPr>
          <p:cNvPr id="6" name="PlaceHolder 5"/>
          <p:cNvSpPr>
            <a:spLocks noGrp="1"/>
          </p:cNvSpPr>
          <p:nvPr>
            <p:ph type="dt" idx="1"/>
          </p:nvPr>
        </p:nvSpPr>
        <p:spPr/>
        <p:txBody>
          <a:bodyPr/>
          <a:p>
            <a:fld id="{16DDE657-A22A-4B5F-9957-9EF643262167}"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a:t>
            </a:r>
            <a:endParaRPr b="0" lang="en-US" sz="3200" spc="-1" strike="noStrike">
              <a:solidFill>
                <a:srgbClr val="000000"/>
              </a:solidFill>
              <a:latin typeface="Times New Roman"/>
            </a:endParaRPr>
          </a:p>
        </p:txBody>
      </p:sp>
      <p:sp>
        <p:nvSpPr>
          <p:cNvPr id="103"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ayoría de los empleados realiza varias labores como parte de su trabajo. En estas condiciones, el empleador estará interesado en que asigne su tiempo correctamente, lo que dificulta establecer sistemas de incentivos.</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  Los vendedores de sistemas de información realizan varias labores diferentes:</a:t>
            </a:r>
            <a:endParaRPr b="0" lang="en-US" sz="18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actan nuevos clientes y ofrecen el producto.</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 un nservicio de consultoría y resolución de problemas.</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alizan estudiso de las acciones de la competencia.</a:t>
            </a:r>
            <a:endParaRPr b="0" lang="en-US" sz="16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la empresa de sistemas de información diseñara un sistema de incentivos basado exclusivamente en la medida de desempeño más fácil de verificar, que es la cantidad de sistemas vendidos, los vendedores podrían descuidar las otras labores buscando resultados de corto plazo pero dañando las ventas en el largo plazo.</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I: Cadenas de comida rápida suelen querer que sus locales sean rentables pero que mantengan estándares de calidad y limpieza, lo que permite aumentar las ventas en otros locales.  Pero los locales de carretera tienen incentivos diferentes que los locales de ciud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41F9266-FBD8-45AF-B29A-E90FCD55D7D5}" type="slidenum">
              <a:t>32</a:t>
            </a:fld>
          </a:p>
        </p:txBody>
      </p:sp>
      <p:sp>
        <p:nvSpPr>
          <p:cNvPr id="6" name="PlaceHolder 5"/>
          <p:cNvSpPr>
            <a:spLocks noGrp="1"/>
          </p:cNvSpPr>
          <p:nvPr>
            <p:ph type="dt" idx="1"/>
          </p:nvPr>
        </p:nvSpPr>
        <p:spPr/>
        <p:txBody>
          <a:bodyPr/>
          <a:p>
            <a:fld id="{BDA46590-00E0-4743-B7E7-1DF2FF70782C}"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Cont.)</a:t>
            </a:r>
            <a:endParaRPr b="0" lang="en-US" sz="3200" spc="-1" strike="noStrike">
              <a:solidFill>
                <a:srgbClr val="000000"/>
              </a:solidFill>
              <a:latin typeface="Times New Roman"/>
            </a:endParaRPr>
          </a:p>
        </p:txBody>
      </p:sp>
      <p:sp>
        <p:nvSpPr>
          <p:cNvPr id="105"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incipio de igualdad de compensación establece que, si la asignación de tiempo o atención que un empleado realiza entre dos actividades deiferentes no puede ser monitoreado por el empleador, entonces o la tasa marginal de retorno a los empleados por el tiempo o atención dedicados a cada tarea debe ser igual para ambas ocupaciones o sino la actividad que tenga menor tasa marginal de retorno no recibirá atención.</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principio constituye una restricción importante a las fórmulas de compensación que pueden ser efectivas en la práctica.  Si un empleado es asignado a una tarea cuyo resultado no podrá ser medido (V = infinito), no tendrá sentido usar sistemas de incentivos para ninguna actividad adicional que la persona controle. El uso de sueldo fijo puede normalmente ser justificado para esta problemática.</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2D7EEF4-FD82-41A2-9D13-CAD35E4BC8AA}" type="slidenum">
              <a:t>33</a:t>
            </a:fld>
          </a:p>
        </p:txBody>
      </p:sp>
      <p:sp>
        <p:nvSpPr>
          <p:cNvPr id="6" name="PlaceHolder 5"/>
          <p:cNvSpPr>
            <a:spLocks noGrp="1"/>
          </p:cNvSpPr>
          <p:nvPr>
            <p:ph type="dt" idx="1"/>
          </p:nvPr>
        </p:nvSpPr>
        <p:spPr/>
        <p:txBody>
          <a:bodyPr/>
          <a:p>
            <a:fld id="{9B55CF18-0086-493D-A289-C5E6613FD81C}"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a:t>
            </a:r>
            <a:endParaRPr b="0" lang="en-US" sz="3200" spc="-1" strike="noStrike">
              <a:solidFill>
                <a:srgbClr val="000000"/>
              </a:solidFill>
              <a:latin typeface="Times New Roman"/>
            </a:endParaRPr>
          </a:p>
        </p:txBody>
      </p:sp>
      <p:sp>
        <p:nvSpPr>
          <p:cNvPr id="107"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77000"/>
          </a:bodyPr>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an dos actividades las realizadas por un empleado, cada una con sus respectivos esfuerzo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que asumiermos representan el tiempo dedicado, con un costo de oportunidad asociado al tiempo dedicado a otras actividades preferidas por el empleado.</a:t>
            </a:r>
            <a:endParaRPr b="0" lang="en-US" sz="1800" spc="-1" strike="noStrike">
              <a:solidFill>
                <a:srgbClr val="000000"/>
              </a:solidFill>
              <a:latin typeface="Times New Roman"/>
            </a:endParaRPr>
          </a:p>
          <a:p>
            <a:pPr marL="469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ulta razonable entonces definir la función de costo como dependiente del esfuerzo total del empleado en cualquiera de ambas actividades:</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el empleador estableceun contrato de incentivos lineal:</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cómo elegir los parámetros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mos tener en cuenta el objetivo buscado por el empleado:</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y </a:t>
            </a:r>
            <a:r>
              <a:rPr b="0" lang="es-MX" sz="1800" spc="-1" strike="noStrike" baseline="-25000">
                <a:solidFill>
                  <a:srgbClr val="000000"/>
                </a:solidFill>
                <a:latin typeface="Times New Roman"/>
              </a:rPr>
              <a:t>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on: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C6B3CBF-94AC-4FF5-ABEE-F2B986482B9A}" type="slidenum">
              <a:t>34</a:t>
            </a:fld>
          </a:p>
        </p:txBody>
      </p:sp>
      <p:sp>
        <p:nvSpPr>
          <p:cNvPr id="6" name="PlaceHolder 5"/>
          <p:cNvSpPr>
            <a:spLocks noGrp="1"/>
          </p:cNvSpPr>
          <p:nvPr>
            <p:ph type="dt" idx="1"/>
          </p:nvPr>
        </p:nvSpPr>
        <p:spPr/>
        <p:txBody>
          <a:bodyPr/>
          <a:p>
            <a:fld id="{B5F3DF04-8D8E-4097-85CE-71A7A3971394}"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 II:</a:t>
            </a:r>
            <a:endParaRPr b="0" lang="en-US" sz="3200" spc="-1" strike="noStrike">
              <a:solidFill>
                <a:srgbClr val="000000"/>
              </a:solidFill>
              <a:latin typeface="Times New Roman"/>
            </a:endParaRPr>
          </a:p>
        </p:txBody>
      </p:sp>
      <p:sp>
        <p:nvSpPr>
          <p:cNvPr id="109"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la función de costo en términos lineales, como una recta Isocos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objetivo buscado por el empleado es:</a:t>
            </a:r>
            <a:endParaRPr b="0" lang="en-US" sz="1800" spc="-1" strike="noStrike">
              <a:solidFill>
                <a:srgbClr val="000000"/>
              </a:solidFill>
              <a:latin typeface="Times New Roman"/>
            </a:endParaRPr>
          </a:p>
          <a:p>
            <a:pPr marL="499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son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0 = UMg</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tasa marginal de retorno como la proporción entre el ingreso marginal (</a:t>
            </a:r>
            <a:r>
              <a:rPr b="0" lang="es-MX" sz="1800" spc="-1" strike="noStrike">
                <a:solidFill>
                  <a:srgbClr val="000000"/>
                </a:solidFill>
                <a:latin typeface="Symbol"/>
                <a:ea typeface="Symbol"/>
              </a:rPr>
              <a:t></a:t>
            </a:r>
            <a:r>
              <a:rPr b="0" lang="es-MX" sz="1800" spc="-1" strike="noStrike">
                <a:solidFill>
                  <a:srgbClr val="000000"/>
                </a:solidFill>
                <a:latin typeface="Times New Roman"/>
              </a:rPr>
              <a:t>) y el costo marginal del esfuerzo C’(e), se tendrá:</a:t>
            </a:r>
            <a:endParaRPr b="0" lang="en-US" sz="1800" spc="-1" strike="noStrike">
              <a:solidFill>
                <a:srgbClr val="000000"/>
              </a:solidFill>
              <a:latin typeface="Times New Roman"/>
            </a:endParaRPr>
          </a:p>
          <a:p>
            <a:pPr marL="49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rPr>
              <a:t>/C’(e)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1</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4ABB176-E974-4D66-B85B-A25095ABA001}" type="slidenum">
              <a:t>35</a:t>
            </a:fld>
          </a:p>
        </p:txBody>
      </p:sp>
      <p:sp>
        <p:nvSpPr>
          <p:cNvPr id="6" name="PlaceHolder 5"/>
          <p:cNvSpPr>
            <a:spLocks noGrp="1"/>
          </p:cNvSpPr>
          <p:nvPr>
            <p:ph type="dt" idx="1"/>
          </p:nvPr>
        </p:nvSpPr>
        <p:spPr/>
        <p:txBody>
          <a:bodyPr/>
          <a:p>
            <a:fld id="{752BC1AD-A001-43A9-877C-F15A25C9B85A}"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1"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1000"/>
          </a:bodyPr>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Centros de costo y centros de utilidad:</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e esencial de los modelos de incentivos es definir cuales serán las responabilidades de los empleados, cuyo desempeño será medido y por el cual serán recompensados. Aquí analizaremos el caso de un Gerente de Planta. </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posibilidad es que no tenga influencia alguna en los ingresos por la venta de los productos, por lo que será responsable sólo de los costos de producción.  Entonces decimos que la Planta es un “centro de costos”. En consecuencia, los costos deberán se medidos con detalle y el gerente recompensado por su desempeño en ser eficiente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tra posibilidad es que sí tenga influencia en los ingresos, por ejemplo a traves de la calidad, disponibilidad y  velocidad de producción. Entonces decimos que la Planta es un “centro de utilidad”. En consecuencia el gerente debe ser recompensado tanto por su contribución a los ingresos como su eficiencia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tercera posibilidad es definir objetivos específicos en reemplazo de los ingresos, como calidad y retrasos en la entrega, lo que independiza la remuneración del Gerente de Planta de la gestión de la fuerza de venta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C5814BA-25BC-47B4-9C97-E2B832F0FEE0}" type="slidenum">
              <a:t>36</a:t>
            </a:fld>
          </a:p>
        </p:txBody>
      </p:sp>
      <p:sp>
        <p:nvSpPr>
          <p:cNvPr id="6" name="PlaceHolder 5"/>
          <p:cNvSpPr>
            <a:spLocks noGrp="1"/>
          </p:cNvSpPr>
          <p:nvPr>
            <p:ph type="dt" idx="1"/>
          </p:nvPr>
        </p:nvSpPr>
        <p:spPr/>
        <p:txBody>
          <a:bodyPr/>
          <a:p>
            <a:fld id="{83C9A521-ED99-46EE-A85A-03DEA3099822}"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3"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 Aplicación I:  Centros de costo y centros de utilidad:</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nformación, éstos serán mejores parámetros ya que están más relacionados con los esfuerzos del Gte. Plant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a calidad podría ser difícil de medir sin dejar de ser una responsabilidad importante del Gte. Planta.  En este caso, según el principio de igualdad de compensación, será mejor no definir incentivos al Gte. Planta ya que así se evitarán distorsiones en su asignación de esfuerzos.  En todo caso el Gte. Planta entenderá que sus superiores evaluarán su desempeño y su promoción y aumento de sueldo dependerá de ell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ste ejemplo se aprecia que el diseño organizacional es también muy relevante para el logro de las metas, lo que implica la definición de responsabilidades en conjunto con el diseño del sisntema de incentivo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DAEE1D0-133D-4961-8771-514120D94C58}" type="slidenum">
              <a:t>37</a:t>
            </a:fld>
          </a:p>
        </p:txBody>
      </p:sp>
      <p:sp>
        <p:nvSpPr>
          <p:cNvPr id="6" name="PlaceHolder 5"/>
          <p:cNvSpPr>
            <a:spLocks noGrp="1"/>
          </p:cNvSpPr>
          <p:nvPr>
            <p:ph type="dt" idx="1"/>
          </p:nvPr>
        </p:nvSpPr>
        <p:spPr/>
        <p:txBody>
          <a:bodyPr/>
          <a:p>
            <a:fld id="{4535182B-2A19-4561-91B1-53A3F53D1CB8}"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5"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Incentivos a profesor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a incentivar a los profesores a realizar mejores esfuerzos y mayor creatividad en la instrucción de los alumnos, se podría diseñar una remuneración variable según el desempeño que los alumnos tengan en las prueba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os profesores también tiene la responsabilidad de formar a los alumnos en valores y virtudes, que no son fácilmente cuantificabl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gualdad de compensación, si no se puede establecer una medida razonable de los valores y virtudes, deberá optarse por:</a:t>
            </a:r>
            <a:endParaRPr b="0" lang="en-US" sz="18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minar la remuneración variable para evitar que los profesores descuiden su esfuerzo educativo en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remuneración varianble pero no dar a los profesores la responsabilidad en la educación de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a opción combinada como tener algunos profesores especializados en instrucción para rendimiento en las pruebas con un esquema de incentivos por resultado y sin responsabilidad por los valores y otros profesores responsables de ambos aspectos pero con sueldo fij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4C86348-3912-424F-B3AA-4BA560951228}" type="slidenum">
              <a:t>38</a:t>
            </a:fld>
          </a:p>
        </p:txBody>
      </p:sp>
      <p:sp>
        <p:nvSpPr>
          <p:cNvPr id="6" name="PlaceHolder 5"/>
          <p:cNvSpPr>
            <a:spLocks noGrp="1"/>
          </p:cNvSpPr>
          <p:nvPr>
            <p:ph type="dt" idx="1"/>
          </p:nvPr>
        </p:nvSpPr>
        <p:spPr/>
        <p:txBody>
          <a:bodyPr/>
          <a:p>
            <a:fld id="{01E08FA1-A621-4E0A-9BB0-2717DDC7E32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7"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6000"/>
          </a:bodyPr>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ctivos productivos como las herramientas y maquinaria están sujetos a depreciación económica (caída en su valor de mercado) en función del uso que se les da.  Pero un uso cuidadoso y la realización de mantenciones preventivas, permiten alargar su vida útil, es decir, disminuir su tasa de depreciación.</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el valor económico de los activos usados es muy difícil de medir.</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trabajador que opera la maquinaria podría tener tanto la responsabilidad de producción (esfuerzo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como la de mantención de la maquinaria (esfuerzo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i a este trabajador se definiera una remuneración variable según su producción, por la dificultad que hay en medir el efecto de su esfuerzo en el valor de la maquinaria se tendría que éste buscaría max su equivalente cierto representado por:</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por tanto si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 entonce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abrgo, para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 que es equivalente a tener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2A755C2-C811-40D9-ABFF-F616B5B78151}" type="slidenum">
              <a:t>39</a:t>
            </a:fld>
          </a:p>
        </p:txBody>
      </p:sp>
      <p:sp>
        <p:nvSpPr>
          <p:cNvPr id="6" name="PlaceHolder 5"/>
          <p:cNvSpPr>
            <a:spLocks noGrp="1"/>
          </p:cNvSpPr>
          <p:nvPr>
            <p:ph type="dt" idx="1"/>
          </p:nvPr>
        </p:nvSpPr>
        <p:spPr/>
        <p:txBody>
          <a:bodyPr/>
          <a:p>
            <a:fld id="{B6BA64C0-916D-4CC2-8453-08D2CC26106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8"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jemplos adicionales:</a:t>
            </a:r>
            <a:endParaRPr b="0" lang="en-US" sz="2000" spc="-1" strike="noStrike">
              <a:solidFill>
                <a:srgbClr val="000000"/>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édicos vs Hospitales</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Administrador de Institución de Gobierno vs Parlament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odelo Myers- Majluf:  Los accionistas pueden quedar vulnerables al fenómeno de selección adversa respecto a las empresas. Y aparece el fenómeno del descuento del conglomerad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explicación del fenómeno del colapso de la burbuja de las empresas internet (high tech.).</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stemas de compensación que buscan incentivar a los ejecutivos a entregar la información relevante al directorio de la empresa (accioni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2175807-25F4-4BE2-B36B-A7A00936A844}" type="slidenum">
              <a:t>4</a:t>
            </a:fld>
          </a:p>
        </p:txBody>
      </p:sp>
      <p:sp>
        <p:nvSpPr>
          <p:cNvPr id="6" name="PlaceHolder 5"/>
          <p:cNvSpPr>
            <a:spLocks noGrp="1"/>
          </p:cNvSpPr>
          <p:nvPr>
            <p:ph type="dt" idx="1"/>
          </p:nvPr>
        </p:nvSpPr>
        <p:spPr/>
        <p:txBody>
          <a:bodyPr/>
          <a:p>
            <a:fld id="{E7470BF8-5104-4C49-8B19-2B54EBC0DFAD}"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9"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7000"/>
          </a:bodyPr>
          <a:p>
            <a:pPr marL="52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 (Cont.):</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dado el principio de igualdad de compensación, se tendrán las siguientes opociones:</a:t>
            </a:r>
            <a:endParaRPr b="0" lang="en-US" sz="18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 el trabajador tiene responsabilidad tanto de producción como de mantención, será mejor no establecer sueldo variable (</a:t>
            </a:r>
            <a:r>
              <a:rPr b="0" lang="es-MX" sz="1600" spc="-1" strike="noStrike">
                <a:solidFill>
                  <a:srgbClr val="000000"/>
                </a:solidFill>
                <a:latin typeface="Symbol"/>
                <a:ea typeface="Symbol"/>
              </a:rPr>
              <a:t></a:t>
            </a:r>
            <a:r>
              <a:rPr b="0" lang="es-MX" sz="1600" spc="-1" strike="noStrike" baseline="-25000">
                <a:solidFill>
                  <a:srgbClr val="000000"/>
                </a:solidFill>
                <a:latin typeface="Times New Roman"/>
              </a:rPr>
              <a:t>1 </a:t>
            </a:r>
            <a:r>
              <a:rPr b="0" lang="es-MX" sz="1600" spc="-1" strike="noStrike">
                <a:solidFill>
                  <a:srgbClr val="000000"/>
                </a:solidFill>
                <a:latin typeface="Times New Roman"/>
              </a:rPr>
              <a:t>= 0). Para evitar que descuide el esfuerzo de mantención.</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dos tipos de trabajadores, los responsables de producción exclusivamente, con sueldo variable, y los rsponsables de mantención, con sueldo fijo.</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o es muy dificil eliminar la responsabilidad de la depreciación del activo al trabajador que lo opera para producir, hay una tercera opción:</a:t>
            </a:r>
            <a:endParaRPr b="0" lang="en-US" sz="1600" spc="-1" strike="noStrike">
              <a:solidFill>
                <a:srgbClr val="000000"/>
              </a:solidFill>
              <a:latin typeface="Times New Roman"/>
            </a:endParaRPr>
          </a:p>
          <a:p>
            <a:pPr lvl="1" marL="861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Entregarle la propiedad del activo, de tal forma que sea él el que asume los efectos patrimoniales de la mayor o menor depreciación ecoómica, y establecer un sueldo variable por produción.</a:t>
            </a:r>
            <a:endParaRPr b="0" lang="en-US" sz="16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trabajadores dueños de la maquinaria normalmente son los contratistas externos. Típicamente tienen esquemas de remuneración por incentivos más complejos que los trabajadores propios, y suelen tener un rendimiento mayor y remuneración más alta, que los compensa por ese mayor rendimiento y por el mayor riesgo que asumen.</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importante señalar que el problema de la asignación de la propiedad de los activos tiene una complejidad que trasciende este anális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A83A3A5-A29C-4E35-8235-2D72CC7FC4AC}" type="slidenum">
              <a:t>40</a:t>
            </a:fld>
          </a:p>
        </p:txBody>
      </p:sp>
      <p:sp>
        <p:nvSpPr>
          <p:cNvPr id="6" name="PlaceHolder 5"/>
          <p:cNvSpPr>
            <a:spLocks noGrp="1"/>
          </p:cNvSpPr>
          <p:nvPr>
            <p:ph type="dt" idx="1"/>
          </p:nvPr>
        </p:nvSpPr>
        <p:spPr/>
        <p:txBody>
          <a:bodyPr/>
          <a:p>
            <a:fld id="{BFAA63D7-4E94-42D3-900A-FD3C1EDDEC9F}"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a:t>
            </a:r>
            <a:endParaRPr b="0" lang="en-US" sz="3200" spc="-1" strike="noStrike">
              <a:solidFill>
                <a:srgbClr val="000000"/>
              </a:solidFill>
              <a:latin typeface="Times New Roman"/>
            </a:endParaRPr>
          </a:p>
        </p:txBody>
      </p:sp>
      <p:sp>
        <p:nvSpPr>
          <p:cNvPr id="12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problema importante en el diseño de sistemas de incentivos reales es la determinación del estándar a ser usado para evaluar desempeño.  En términos matemáticos, ello significa que la media de “x” es desconocida.  Es decir que el desempeño medio medido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correspondiente a un nivel fijo de esfuerzo “e” en cualquier período de medición de desempeño es incierta.</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endencia que tienen las metas de desempeño a mejorar luego de un período de buen desempeño se llama el efecto “Ratchet”.</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on el modelo lineal de incentivos, al tenerse una remuneración total media establecida, aumentar el valor esperado de la meta de desempeño significa disminuir el sueldo fijo o reducir la fuerza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a media esperada de x es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entonces el nivel de desempeño esperado es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y el sueldo esperado es 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Por tanto también se puede expresar esta relación para despejar a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W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muy alto significará sistemáticamente una baja en la remuneración, quizá desembocando en desmotivación y renuncias. Definirlo muy bajo significará empleados más contentos pero más gastos en remuneraciones y menos utilidades netas.</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763232C-E9CE-44E6-B26B-193BE7AA2C87}" type="slidenum">
              <a:t>41</a:t>
            </a:fld>
          </a:p>
        </p:txBody>
      </p:sp>
      <p:sp>
        <p:nvSpPr>
          <p:cNvPr id="6" name="PlaceHolder 5"/>
          <p:cNvSpPr>
            <a:spLocks noGrp="1"/>
          </p:cNvSpPr>
          <p:nvPr>
            <p:ph type="dt" idx="1"/>
          </p:nvPr>
        </p:nvSpPr>
        <p:spPr/>
        <p:txBody>
          <a:bodyPr/>
          <a:p>
            <a:fld id="{997EE6B1-53D7-40F5-8502-9148AF51C025}"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3"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sólo tres formas razonables y objetivas de establecer un estándar de desempeño:</a:t>
            </a:r>
            <a:endParaRPr b="0" lang="en-US" sz="20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r la vía de estudios realizados por ingenieros respecto a los tiempos y movimientos, normalmente en trabajos rutinarios para definir cómo puede realizarse una labor en forma óptima y cuánto tiempo debiera tomar. Este sistema es costoso y sujeto a riesgo de obsolecencia rápida.</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uso del desempeño de otras personas en trabajos similiares.  Es decir, usar fórmulas comparativas de desempeño.</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ar el desempeño histórico de la persona en el mismo cargo.  Sin embargo este sistema penaliza buen desempeño y premia el desempeño malo.  Si los trabajadores detectan el esquema, puede producirse un colapso del sistema (el concepto nació del estudio de la economía Soviética).</a:t>
            </a:r>
            <a:endParaRPr b="0" lang="en-US" sz="18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12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04E087B-3F3C-481B-A956-D1D6892B06BF}" type="slidenum">
              <a:t>42</a:t>
            </a:fld>
          </a:p>
        </p:txBody>
      </p:sp>
      <p:sp>
        <p:nvSpPr>
          <p:cNvPr id="6" name="PlaceHolder 5"/>
          <p:cNvSpPr>
            <a:spLocks noGrp="1"/>
          </p:cNvSpPr>
          <p:nvPr>
            <p:ph type="dt" idx="1"/>
          </p:nvPr>
        </p:nvSpPr>
        <p:spPr/>
        <p:txBody>
          <a:bodyPr/>
          <a:p>
            <a:fld id="{76162D3A-247E-4FA2-9E34-6CE257EE9B85}"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l principio de información , toda información relevante histórica es valiosa ya que puede reducir la varianza en la medida del desempeño para el período futuro.  El análisis de la varianza es análogo al de la evaluación comparativa de desempeño realizada entre dos trabajadores que hacen labores similares, pero ahora es para el mismo trabajador en dos períodos sucesivos.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sminución de la varianza del período siguiente que se logra, significará, según el principio de intensidad en los incentivos, que las partes querrán incrementar el incentivo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AADDE26-B638-423A-9ED7-6655BB2482E5}" type="slidenum">
              <a:t>43</a:t>
            </a:fld>
          </a:p>
        </p:txBody>
      </p:sp>
      <p:sp>
        <p:nvSpPr>
          <p:cNvPr id="6" name="PlaceHolder 5"/>
          <p:cNvSpPr>
            <a:spLocks noGrp="1"/>
          </p:cNvSpPr>
          <p:nvPr>
            <p:ph type="dt" idx="1"/>
          </p:nvPr>
        </p:nvSpPr>
        <p:spPr/>
        <p:txBody>
          <a:bodyPr/>
          <a:p>
            <a:fld id="{E0DFFEF7-CC40-45A1-8020-0ADD8B9F1949}"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7"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7000"/>
          </a:bodyPr>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í entonces la teoría predice que cuando las partes redefinen los contratos periódicamente y el desempeño pasado entrega información útil, la fuerza e los incentivos aumentará con el tiempo y también el esfuerzo realizado por los trabajadores.</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o funciona sólo si hay un nuevo ocupante en cada período.  De no ser posible esto, entonces será más eficiente establecer al inicio un contrato que incentive a realizar el mismo nivel de esfuerzo en cada período. (Esta afirmación requiere una demostración en su propio mérito, ver bibliografía).</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el problema podría evitarse en principio si las partes se comprometieran a no basarse muy directamente en el desempeño pasado para definir metas, este problema se denomina “de compromiso imperfecto”.</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fecto Ratchet también opera en muchos otros ámbitos, como por ejemplo en el de regulación tarifaria.</a:t>
            </a:r>
            <a:endParaRPr b="0" lang="en-US" sz="2000" spc="-1" strike="noStrike">
              <a:solidFill>
                <a:srgbClr val="000000"/>
              </a:solidFill>
              <a:latin typeface="Times New Roman"/>
            </a:endParaRPr>
          </a:p>
          <a:p>
            <a:pPr marL="529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565D2CB-B97C-4AB7-A3D3-057D56B352B4}" type="slidenum">
              <a:t>44</a:t>
            </a:fld>
          </a:p>
        </p:txBody>
      </p:sp>
      <p:sp>
        <p:nvSpPr>
          <p:cNvPr id="6" name="PlaceHolder 5"/>
          <p:cNvSpPr>
            <a:spLocks noGrp="1"/>
          </p:cNvSpPr>
          <p:nvPr>
            <p:ph type="dt" idx="1"/>
          </p:nvPr>
        </p:nvSpPr>
        <p:spPr/>
        <p:txBody>
          <a:bodyPr/>
          <a:p>
            <a:fld id="{41F36C1C-719F-4BE9-B024-5A8CC90AD0E3}"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9"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9000"/>
          </a:bodyPr>
          <a:p>
            <a:pPr marL="542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as formas de disminuir las ineficiencias introducidas por el efecto “Ratchet”:</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de contratistas y/o transferencia de la propiedad de la maquinaria, lo que permite tener el precio de mercado como el mejor estándar de desempeño, si es un mercado competitivo. En cuyo caso, el desempeño excepcional de un contratista no afecta inmediatamente el precio de mercado.</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soluciones involucran fuerte transferencia de riesgo. Por ello y por muchas otras razones (por otros costos de transacción que aparecen), este tipo de solución es muchas veces impracticabl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ntro de una empresa, la rotación del personal a diferentes labores también es una solución.  Además puede traer otro tipo de beneficios como mayor motivación general y flexibilidad en la produción.  Sin embargo hay costos asociados a una menor velocidad de aprendizaj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81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D0D598D-4D20-4E53-9516-6B5463EAB085}" type="slidenum">
              <a:t>45</a:t>
            </a:fld>
          </a:p>
        </p:txBody>
      </p:sp>
      <p:sp>
        <p:nvSpPr>
          <p:cNvPr id="6" name="PlaceHolder 5"/>
          <p:cNvSpPr>
            <a:spLocks noGrp="1"/>
          </p:cNvSpPr>
          <p:nvPr>
            <p:ph type="dt" idx="1"/>
          </p:nvPr>
        </p:nvSpPr>
        <p:spPr/>
        <p:txBody>
          <a:bodyPr/>
          <a:p>
            <a:fld id="{8AFB6D38-2F1C-45A1-B534-45F10DFBDEDA}"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a:t>
            </a:r>
            <a:endParaRPr b="0" lang="en-US" sz="2800" spc="-1" strike="noStrike">
              <a:solidFill>
                <a:srgbClr val="000000"/>
              </a:solidFill>
              <a:latin typeface="Times New Roman"/>
            </a:endParaRPr>
          </a:p>
        </p:txBody>
      </p:sp>
      <p:sp>
        <p:nvSpPr>
          <p:cNvPr id="13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6000"/>
          </a:bodyPr>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lanes de compensación debieran recompensar al personal por dos razone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gros absoluto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las proyecciones</a:t>
            </a:r>
            <a:endParaRPr b="0" lang="en-US" sz="2000" spc="-1" strike="noStrike">
              <a:solidFill>
                <a:srgbClr val="000000"/>
              </a:solidFill>
              <a:latin typeface="Times New Roman"/>
            </a:endParaRPr>
          </a:p>
          <a:p>
            <a:pPr marL="458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s sistemas de incentivos que han sido usado históricamente son:</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simple de logros :</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proporcional al % del logro obtenid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pero no motivará a realizar buenas proyecciones.</a:t>
            </a:r>
            <a:endParaRPr b="0" lang="en-US" sz="18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objetivo de logros:</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fine sus objetivos, supuestamente basados en sus mejores proyecciones.</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que depende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pero motivará a realizar proyecciones excesivamente conservadoras.</a:t>
            </a:r>
            <a:endParaRPr b="0" lang="en-US" sz="1800" spc="-1" strike="noStrike">
              <a:solidFill>
                <a:srgbClr val="000000"/>
              </a:solidFill>
              <a:latin typeface="Times New Roman"/>
            </a:endParaRPr>
          </a:p>
          <a:p>
            <a:pPr marL="458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3B840CA-23D9-4E07-8F8A-5027F090C2C3}" type="slidenum">
              <a:t>46</a:t>
            </a:fld>
          </a:p>
        </p:txBody>
      </p:sp>
      <p:sp>
        <p:nvSpPr>
          <p:cNvPr id="6" name="PlaceHolder 5"/>
          <p:cNvSpPr>
            <a:spLocks noGrp="1"/>
          </p:cNvSpPr>
          <p:nvPr>
            <p:ph type="dt" idx="1"/>
          </p:nvPr>
        </p:nvSpPr>
        <p:spPr/>
        <p:txBody>
          <a:bodyPr/>
          <a:p>
            <a:fld id="{D497D422-74DA-414D-9DEA-D756C6A39E14}"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sp>
        <p:nvSpPr>
          <p:cNvPr id="13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eoría económica ha desarrollado un tercer sistema que  busca integrar los tres objetivos:</a:t>
            </a:r>
            <a:endParaRPr b="0" lang="en-US" sz="20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creciente con el tamaño de la meta presupuestada (por ej. utilidades).</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o este premio también dependerá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y proyecciones certeras.</a:t>
            </a:r>
            <a:endParaRPr b="0" lang="en-US" sz="18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jemplo de bono relacionado a utilidades:</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gt; U ppto  entonces Bono = 0,3 Uppto + 0,2 (Ureal – Uppt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lt;= U ppto  entonces Bono = 0,3 Uppto - 0,5 (Uppto – Ureal)</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0,3; 0,2; y 0,5 fueron seleccionados de tal forma que el personal tiene el incentivo a entregar la verdadera proyección de Uppto y simultáneamente lograr el máximo Ureal posible.  Para apeciar esto conviene graficar la función:</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4E7C887-AB0C-4C74-955D-0EC8EADE69CC}" type="slidenum">
              <a:t>47</a:t>
            </a:fld>
          </a:p>
        </p:txBody>
      </p:sp>
      <p:sp>
        <p:nvSpPr>
          <p:cNvPr id="6" name="PlaceHolder 5"/>
          <p:cNvSpPr>
            <a:spLocks noGrp="1"/>
          </p:cNvSpPr>
          <p:nvPr>
            <p:ph type="dt" idx="1"/>
          </p:nvPr>
        </p:nvSpPr>
        <p:spPr/>
        <p:txBody>
          <a:bodyPr/>
          <a:p>
            <a:fld id="{4C2DD5A3-24E4-4D21-A781-527459789DD2}"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85800" y="990720"/>
            <a:ext cx="8077320" cy="5232240"/>
          </a:xfrm>
          <a:prstGeom prst="rect">
            <a:avLst/>
          </a:prstGeom>
          <a:ln w="0">
            <a:noFill/>
          </a:ln>
        </p:spPr>
      </p:pic>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BAAB9288-7F75-4745-9D9D-73D10B093FF3}" type="slidenum">
              <a:t>48</a:t>
            </a:fld>
          </a:p>
        </p:txBody>
      </p:sp>
      <p:sp>
        <p:nvSpPr>
          <p:cNvPr id="5" name="PlaceHolder 4"/>
          <p:cNvSpPr>
            <a:spLocks noGrp="1"/>
          </p:cNvSpPr>
          <p:nvPr>
            <p:ph type="dt" idx="1"/>
          </p:nvPr>
        </p:nvSpPr>
        <p:spPr/>
        <p:txBody>
          <a:bodyPr/>
          <a:p>
            <a:fld id="{EE0FF073-7F36-40FB-A141-D21FEE401D7E}"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oyo Bibliográfico</a:t>
            </a:r>
            <a:endParaRPr b="0" lang="en-US" sz="2800" spc="-1" strike="noStrike">
              <a:solidFill>
                <a:srgbClr val="000000"/>
              </a:solidFill>
              <a:latin typeface="Times New Roman"/>
            </a:endParaRPr>
          </a:p>
        </p:txBody>
      </p:sp>
      <p:sp>
        <p:nvSpPr>
          <p:cNvPr id="137"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homas E. Copeland, J. Fred Weston: Financial Theory and Corporate Policy, Third Ed. Addison Wesley,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Richard G. Layard, Alan A. Walters: Microeconomic Theory. Mc Graw Hill, 1978</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ul Milgrom, John Roberts: Economics, Organization and Management. Prentice Hall,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bert S. Pindyck, Daniel L. Rubinfeld, Beker: Microeconomía. Primera Ed., Prentice Hall, 2000</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630A745-77B0-429C-86D9-1F12BB6098B4}" type="slidenum">
              <a:t>49</a:t>
            </a:fld>
          </a:p>
        </p:txBody>
      </p:sp>
      <p:sp>
        <p:nvSpPr>
          <p:cNvPr id="6" name="PlaceHolder 5"/>
          <p:cNvSpPr>
            <a:spLocks noGrp="1"/>
          </p:cNvSpPr>
          <p:nvPr>
            <p:ph type="dt" idx="1"/>
          </p:nvPr>
        </p:nvSpPr>
        <p:spPr/>
        <p:txBody>
          <a:bodyPr/>
          <a:p>
            <a:fld id="{D73299FF-4FE2-4FBD-AC20-FFA19D4A95E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a:t>
            </a:r>
            <a:endParaRPr b="0" lang="en-US" sz="2800" spc="-1" strike="noStrike">
              <a:solidFill>
                <a:srgbClr val="000000"/>
              </a:solidFill>
              <a:latin typeface="Times New Roman"/>
            </a:endParaRPr>
          </a:p>
        </p:txBody>
      </p:sp>
      <p:sp>
        <p:nvSpPr>
          <p:cNvPr id="50"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o de muchos métodos frecuentemente usados para administrar riesgos es el de transferir el riesgo a través cláusulas en contratos que establecen la responsabilidad de indemnización a la parte que asumirá el riesg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muchas relaciones comerciales están afectas a los costos de transacción asociados a asimetría de información y comportamiento oportunist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centivos contractuales son clausulas en contratos que buscan:</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esolver el problema de la asignación de riesgos </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er incentivos que disminuyan el potencial comportamiento oportunista de las partes involucradas, en presencia de asimetrías de informació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cláusulas son frecuentemente usadas para resolver el problema Agente - Principal o de Agenciamient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BE5C3AD-CFA0-4726-9EDE-FEBD603B65F9}" type="slidenum">
              <a:t>5</a:t>
            </a:fld>
          </a:p>
        </p:txBody>
      </p:sp>
      <p:sp>
        <p:nvSpPr>
          <p:cNvPr id="6" name="PlaceHolder 5"/>
          <p:cNvSpPr>
            <a:spLocks noGrp="1"/>
          </p:cNvSpPr>
          <p:nvPr>
            <p:ph type="dt" idx="1"/>
          </p:nvPr>
        </p:nvSpPr>
        <p:spPr/>
        <p:txBody>
          <a:bodyPr/>
          <a:p>
            <a:fld id="{FC85BF25-B429-4A09-A98F-98D03C55800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 (Cont.)</a:t>
            </a:r>
            <a:endParaRPr b="0" lang="en-US" sz="2800" spc="-1" strike="noStrike">
              <a:solidFill>
                <a:srgbClr val="000000"/>
              </a:solidFill>
              <a:latin typeface="Times New Roman"/>
            </a:endParaRPr>
          </a:p>
        </p:txBody>
      </p:sp>
      <p:sp>
        <p:nvSpPr>
          <p:cNvPr id="52"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Agente - Principal aparece en multiples transacciones y afecta a diversas institucion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unque todos los casos tienen componentes comúnes,  la presición que puede lograrse en el monitoreo del desempeño del agente, y la necesidad de aislarlo de ciertos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las instituciones y prácticas contractuales que mejor balancean los incentivos y la toma de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se puede detectar y desarrollar ciertos principios generales que permiten lograr entender hasta cierto punto cómo debieran diseñarse los contratos óptim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4449FE3-8D12-4EB9-B338-A97EF73E62DC}" type="slidenum">
              <a:t>6</a:t>
            </a:fld>
          </a:p>
        </p:txBody>
      </p:sp>
      <p:sp>
        <p:nvSpPr>
          <p:cNvPr id="6" name="PlaceHolder 5"/>
          <p:cNvSpPr>
            <a:spLocks noGrp="1"/>
          </p:cNvSpPr>
          <p:nvPr>
            <p:ph type="dt" idx="1"/>
          </p:nvPr>
        </p:nvSpPr>
        <p:spPr/>
        <p:txBody>
          <a:bodyPr/>
          <a:p>
            <a:fld id="{AD9B9E69-C4CC-4340-B990-A199B56023E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400" y="228600"/>
            <a:ext cx="7772400" cy="4114800"/>
          </a:xfrm>
          <a:prstGeom prst="rect">
            <a:avLst/>
          </a:prstGeom>
          <a:noFill/>
          <a:ln w="0">
            <a:noFill/>
          </a:ln>
        </p:spPr>
        <p:txBody>
          <a:bodyPr lIns="90000" rIns="90000" tIns="46800" bIns="46800"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iseño de Incentivos para Disminuir la Asimetría de Información y el Comportamiento Oportunista</a:t>
            </a:r>
            <a:endParaRPr b="0" lang="en-US" sz="24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busqueda de métodos para solucionar el Problema de Agenciamiento se han diseñado múltiples contratos de trabajo diferentes. Los buenos contratos contendrán incentivos que traspasen la responsabilidad de su desempeño a los mismos trabajadores, por la vía de hacer que su compensación y promociones futuras dependan de sus logros actuales.  Lamentablemente este traspaso de responsabilidad incluye inevitablemente la introducción de riesgo respecto a sus ingresos presentes y futur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personas es aversa al riesgo y en general tiene menos posibilidades de administrar el riesgo que sus empleadores. En consecuencia, los incentivos contractuales no están excentos de cost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ntratos eficientes logran un buen equilibrio entre los costos de administración de riesgos que introducen y los beneficios por mejor desempeño que caus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F9486330-69F2-45D5-8C35-3DE64A2BFE44}" type="slidenum">
              <a:t>7</a:t>
            </a:fld>
          </a:p>
        </p:txBody>
      </p:sp>
      <p:sp>
        <p:nvSpPr>
          <p:cNvPr id="5" name="PlaceHolder 4"/>
          <p:cNvSpPr>
            <a:spLocks noGrp="1"/>
          </p:cNvSpPr>
          <p:nvPr>
            <p:ph type="dt" idx="1"/>
          </p:nvPr>
        </p:nvSpPr>
        <p:spPr/>
        <p:txBody>
          <a:bodyPr/>
          <a:p>
            <a:fld id="{07C75ECD-AA31-4BA3-BC98-E01B025163E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odelo Básico de la Remuneración como Incentivo</a:t>
            </a:r>
            <a:endParaRPr b="0" lang="en-US" sz="2800" spc="-1" strike="noStrike">
              <a:solidFill>
                <a:srgbClr val="000000"/>
              </a:solidFill>
              <a:latin typeface="Times New Roman"/>
            </a:endParaRPr>
          </a:p>
        </p:txBody>
      </p:sp>
      <p:sp>
        <p:nvSpPr>
          <p:cNvPr id="55"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fuentes posibles de comportamiento oportuni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grado con las labores específicas que se realiz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exceso de generosidad con los subordinad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nepotismo o tolerancia al nepotis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urrir en gastos excesivos para aumentar la comodidad del ambiente de trabajo, los viajes de negocios,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alzar acciones filantrópicas con fondos de la empresa para aumentar su prestigi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dicar tiempo excesivo a projectos que le aumenten su prestigio profes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9995E4F-C389-49A3-B8F9-A1B33ADFE3B5}" type="slidenum">
              <a:t>8</a:t>
            </a:fld>
          </a:p>
        </p:txBody>
      </p:sp>
      <p:sp>
        <p:nvSpPr>
          <p:cNvPr id="6" name="PlaceHolder 5"/>
          <p:cNvSpPr>
            <a:spLocks noGrp="1"/>
          </p:cNvSpPr>
          <p:nvPr>
            <p:ph type="dt" idx="1"/>
          </p:nvPr>
        </p:nvSpPr>
        <p:spPr/>
        <p:txBody>
          <a:bodyPr/>
          <a:p>
            <a:fld id="{1D1E7811-4F8B-4022-82E4-8ACFB5CD8A4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iesgos, Incentivos y Compensación</a:t>
            </a:r>
            <a:endParaRPr b="0" lang="en-US" sz="2800" spc="-1" strike="noStrike">
              <a:solidFill>
                <a:srgbClr val="000000"/>
              </a:solidFill>
              <a:latin typeface="Times New Roman"/>
            </a:endParaRPr>
          </a:p>
        </p:txBody>
      </p:sp>
      <p:sp>
        <p:nvSpPr>
          <p:cNvPr id="57"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os empleados pudieran siempre tener el desempeño requerido por el empleador y si fuera fácil determinar si se comportaron como debían hacerlo, establecer incentivos contractuales que hagan su remuneración dependiente de su desempeño no introduciría costo algúno por concepto de transferencia de riesgo.</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hay muchos factores que inevitablemente transfieren riesgo a los empleados:</a:t>
            </a:r>
            <a:endParaRPr b="0" lang="en-US" sz="20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ay factores fuera del control de los empleados que afectan los resultados de su gestión: fluctuaciones de la demanda, acciones de la competencia, accidentes, cambios en las condiciones de la economía, etc.</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se intenta medir el desempeño del empleado y no los resultados finales de su trabajo aparecen fuentes de incertidumbre ya que normalmente hay por lo menos algunos elementos subjetivos en el proceso: por ej. la evaluación puede depender de la percepción subjetiva que tenga el supervisor respecto a la actitud de el empleado frente al trabajo o frente a sus pares.</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cesos fuera del control del empleado pueden afectar su propia capacidad de desempeñarse bien: por ej.  Enfermedades, problemas familiares, 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EE0811E-D902-448D-9F4F-77D40011AC6E}" type="slidenum">
              <a:t>9</a:t>
            </a:fld>
          </a:p>
        </p:txBody>
      </p:sp>
      <p:sp>
        <p:nvSpPr>
          <p:cNvPr id="6" name="PlaceHolder 5"/>
          <p:cNvSpPr>
            <a:spLocks noGrp="1"/>
          </p:cNvSpPr>
          <p:nvPr>
            <p:ph type="dt" idx="1"/>
          </p:nvPr>
        </p:nvSpPr>
        <p:spPr/>
        <p:txBody>
          <a:bodyPr/>
          <a:p>
            <a:fld id="{D4ED64BF-BE2F-4B80-B8E7-3E8F2580A39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8:09:24Z</dcterms:created>
  <dc:creator>Emilio Covarrubias Noé</dc:creator>
  <dc:description/>
  <dc:language>en-US</dc:language>
  <cp:lastModifiedBy>Emilio Covarrubias</cp:lastModifiedBy>
  <dcterms:modified xsi:type="dcterms:W3CDTF">2005-11-08T21:23:38Z</dcterms:modified>
  <cp:revision>365</cp:revision>
  <dc:subject/>
  <dc:title>CASO MULTINACIONAL SECTOR ELECTRICO</dc:title>
</cp:coreProperties>
</file>