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8D4-BADC-47D4-BB38-634A5D7C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9E9-D62E-4722-B842-2EC82C12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EA0-A4D8-439A-8574-A0A25E25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867-7FBB-4563-A9F1-33AEB1A3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4AA-ED6E-43F9-B131-E4D5CF20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630-BE96-485D-A4A8-0E4B6A6A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0FC-3A62-4059-B609-7F4C51A4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7F2-D125-4766-A76C-09C10E35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5C8-CD72-4B2B-8BD0-22ADE895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EBC-F4B1-410F-921C-274CE354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00D-8DAC-4804-99E2-BA524D9C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454-AB85-4817-B62B-134A89F0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2973-92E5-47E1-8B19-F2604731D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dii</cp:lastModifiedBy>
  <dcterms:modified xsi:type="dcterms:W3CDTF">2005-07-21T15:30:02Z</dcterms:modified>
  <cp:revision>82</cp:revision>
  <dc:subject/>
  <dc:title>Arbol lógico</dc:title>
</cp:coreProperties>
</file>