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E90-DC7F-48F9-8441-17F50C80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CE4-5B31-4A01-84D6-482FF377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5F9-9C6D-4D8C-AA89-EEFC4F6B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5E7-FB2D-4EFE-A69C-17869BAA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6E2-7AA2-4E8E-A018-4C24DEA3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ECC-CA43-4CDE-9A4B-59371C35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E86-8E2C-410C-8BD8-48473496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810-8176-42B7-9BD1-CB7D70E8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69D-F7FD-4B5B-959C-57F0861F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F3B-38D0-4C76-8726-1ADCD93C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83A-F201-4FF9-A161-2EF0EB37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BD6-E19A-438F-B380-1F762932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D825-DA4C-497A-8055-5EE688E22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dii</cp:lastModifiedBy>
  <dcterms:modified xsi:type="dcterms:W3CDTF">2005-07-21T15:30:02Z</dcterms:modified>
  <cp:revision>82</cp:revision>
  <dc:subject/>
  <dc:title>Arbol lógico</dc:title>
</cp:coreProperties>
</file>