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CE15-5831-446A-96C3-AD607561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736-1EE6-4560-933E-5450B64A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F56-B871-4D4E-A65D-B2583D73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A1F-861C-4DE9-8156-D4C53307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6817-5742-480A-B066-B87DCB5F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E254-6506-4C3F-8103-13BB97A2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40AD-BA82-4D33-A0B3-4F29C3F7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F00-FA73-4CE2-88CF-C288B009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8013-A961-4664-B6E5-B06061C4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4F6C-4D04-4E94-8406-221C9A63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F1EC-F488-45F5-80D5-53C195DE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AAB-3266-4B35-B81E-75CA3BB5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8E92-85B9-466E-836D-59E04DAF0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briefing aspectos de fo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24 de Septiembre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erramient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56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la presentación 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o leve en las transpa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 sin err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l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 de 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lexión (énfasi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strar pasión, entusia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in exagerar, eso si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848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con los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 con la audiencia (y siempre de fr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exagerar en ef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d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rtografía y punt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ructura del in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cia de índice, con capítulos y 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pág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tít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adros, tablas y gráficos: numeración, título, indicación de fu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bliografía con todos los datos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00000" y="981000"/>
            <a:ext cx="8167320" cy="5454360"/>
            <a:chOff x="900000" y="981000"/>
            <a:chExt cx="8167320" cy="5454360"/>
          </a:xfrm>
        </p:grpSpPr>
        <p:sp>
          <p:nvSpPr>
            <p:cNvPr id="69" name=""/>
            <p:cNvSpPr/>
            <p:nvPr/>
          </p:nvSpPr>
          <p:spPr>
            <a:xfrm>
              <a:off x="900000" y="1273320"/>
              <a:ext cx="8167320" cy="516204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560" y="1915560"/>
              <a:ext cx="835920" cy="324756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5280" y="4264560"/>
              <a:ext cx="851040" cy="9140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97080" y="4179960"/>
              <a:ext cx="760680" cy="83448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26480" y="4976280"/>
              <a:ext cx="651240" cy="92592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3600" y="4474080"/>
              <a:ext cx="614520" cy="88056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66320" y="2569680"/>
              <a:ext cx="1438560" cy="2919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81560" y="4607280"/>
              <a:ext cx="510120" cy="84096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82600" y="4477680"/>
              <a:ext cx="520200" cy="98460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942320" y="4661280"/>
              <a:ext cx="461160" cy="82224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4227840" y="981000"/>
              <a:ext cx="2515320" cy="5186160"/>
              <a:chOff x="4227840" y="981000"/>
              <a:chExt cx="2515320" cy="5186160"/>
            </a:xfrm>
          </p:grpSpPr>
          <p:sp>
            <p:nvSpPr>
              <p:cNvPr id="80" name=""/>
              <p:cNvSpPr/>
              <p:nvPr/>
            </p:nvSpPr>
            <p:spPr>
              <a:xfrm>
                <a:off x="4629960" y="1401480"/>
                <a:ext cx="1245960" cy="8877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50160" y="1167840"/>
                <a:ext cx="2350800" cy="166608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413800">
                <a:off x="4664880" y="1510200"/>
                <a:ext cx="658800" cy="864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589800" y="1175400"/>
                <a:ext cx="142560" cy="16344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227840" y="1339200"/>
                <a:ext cx="2515320" cy="14947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78360" y="981000"/>
                <a:ext cx="557280" cy="51861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01280" y="2429280"/>
                <a:ext cx="164160" cy="303660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304360" y="4983120"/>
              <a:ext cx="3544560" cy="89496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69960" y="5026680"/>
              <a:ext cx="3121200" cy="48924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49080" y="5085000"/>
              <a:ext cx="634320" cy="86400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66640" y="5121720"/>
              <a:ext cx="749160" cy="87408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7560" y="5140800"/>
              <a:ext cx="780480" cy="87732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55760" y="5327640"/>
              <a:ext cx="726840" cy="83052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258920" y="54936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¡Caminemos con paso seguro hacia el éxi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dii</cp:lastModifiedBy>
  <dcterms:modified xsi:type="dcterms:W3CDTF">2005-07-21T15:30:02Z</dcterms:modified>
  <cp:revision>82</cp:revision>
  <dc:subject/>
  <dc:title>Arbol lógico</dc:title>
</cp:coreProperties>
</file>