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D9F-B2F2-486A-A9BA-202F515E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2E6-F94A-46A7-B152-BF8C8C7E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D83-245D-4DC7-9FA3-198CD636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631-49A6-496A-9C79-1B04DDD0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267-F2D2-4853-81CC-83D7DD8D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BAE-01F4-4F78-846D-2D46409B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072-CF8C-45CF-9362-9FB0A70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EC4-D99E-445A-BF86-990B97AF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E1D-1C20-4733-B104-291453C5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687-9240-4ABF-A41B-21123227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97F-C387-4E0E-B886-A8EE4B56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51C-990F-4254-9CEB-82144DAC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9412-2DBB-4844-9945-1066F3273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dii</cp:lastModifiedBy>
  <dcterms:modified xsi:type="dcterms:W3CDTF">2005-07-21T15:30:02Z</dcterms:modified>
  <cp:revision>82</cp:revision>
  <dc:subject/>
  <dc:title>Arbol lógico</dc:title>
</cp:coreProperties>
</file>