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87C-43F0-4D45-B59B-62C77385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7B3-9002-4C42-8CF9-BA50701C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EA9-F6CE-4A90-825E-4AD767E4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0C3-3DC5-4B19-A735-FE57CC9D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AE0-7DBE-48F9-B033-DFB26362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C6C-1720-4AD4-B08B-7D74D85C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CF5-45D8-4833-85E7-A2F4299A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28C-EF52-43A9-B804-E5807609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298-5699-478E-95FF-91E71CF9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219-227E-4C3A-A83A-2D1C2174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D2F-A0B6-4D3A-AB7F-F927A55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05F-0AFA-4756-87B5-42C086F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4205-A60B-408A-B8BA-3DA810392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dii</cp:lastModifiedBy>
  <dcterms:modified xsi:type="dcterms:W3CDTF">2005-07-21T15:30:02Z</dcterms:modified>
  <cp:revision>82</cp:revision>
  <dc:subject/>
  <dc:title>Arbol lógico</dc:title>
</cp:coreProperties>
</file>