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CA4C1-48BE-41EF-A326-BAC1DBAAC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7EBD-9354-40B0-98D3-E4358800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90B85-B648-4CAB-9588-EB58861F6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AEDD5-8F6F-4D6A-B4AF-33BA4A39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9ED321-6220-4C08-AEBA-BCA4C803E8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FA35D7-D6E5-45EC-85C3-FDABA5F63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EBD031-0A5A-423B-96AD-9490D6015B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84719-7CE1-4597-945A-18815EC655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8DEAE-7076-4C73-9A3F-3B9EFF9B7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D6F7F-3126-4819-8058-20E68474B0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349CD-E432-46F9-BE6A-C9C443C9B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6D7D3-B661-4728-AE3D-DEEC9A7D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7D0F5-9986-48B5-A695-2921B6D473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D2BDA-ABE9-46F8-977E-316132F74C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0B1E22-594D-451D-87FA-E9F83232DF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B77F5-B6DF-48AE-BE78-99B4C0B715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B4E92-C24B-44B8-A8D1-3657BFBC3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5ED2-DB7F-4995-897E-126596D4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EB602-6D4E-430E-837D-B10438A5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BCD9-EC16-4273-9B34-8EE90FB1C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81AF7-0859-47C0-8E0C-1732B5E0F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040A-3F85-403D-8033-ABD4D9338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0086D-2F78-4415-B987-C5F223F9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0F61-2A17-42C1-B7C2-175E03F7A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FB0C-BD3B-40A2-A9DB-1183300B50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28FE-84D1-49A0-BE27-2F81B6813FCB}"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58BB098A-5109-4DA1-B8C5-13BBA3ADA2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7"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r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D7CB9AB-C415-4A68-BF6E-5669648496E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383C321-6023-4DEE-BC02-A6452100A8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9DB1393-7A9E-4D8F-90DF-CE4EDA51BE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06F63A-B9D2-4674-A2B0-0C7658610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190C257-F2D1-4841-9066-32628E24E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827C5897-AF1B-4CE9-90A1-F2F49220D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29F35271-00DB-4551-AA55-144CBF3F5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6840" y="1449360"/>
            <a:ext cx="8002440" cy="5075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el NSE se determina por una batería de seis bienes. </a:t>
            </a:r>
            <a:r>
              <a:rPr b="0" lang="es-ES" sz="1800" spc="-1" strike="noStrike">
                <a:solidFill>
                  <a:srgbClr val="000099"/>
                </a:solidFill>
                <a:latin typeface="Arial"/>
              </a:rPr>
              <a:t>Los bienes seleccionados son:</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Automóvil</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omputador.</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Horno Microonda.</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amara de video filmadora.</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alifont u otro sistema de ducha caliente.</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Servicio de TV Cable.</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Arial"/>
              </a:rPr>
              <a:t>	</a:t>
            </a:r>
            <a:endParaRPr b="0" lang="en-US" sz="1200" spc="-1" strike="noStrike">
              <a:solidFill>
                <a:srgbClr val="000099"/>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CC4BBE53-18A4-48E1-89B8-919700BCD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5" name="PlaceHolder 2"/>
          <p:cNvSpPr>
            <a:spLocks noGrp="1"/>
          </p:cNvSpPr>
          <p:nvPr>
            <p:ph/>
          </p:nvPr>
        </p:nvSpPr>
        <p:spPr>
          <a:xfrm>
            <a:off x="456840" y="1239840"/>
            <a:ext cx="8002440" cy="5075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a cantidad de bienes que tiene la persona determina su NSE:</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Arial"/>
              </a:rPr>
              <a:t>	</a:t>
            </a:r>
            <a:r>
              <a:rPr b="0" lang="es-ES" sz="32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0 puntos = E</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1-2 puntos = D</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3-4 = Cb</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5 = Ca</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6 puntos = B</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batería de 6 bienes clasifica correctamente los hogares con un 80% de probabilidad. Esto es, en un 80% de los casos arroja el mismo resultado que la Matriz de Clasificación Socio-Económic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658BFB6-68D5-4A37-8136-BBE53E5FF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5-10-30T04:30:17Z</dcterms:modified>
  <cp:revision>313</cp:revision>
  <dc:subject/>
  <dc:title>IN627</dc:title>
</cp:coreProperties>
</file>