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6.wmf" ContentType="image/x-wmf"/>
  <Override PartName="/ppt/media/image11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0232-BBA9-4E69-84B6-F8B08EA9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A743-5F46-4FE7-9C19-803F0245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E63A-B5DA-43E0-B121-20EB765AA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626C-6E3E-4495-BA0A-8EDEC5CD2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E8D02-B74E-4BD4-8099-A8683F3AD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0942-BE27-488B-9796-A9F439B30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F27DB-9F99-4180-AF01-080158A2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FAA9-57BF-49FA-9FDD-5F72E239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F890-8AD7-4E83-A4F9-2703190F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F1F5-A93D-484B-8C73-48A6FB8F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4900-2FAF-42B4-AEA9-DAB096E2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B79C-5456-4B47-BBF5-8797D84E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60D08-E8E3-418D-B7B0-2D9A6298E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2676-26CE-4039-AF23-27F0E2DA8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3C3D-0A3C-4999-8317-276F3DE8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F0C7E-8606-4B26-92BC-E78131DA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58F3-6ADC-4581-BEF7-3E12F9DAB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2A0-E2B0-486C-9C84-7A13932E9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ADA-891B-4B89-8238-D76CE3FA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F39F-58AC-404D-9555-E44312D3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0741-BD56-4FEB-8EE3-54268855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85BE-2B50-4111-9D71-5C6FA0E1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1148-6E1A-45DE-81C9-F61345F4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D2E-4712-40C2-982F-50E364148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DCE6-F678-443F-B188-E088930F71B1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BBA6-65B3-4163-9845-07F2269C614C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 Regulación Ambient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ra. Patricia Mat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0" y="2606760"/>
            <a:ext cx="9144000" cy="1644480"/>
            <a:chOff x="0" y="2606760"/>
            <a:chExt cx="9144000" cy="1644480"/>
          </a:xfrm>
        </p:grpSpPr>
        <p:sp>
          <p:nvSpPr>
            <p:cNvPr id="136" name=""/>
            <p:cNvSpPr/>
            <p:nvPr/>
          </p:nvSpPr>
          <p:spPr>
            <a:xfrm>
              <a:off x="0" y="260676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sejo Directivo de CONAMA aprobó el Décimo Programa Priorizado de Normas Ambienta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29000"/>
              <a:ext cx="914400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El pasado 21 de Abril de 2005, fue aprobado por el Consejo Directivo el CONAMA, el Décimo Programa Priorizado de Normas Ambientales.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00000"/>
                </a:lnSpc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www.conama.c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écimo Programa Prioriz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752480"/>
            <a:ext cx="914400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San José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Huasc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Choap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Mataqui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Tolté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el Lago Villarric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Valdiv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Secundaria de Calidad para la Cuenca del Río Bak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para la regulación de contaminantes asociados a las descargas de aguas residuales en predios agrícolas y/o forest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visión de la Norma de Emisión para la Regulación de contaminantes asociados a las Descargas de Residuos Líquidos a Aguas Marinas y Continentales Superficiales, D.S. Nº 90 de 2000 de MINSEGP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Emisión de Material Particulado para Fuentes Estacionarias Puntuales y Grupa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rma de Ruido para Aeropuert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9640" y="1052640"/>
            <a:ext cx="7315200" cy="55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</a:rPr>
              <a:t>¿Cómo se promulgan las norma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s normas de calidad ambiental y emisión se establecerán mediante Decreto Supremo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Qué firmas llevarán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Primarias de Calidad : Ministro Secretario General de la Presidencia y del Ministro de Salu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Secundarias de Calidad : Ministro Secretario General de la Presidencia y Ministro sectorial que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Normas de emisión: Si se tratare de materias que no corresponden a un ministerio determinado, serán dictadas mediante decreto del Ministerio Secretario General de la Presidenc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¿Cada cuánto tiempo se revisa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Toda norma de calidad ambiental y de emisión será revisada por la CONAMA a lo menos cada 5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92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705720" y="1219320"/>
            <a:ext cx="1003320" cy="13539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8001000" y="5486400"/>
            <a:ext cx="88884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7924680" y="1143000"/>
          <a:ext cx="100188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4680" y="1143000"/>
                    <a:ext cx="100188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609480" y="1143000"/>
            <a:ext cx="7620120" cy="51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Dónde se aplican las normas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f0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primarias de calidad son de aplicación general en todo el territorio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secundarias de calidad se aplicarán en el ámbito territorial señalado en el Decreto, el que podrá ser todo el territorio de la República o parte de é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0000"/>
                </a:solidFill>
                <a:latin typeface="Comic Sans MS"/>
              </a:rPr>
              <a:t>Las normas de emisión se aplicarán en el territorio señalado en el Decre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09480" y="1143000"/>
            <a:ext cx="76201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Cómo se verifica el cumplimiento de una norma ambiental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l cumplimiento de una norma de calidad primaria deberá verificarse mediante mediciones en donde existan asentamientos human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s normas de emisión se medirán en el efluente de la fuente emisora y en un periodo de tiempo determinado, cuando correspond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22860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114800" y="3200400"/>
            <a:ext cx="115884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18288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ién coordina el proceso de dictación de una norma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coordinación del proceso de dictación de normas corresponderá a la CONA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6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029200" y="3505320"/>
            <a:ext cx="160020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16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7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7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7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451160" y="109440"/>
            <a:ext cx="6228720" cy="881280"/>
            <a:chOff x="1451160" y="109440"/>
            <a:chExt cx="6228720" cy="881280"/>
          </a:xfrm>
        </p:grpSpPr>
        <p:sp>
          <p:nvSpPr>
            <p:cNvPr id="182" name=""/>
            <p:cNvSpPr/>
            <p:nvPr/>
          </p:nvSpPr>
          <p:spPr>
            <a:xfrm>
              <a:off x="1451160" y="10944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00cc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58960" y="387360"/>
              <a:ext cx="18108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57720" y="657360"/>
              <a:ext cx="18072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cc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8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97360" y="6553080"/>
            <a:ext cx="2374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cc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9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cc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9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20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20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20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1222560" y="396540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cc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21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21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cc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21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cc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848720" y="5789520"/>
            <a:ext cx="849240" cy="839880"/>
            <a:chOff x="7848720" y="5789520"/>
            <a:chExt cx="849240" cy="839880"/>
          </a:xfrm>
        </p:grpSpPr>
        <p:pic>
          <p:nvPicPr>
            <p:cNvPr id="219" name="" descr=""/>
            <p:cNvPicPr/>
            <p:nvPr/>
          </p:nvPicPr>
          <p:blipFill>
            <a:blip r:embed="rId1"/>
            <a:stretch/>
          </p:blipFill>
          <p:spPr>
            <a:xfrm>
              <a:off x="7848720" y="578952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 txBox="1"/>
            <p:nvPr/>
          </p:nvSpPr>
          <p:spPr>
            <a:xfrm>
              <a:off x="7848720" y="578952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7924680" y="5562720"/>
            <a:ext cx="849600" cy="839520"/>
            <a:chOff x="7924680" y="5562720"/>
            <a:chExt cx="849600" cy="839520"/>
          </a:xfrm>
        </p:grpSpPr>
        <p:pic>
          <p:nvPicPr>
            <p:cNvPr id="222" name="" descr=""/>
            <p:cNvPicPr/>
            <p:nvPr/>
          </p:nvPicPr>
          <p:blipFill>
            <a:blip r:embed="rId1"/>
            <a:stretch/>
          </p:blipFill>
          <p:spPr>
            <a:xfrm>
              <a:off x="7924680" y="5562720"/>
              <a:ext cx="84960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 txBox="1"/>
            <p:nvPr/>
          </p:nvSpPr>
          <p:spPr>
            <a:xfrm>
              <a:off x="7924680" y="5562720"/>
              <a:ext cx="849600" cy="839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ff"/>
                </a:solidFill>
                <a:latin typeface="Comic Sans MS"/>
              </a:rPr>
              <a:t>COMITÉ OPE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1523880"/>
            <a:ext cx="7772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l Director Ejecutiv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revia aprobación del Conse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irectivo, podrá crea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Comités Operativos form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or representantes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los ministerios, servicios 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más organismos compet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De igual forma y con el mismo objetivo, podrá crear comités consultivos con participación de personas naturales y jurídicas ajenas a la Administración del Est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5338800" y="2286000"/>
            <a:ext cx="353700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1828800"/>
            <a:ext cx="7620120" cy="45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tuaciones de emergenci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O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685800" y="1828800"/>
            <a:ext cx="762012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0033"/>
                </a:solidFill>
                <a:latin typeface="Comic Sans MS"/>
              </a:rPr>
              <a:t>¿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Qué criterios debo considerar para elaborar una norma primaria de calidad ambient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Gravedad y la frecuencia del daño y efectos adversos observ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ntidad de población expues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calización, abundancia, persistencia y origen del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nsformación ambiental o alteraciones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abólicas secundaria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CALIDAD PRIMA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7772400" y="1219320"/>
            <a:ext cx="84132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M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mentos conceptu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po de Regula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dimiento para la dictación de Normas Ambientales en Ch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aluación a 10 años de apl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685800" y="1066680"/>
            <a:ext cx="7620120" cy="54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para establecer los niveles de riesgo para la salu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y caracterizar 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su distribución en el país, identificando el nivel actual exist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copilar antecedentes acerca de efectos adver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Identificar las vías, fuentes, rutas y medios de exposi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Describir efectos independientes, aditivos, sinérgicos, acumulativos del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1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86600" y="1371600"/>
            <a:ext cx="1771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762120"/>
            <a:ext cx="762012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Cuáles son los contenidos de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una norma de emis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f01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Valor de la norma medida en el eflu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Objetivos de protec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Ámbito territorial de su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ipos de fuentes regulad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todologías de medición y contro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iscaliz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lazo de entrada en vigenc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43600" y="3581280"/>
            <a:ext cx="25430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2120" y="457200"/>
            <a:ext cx="76197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¿Qué antecedentes se deben recopilar 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para determinar los valores de la 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nor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oncentración ambiental o distribución en el área de aplic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Relación entre emisiones del contaminante y calidad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Capacidad de dilución y autodepuración del medio recep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fectos del contaminante sobre la salud de las personas, la flora o la fauna u otros eleme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ecnologías aplicables a cada caso y análisis de la factibilidad técnica y económica de su implemen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286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NORMAS DE EM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7315200" y="3200400"/>
            <a:ext cx="14875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258" name="" descr=""/>
            <p:cNvPicPr/>
            <p:nvPr/>
          </p:nvPicPr>
          <p:blipFill>
            <a:blip r:embed="rId1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685800" y="304920"/>
            <a:ext cx="1981080" cy="761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PARTICIPACION</a:t>
            </a:r>
            <a:br>
              <a:rPr sz="1600"/>
            </a:b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CIUDAD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447560" cy="8082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 rot="10800000">
            <a:off x="7467120" y="1371240"/>
            <a:ext cx="1111320" cy="167652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685800" y="121932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0033"/>
                </a:solidFill>
                <a:latin typeface="Comic Sans MS"/>
              </a:rPr>
              <a:t>Cuáles son los mecanismos de particip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programa priorizado de nor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olución de inici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stablecimiento de fecha recepción de anteced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Expediente públ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Tabla pública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resumen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ante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lazo 60 días para formular consultas y aportar observ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Publicación Diario Oficial norma definitiv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3333ff"/>
                </a:solidFill>
                <a:latin typeface="Comic Sans MS"/>
              </a:rPr>
              <a:t>Mecanismo de reclam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rcRect l="0" t="0" r="63343" b="0"/>
          <a:stretch/>
        </p:blipFill>
        <p:spPr>
          <a:xfrm>
            <a:off x="7848720" y="304920"/>
            <a:ext cx="990360" cy="95076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Comic Sans MS"/>
              </a:rPr>
              <a:t>Normas Ambientales Vigent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3810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mic Sans MS"/>
              </a:rPr>
              <a:t>Primaria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46/97: rui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29/2002: ruido bu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165/98: Arsénico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67/99: Olores TRS (emisió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59/ 98: PM 10 dí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115/02: 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45/01 PM10 añ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114/02: N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2/02: O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13/02: SO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136/00: plo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Secundar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09/98: emisión Alcantarilla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 686/98 : Contaminación lumínic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º90: emisión aguas marinas y continentales superfi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visión DS 609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DS n° 46/02: Emisión a aguas subterrán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rmas de emis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30/02: Buses locomoción colect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4/00: Motocicl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4/94: vehículos motorizad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S n° 103/00: Hidrocarburos no metánicos vehículos livianos y median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Logros alcanzados con la aplicación del instru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de formulación de normas en oper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gulaciones generales y específicas en el ámbito hídrico y atmosfér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cedimiento que permite toma de decisiones documentada, informada, con participación y en base a consideraciones nacionales y/o loc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sarrollo de capacidades de coordinación interministe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Generación de capacidades técnicas en gestión de la contamin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ablecimiento de regulaciones con participación multisectori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bilidad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 información usad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edominio de antecedentes internacion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aración de Riesgos ausen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Capacidad de analítica nac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General del Impacto Económic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casa participación ciudada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étodo “escrito” v/s “ora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nálisis estratégico mediano y larg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valuación Externa: OEC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arrollar y fortalecer aún más los marcos normativos para mejorar la salud ambiental y cumplir los compromisos internacionales; examinar formas de fortalecer la capacidad de cumplimiento y fiscalización, incluso mediante reformas institucionales, como por ejemplo el establecimiento de un órgano de inspección ambiental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ás recomend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esar en la puesta en práctica de programas de calidad del aire, incluidos los relacionados con la minería, orientados al material particulado y ozono; dar seguimiento al avance y a los efectos de los programas en la salud mediante indicadores apropi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normas de emisión nacion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onitoreo de la calidad del aire en ciudades princip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esarrollar medidas de eficiencia energética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Qué es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condiciones para que los agentes desarrollen sus actividad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r los objetivos de la gestión ambienta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ecer el nivel de riesgo socialmente acept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¿Porqué regula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Económ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 mercados no funcionan so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 Instituciones del Estado no funcionan sol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políticas y Socia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isten metas que el mercado no puede definir (equidad, prioridad en salud, etc.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sideraciones Juríd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je de conflictos en el marco leg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llas de Merca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ertidumb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metría de la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cion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manda no coincide con Neces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enes Públ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rnalida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905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a salud de la població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Primaria de Ca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Si el objetivo de protección s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los recursos naturales y 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atrimonio ambien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mic Sans MS"/>
              </a:rPr>
              <a:t>Norma Secundaria de Calidad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334120" y="1600200"/>
            <a:ext cx="1071360" cy="1371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 flipH="1" rot="10800000">
            <a:off x="4952880" y="4191120"/>
            <a:ext cx="755640" cy="690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867280" y="4343400"/>
            <a:ext cx="1060560" cy="14479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181480" y="2438280"/>
            <a:ext cx="3962520" cy="34545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09480"/>
            <a:ext cx="15238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a50021"/>
                </a:solidFill>
                <a:latin typeface="Comic Sans MS"/>
              </a:rPr>
              <a:t>TIPOS DE NO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133720"/>
            <a:ext cx="77724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0066"/>
                </a:solidFill>
                <a:latin typeface="Comic Sans MS"/>
              </a:rPr>
              <a:t>NORMAS DE EMI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cf01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establecen la cantidad máxim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permitida para un contamina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medida en el efluente  de l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fuente emisor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8294760" y="0"/>
            <a:ext cx="849240" cy="839880"/>
            <a:chOff x="8294760" y="0"/>
            <a:chExt cx="849240" cy="83988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829476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 txBox="1"/>
            <p:nvPr/>
          </p:nvSpPr>
          <p:spPr>
            <a:xfrm>
              <a:off x="829476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791320" y="990720"/>
            <a:ext cx="1557360" cy="33526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838080" y="914400"/>
            <a:ext cx="4410360" cy="49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uál es el procedimiento para la dictación de una norma de calidad ambiental y de emisió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procedimiento se sujetará a las disposiciones del Reglamento para la Dictación de Normas de Calidad Ambiental y Emisión (D.S. 93/9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1447920"/>
            <a:ext cx="6553080" cy="53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990033"/>
                </a:solidFill>
                <a:latin typeface="Comic Sans MS"/>
              </a:rPr>
              <a:t>¿Cómo se priorizan las norm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AMA consulta a instituciones del Estado co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mpetencia reguladora y a Dirección Reg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Consulta a instituciones privadas, academias y O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 de Programa Priorizado a Consejo Consultivo Naci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66"/>
                </a:solidFill>
                <a:latin typeface="Comic Sans MS"/>
              </a:rPr>
              <a:t>Presentación de propuesta  al Consejo Directivo de Conama con una reseña de todas las opiniones vertid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09480"/>
            <a:ext cx="1981080" cy="762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a50021"/>
                </a:solidFill>
                <a:latin typeface="Comic Sans MS"/>
              </a:rPr>
              <a:t>ANTECEDENTES GENE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086600" y="3200400"/>
            <a:ext cx="2057400" cy="10191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8288280" y="0"/>
            <a:ext cx="849240" cy="839880"/>
            <a:chOff x="8288280" y="0"/>
            <a:chExt cx="849240" cy="8398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8288280" y="0"/>
              <a:ext cx="8492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 txBox="1"/>
            <p:nvPr/>
          </p:nvSpPr>
          <p:spPr>
            <a:xfrm>
              <a:off x="8288280" y="0"/>
              <a:ext cx="849240" cy="839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9:22:14Z</dcterms:created>
  <dc:creator>Cenma</dc:creator>
  <dc:description/>
  <dc:language>en-US</dc:language>
  <cp:lastModifiedBy>Dii</cp:lastModifiedBy>
  <dcterms:modified xsi:type="dcterms:W3CDTF">2005-11-18T16:38:53Z</dcterms:modified>
  <cp:revision>12</cp:revision>
  <dc:subject/>
  <dc:title>La Regulación Ambiental</dc:title>
</cp:coreProperties>
</file>