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C77-7874-4D35-906E-0FB35E78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AA1-CDB9-4F84-B521-FA43A1EE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4A6-0E28-4532-B2C4-3B9D6A15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2C3-E4A4-49BD-908D-94128FA1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4CF0-D899-4DF0-9CD2-E5DCD564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DEFD-F4D1-4ED1-9B37-160AF75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AE62-E2B2-40EA-B7E0-302F022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7BC8-18D1-4D6E-86CE-12F37BE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CC1-6A84-4E23-BA4B-5D00924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F26-DA0D-47C0-99F1-7776495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B84D-9B85-458C-803C-1E74703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0AE-E7BC-4E91-9CE3-B713068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3184-767F-4364-A032-2DD483E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10E5-F741-4094-9189-7A8419E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E65-081A-415A-AF81-5DB305B8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8A0-F099-4608-8470-72BDDA36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172-95D9-46B2-AC9C-0B8B6E30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DA1-C4FF-4706-8983-B926BDA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4AE-DB94-42FC-A161-0FD98A2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38E-48C7-4844-BC58-84CFE806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421-E1A1-496D-943B-EAA70F9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F51-8059-4B30-9ECE-1AE8E6B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FF9-5AB4-48CF-83B8-7A5D9FA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C1C-0BBD-49A2-B353-3824DCB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F1AC-FA6D-452E-A9AB-957FDAE3323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22E-BBCC-426C-8B7E-72697DB259F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38:53Z</dcterms:modified>
  <cp:revision>12</cp:revision>
  <dc:subject/>
  <dc:title>La Regulación Ambiental</dc:title>
</cp:coreProperties>
</file>