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image6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3058-70B4-4D43-B213-89BF885C4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39DC-BC86-4AD1-9337-1296B231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D09-7391-483A-B568-3E19B91B5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DBF4-E05F-4B6A-91FC-43C24C98F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7CC7-A2E5-4EF4-9AD7-46407FE2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B36F-36E4-44F0-A007-FDA095BF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F50F-5936-419B-BDAD-4C99ED87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B5FD-2A9E-4FBA-9031-4F6B37073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BB6A-44BC-475B-AA0A-C76B3915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DC54-87F7-41BA-BE71-5E07C206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07EF-BC21-4566-A345-59C0583DC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6666-5709-4758-BE38-E0A57D752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D9D2-3176-481E-A567-82C5C5B32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lick.wav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audio" Target="../media/click.wav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893080" cy="54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TICIPACION CIUDADANA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 TRANSPA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 LA GESTION PUBLICA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447920"/>
            <a:ext cx="752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ORGANOS ADMINISTRACIÓN DEL ESTA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s, intendencias, gobernaciones y los órganos y servicios públicos, incluyendo:  Contraloría General de la República, Banco Central, Fuerzas Armadas y las Fuerzas de Orden  y Seguridad Pública,  Gobiernos Regionales, las Municipalidades y las empresas públicas creadas por ley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e extiende a informes y antecedentes de empresas privadas que presten servicios de utilidad pública y a empresas a que se refiere Ley Sociedades Anónim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ficinas de Información O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reto Nº 680, de 1990, del Ministerio del Interior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énes:  Ministerios, Intendencias, Gobernaciones y servicios públicos creados para el cumplimiento de la función administrativ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 qué: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 asistir al administrado en su derecho a presentar peticiones, sugerencias o reclamos ante la Administración del Estad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UNCIONES DE LAS OI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ar sobre  organización, competencia y funcionamiento de la institución y los requisitos para formular presentacion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istir al administrado en dificultades en la tramitación de sus asunto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y estudiar sugerencias que los administrados presenten, con el objeto de mejorar el funcionamiento del órg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ibir los reclamos de los administrado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11280" y="1584360"/>
            <a:ext cx="8028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PUBL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s documentos publicados íntegramente en el Diario Oficial son públicos y deben estar en un índice en las Oficinas de Información, Reclamos y Sugerencias OIR (DS Nº 680, de 1990 Ministerio del Interio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da Jefe Superior  establecerá la forma y contenido  del índice. Datos mínimos: i) individualización del acto o documento, señalando naturaleza, identificación o numeración; ii)  fecha de su emisión; y iii) fecha y lugar de la publicación del acto o documen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826920" y="1916280"/>
            <a:ext cx="7885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AUSALES DENEGAC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erva o secreto, establecida por ley o reglament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impida o entorpezca debido cumplimiento funciones del órgan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oposición terceros a quienes se refiere o afecta la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divulgación o entrega afecte sensiblemente derechos o intereses de terceros, según calificación fundada del jefe superior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que la publicidad afecte seguridad Nación o  interés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0920" y="1197000"/>
            <a:ext cx="867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PROTECCIÓN D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ÚBLICO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relativos a la defensa y seguridad na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los relativos a la política exterior o las relaciones internacionale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relativos a la política monetaria y divis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aquellos cuya comunicación pueda perjudicar a la moneda y al crédito públic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relativos al mantenimiento del orden público y la prevención y represión de la criminalida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f) aquellos cuya comunicación perjudique desarrollo de procedimientos jurisdiccionales o de actuaciones preparativas de aquellos que la  ley encomiende a organismos de la Administración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g) aquellos cuya comunicación perjudique la investigación por los servicios públicos de delitos y infracciones administrativas, tributarias o aduanera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h)  aquellos cuyo conocimiento pueda impedir u obstaculizar gravemente el ejercicio de la acción administrativa del órgano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i) la correspondencia oficial debidamente calificada por la autoridad según lo  dispuesto en  el DS N° 291 de 1974 del Ministerio del I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9280" y="1268280"/>
            <a:ext cx="831708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DE SECRETO O RESERVA BASADA EN LA PROTECCIÓN DE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INTERESES PRIVADOS DE LOS ADMINISTRADOS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) Los de carácter nominativo, es decir, que contengan una apreciación de juicio o valor sobre una persona determinada o claramente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b) Aquellos cuya comunicación afecte la vida privada de una persona individualizada o identifi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) Los expedientes relativos a procedimientos sancionatorios o disciplinarios de cualquier naturaleza, solo respecto de terceros ajenos a dichos procedimi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) Los expedientes médicos o sanita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) Los que contengan o se refieran a secretos industriales y comerciales, incluyendo procedimientos de fabricación, las informaciones económicas y financieras y las estrategias comerciales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7280" y="907920"/>
            <a:ext cx="69138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8080"/>
                </a:solidFill>
                <a:latin typeface="Century Gothic"/>
                <a:ea typeface="Times New Roman"/>
              </a:rPr>
              <a:t>      </a:t>
            </a:r>
            <a:r>
              <a:rPr b="0" lang="es-ES_tradnl" sz="1400" spc="-1" strike="noStrike" u="sng">
                <a:solidFill>
                  <a:srgbClr val="008080"/>
                </a:solidFill>
                <a:uFillTx/>
                <a:latin typeface="Century Gothic"/>
                <a:ea typeface="Times New Roman"/>
              </a:rPr>
              <a:t>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QUEMA SOLICITUD DE  ACC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432240"/>
            <a:ext cx="1398600" cy="1004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de persona u organ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49400" y="3394080"/>
            <a:ext cx="148284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uesta de organismo públ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73520" y="3610080"/>
            <a:ext cx="68436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h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060640"/>
            <a:ext cx="159552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394080"/>
            <a:ext cx="1595520" cy="12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la solicitud de información o no resp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4929120"/>
            <a:ext cx="1595520" cy="129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ulta a terceros potencialmente afect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10240" y="3394080"/>
            <a:ext cx="1595520" cy="107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lamo ante Juzgado de Let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60840" y="4929120"/>
            <a:ext cx="102564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días háb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4720" y="4929120"/>
            <a:ext cx="1595520" cy="6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4720" y="5808600"/>
            <a:ext cx="1595520" cy="86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haza entreg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220240" y="6248520"/>
            <a:ext cx="455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8675640" y="3833280"/>
            <a:ext cx="0" cy="2367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8105400" y="3833640"/>
            <a:ext cx="569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22600" y="3833640"/>
            <a:ext cx="226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32240" y="3833640"/>
            <a:ext cx="34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32240" y="4048200"/>
            <a:ext cx="45540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57880" y="383364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116240" y="2502000"/>
            <a:ext cx="684360" cy="107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86480" y="53690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396120" y="3833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396120" y="5152680"/>
            <a:ext cx="228600" cy="4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96120" y="5592600"/>
            <a:ext cx="228600" cy="64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341360"/>
            <a:ext cx="8820000" cy="3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1295280"/>
            <a:ext cx="8820000" cy="48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ION DE AMPAR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Requirente tendrá derecho a recurrir al juez de letra  civil de turno   del domicilio del órgano de la Administrac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El juez notifica por cédula en oficina de partes del  órgano correspondiente y en el domicilio del tercero si lo hubier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toridad tiene 5 días para presentar descargos y adjuntar medios de prueb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se dictará dentro de tercero día de vencido el plazo para presentar descarg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La sentencia definitiva es apelable en ambos efectos, dentro del plazo de 5 días desde la notificación. El fallo no es susceptible recurso de casación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1525680"/>
            <a:ext cx="8604000" cy="51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A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se acoge reclamación, sentencia fija plazo prudencial para entreg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Tribunal puede aplicar multa al jefe del servicio de 2 a 10 UT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no entrega oportuna de los documentos será sancionada con suspensión del jefe de servicio por  lapso de 5 a 15 días y multa de 2 a 10 UTM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jefe de servicio persiste se aplica doble de las sanciones.  El costo del material será siempre del requiren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1916280"/>
            <a:ext cx="8353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   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POSITIVOS DE NUESTRO ACTUAL SISTEM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Se consagra  Principio de Transparencia y Publicida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La información puede ser requerida por cualquier person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No es necesario expresar motivo del requerimiento de la informació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derecho comprende el de recibir copia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Plazos brev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El silencio administrativo positivo como regla general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cursos judiciale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Responsabil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46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RCO LEGAL ACCESO A LA INFORMAC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1197000"/>
            <a:ext cx="8677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         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SPECTOS NEGATIV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 misma ley que contempla el derecho de acceso a la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información es la que presenta las barreras a ést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causales de negación de la información quedan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regadas a la autoridad administrativa.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 conjunto de derechos de acceso no se encuentran  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rticulados en un cuerpo legal único y autónomo.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l asunto queda entregado solamente a la justicia ordin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ORMA CO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tículo 8º,  Capítulo Primero sobre Bases de la Institucionalidad 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ejercicio de las funciones públicas obliga a sus titulares a dar estricto cumplimiento al principio de probidad en todas sus actu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n públicos los actos y resoluciones de los órganos del Estado, así como sus fundamentos y los procedimientos que utilicen. Sin embargo, sólo una ley de quórum calificado podrá establecer la reserva o secreto de aquéllos o de éstos, cuando la publicidad afectare el debido cumplimiento de las funciones de dichos órganos, los derechos de las personas, la seguridad de la Nación o el interés nacional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8893080" cy="60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YECTO DE L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concepto de información pública a toda información en 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der de la Administración y toda documentación financiada co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upuesto públic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Incluye dentro de los obligados al Poder Legislativo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iende el plazo para entregar la información a 10 días hábil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stablece en la misma ley las causales para denegar información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Regula requisitos de una petición de acceso y obligación de remitir l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icitud a la institución compet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elevan las sanciones a funcionarios acceso;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Se restringen causales sesiones del Congreso con carácter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a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4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MAS NO INCLUIDOS PROYECTO DE LE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incluye ámbito administrativo Poder Judici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posición de terceros no necesita ser fundamentad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cción de amparo sigue quedando entregado a los jueces civil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recoge creación de un órgano administrativo, autónomo e independiente, evitando la instancia judicial como  única instancia de revisión. Este órgano cumpliría con las funciones de promoción del derecho.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280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¿</a:t>
            </a: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Qué es necesario además  para mejorar esta situación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Voluntad política para garantizar el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rementar el conocimiento de los funcionarios y la sociedad civil acerca del derecho de acceso a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jorar el diseño institucional de las instituciones para garantizar la entrega de información públ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tar a jueces en formación en materia de acceso a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ueva normativa para Ch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click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777240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Resultados </a:t>
            </a:r>
            <a:br>
              <a:rPr sz="2000"/>
            </a:b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studio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Acceso a la informació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ública en Chile</a:t>
            </a:r>
            <a:br>
              <a:rPr sz="3200"/>
            </a:b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ayo 2005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508720" y="5151600"/>
            <a:ext cx="2950920" cy="1066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6093000"/>
            <a:ext cx="9144000" cy="765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497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r las condiciones para ejercer el derecho de acceso a información pública, de acuerdo a los estándares nacionales e internacionales en la ma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876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todología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eñada por el Open Society Institute e implementada simultáneamente en 10 países de América, África y Europ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Argentin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Per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men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Bulgar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Franci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España  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edonia     Rumania           Sudá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0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269720"/>
            <a:ext cx="8497800" cy="460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0 pedid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 información públ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p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 voluntari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 diferentes perfi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eriodistas, 2 ONG´s, 1 empresario, 1 estudiante universitario, 1 empleado mapu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31212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ados 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isterio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stituciones del Poder Judic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952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mpresas privadas prestador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Tiemp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contemplados para evaluar las respuestas a los pedi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5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ntro de los 1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tre 11 y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r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ás de 20 días hábiles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respond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Tipo de inform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 solicitó información de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rutina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difícil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ensible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 se solicitó información que pudiera afectar la seguridad pública o de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8360" y="1341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0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po de informació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"/>
              </a:lnSpc>
              <a:spcBef>
                <a:spcPts val="106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ifíci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 casos en que la respuesta debe ser de alguna forma compilada o investig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1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sensible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sos en que las respuestas pudieran ser políticamente sensibles o que pudieran generar susceptibilidades en la cultura particular de un determinado paí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876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formación de rutina 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refiere a información de disponibilidad automá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aracterísticas del Estudio (I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1640" y="1483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MARCO JURÍDICO INTERNACIONAL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claración Universal del Derechos Humanos de 1948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Internacional de Derechos Civiles y Políticos, 1966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ención Americana sobre Derechos Humano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cto de San José de Costa Rica, 1969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68360" y="1346040"/>
            <a:ext cx="820728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6 Ministerios: 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Defensa, Hacienda, Justicia, MIDEPLAN, CONAMA, Secretaría General de Presidenci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instituciones Poder Judicial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Corte Suprema y Juzgado Civil Nº 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8 Municipio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Vitacura, Las Condes, Lo Barnechea, La Reina, Lo Prado, Lo Espejo, Ñuñoa, Pedro Aguirre Cer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Times New Roman"/>
              </a:rPr>
              <a:t>2 Empresas:</a:t>
            </a:r>
            <a:r>
              <a:rPr b="0" lang="es-ES" sz="2600" spc="-1" strike="noStrike">
                <a:solidFill>
                  <a:srgbClr val="000000"/>
                </a:solidFill>
                <a:latin typeface="Times New Roman"/>
              </a:rPr>
              <a:t> Aguas Andinas y Canal Megavi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stituciones a las que se le solicitó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763560" y="2662200"/>
          <a:ext cx="7569360" cy="2030400"/>
        </p:xfrm>
        <a:graphic>
          <a:graphicData uri="http://schemas.openxmlformats.org/drawingml/2006/table">
            <a:tbl>
              <a:tblPr/>
              <a:tblGrid>
                <a:gridCol w="7569360"/>
              </a:tblGrid>
              <a:tr h="20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os que se presentan a continuación son sólo una fotografía de un aspecto de las institucione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analizadas y, por lo tanto, no deben ser generalizados.</a:t>
                      </a: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940360" y="5837400"/>
            <a:ext cx="2303640" cy="831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0" y="6453360"/>
            <a:ext cx="9144000" cy="4046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57200" y="1171440"/>
            <a:ext cx="26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Importan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2" name="click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68360" y="1052640"/>
          <a:ext cx="807732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07732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34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1: Resultados Generale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18B-DBE2-44FA-9F59-03153EA366D7}" type="slidenum">
              <a:t>32</a:t>
            </a:fld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4680" y="1054080"/>
          <a:ext cx="9134640" cy="446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0" y="1054080"/>
                    <a:ext cx="913464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0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1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2: Resultados por institución (#)</a:t>
            </a:r>
            <a:br>
              <a:rPr sz="3200"/>
            </a:br>
            <a:br>
              <a:rPr sz="32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RVICIOS PÚBLICOS Y EMPRE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50920" y="1484280"/>
          <a:ext cx="8642160" cy="423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642160" cy="42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3: Resultados por institución (#)</a:t>
            </a:r>
            <a:br>
              <a:rPr sz="3200"/>
            </a:br>
            <a:br>
              <a:rPr sz="2400"/>
            </a:b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MUNICIPA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554040" y="917640"/>
          <a:ext cx="7827840" cy="49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917640"/>
                    <a:ext cx="7827840" cy="49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4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55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4: Respuesta a la misma solicitud hecha por distintas personas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324000" y="1351080"/>
          <a:ext cx="8642160" cy="42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51080"/>
                    <a:ext cx="864216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1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2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5: Información denega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institución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228600" y="1125360"/>
          <a:ext cx="8686800" cy="495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25360"/>
                    <a:ext cx="86868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8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72720"/>
            <a:ext cx="9144000" cy="10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6: Información recibida po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tipo de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84360" y="1125360"/>
          <a:ext cx="754380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25360"/>
                    <a:ext cx="754380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5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76" name="" descr=""/>
            <p:cNvPicPr/>
            <p:nvPr/>
          </p:nvPicPr>
          <p:blipFill>
            <a:blip r:embed="rId3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4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Fig 7: Ranking de peticiones de información sin respuesta (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5" name="click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17360"/>
            <a:ext cx="9144000" cy="100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lgunos ejemplos de respuestas negativas recibid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68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, nosotros no damos información de forma oral, debe presentar su solicitud por escrit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...) En todo caso, su derecho a la información supone que Ud. tenga un interés comprometido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o pedido no cumple con los requisitos de a) que el documento no revista el carácter de reservado y b) que la información contenida en dicho antecedente solicitado afecte directamente al particular que lo solicita o se vincule con situaciones fácticas concretas en que le corresponde intervenir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  <p:sndAc>
      <p:stSnd>
        <p:snd r:embed="rId3" name="click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24000" y="1557360"/>
            <a:ext cx="8820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AGRACION EN DERECHO INTERNACIONAL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da persona tiene derecho a la libertad de pensamiento y de expres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ste derecho comprende la libertad de buscar, recibir y difundir informaciones e ideas de toda índo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a sea oralmente, por escrito,  o por cualquier  otro procedimie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88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17% de los casos se accedió a la información solicitad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69% de los casos no se obtuvo respuesta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3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hile está en el último lugar de los 10 países evalu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eneral los Municipios tienden a brindar información en mayor medida que los Ministerios, las Instituciones del Poder Judicial y las empresas privadas de servici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gral. se observa que numerosas instituciones que tienden a responder, lo hacen vencido el plazo de 10 dí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s instituciones de Justicia y las empresas de servicios públicos analizadas han tendido a no responder los pedidos de información pública presentados en este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88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44000" y="1341000"/>
            <a:ext cx="88203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mbién se ha observado que la categoría de las preguntas (sensibles, difíciles o de rutina) no pareciera ser determinante a la hora de entregar inform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aprecia que los servicios públicos no están organizados para entrega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 percibe un escaso conocimiento por parte de los funcionarios públicos del derecho de acceso a la información pública y de la normativa nacional e internacional en la materia y las obligaciones que éstas impon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5780160"/>
            <a:ext cx="9144000" cy="1077840"/>
            <a:chOff x="0" y="5780160"/>
            <a:chExt cx="9144000" cy="1077840"/>
          </a:xfrm>
        </p:grpSpPr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940360" y="5837400"/>
              <a:ext cx="2303640" cy="83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2"/>
            <a:stretch/>
          </p:blipFill>
          <p:spPr>
            <a:xfrm>
              <a:off x="900000" y="5780160"/>
              <a:ext cx="2159280" cy="81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6453360"/>
              <a:ext cx="9144000" cy="40464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Observaciones finales (I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3" name="click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1773360"/>
            <a:ext cx="838836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TRANSVERS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iminación de la corrupción y arbitrarieda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 la participación a través del desarrollo de una ciudadanía informad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dios de comunicación más efectivos y basados en hechos verdader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moción del control sobre las funciones púb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2421000"/>
            <a:ext cx="7667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QUÉ ES ACCESO A LA INFORMACIÓN DE CARÁCTER PÚBLIC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recho que tienen los ciudadanos de acceder a la información sobre hechos que tengan relevancia o interés público, permitiendo la formación de una opinión razonable y fundament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11280" y="1600200"/>
            <a:ext cx="7885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¿A QUE INFORMACION PODEMOS ACCED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Son públicos los actos administrativos de los órganos de la Administración del Estado y los documentos que les sirvan de sustento o complemento directo  y esenci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ey N° 19.653, modifica Ley Orgánica Constitucional de Bases Generales de la Administración del Es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03280" y="1600200"/>
            <a:ext cx="6588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CTOS ADMINISTRATIV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as decisiones formales que emiten los órganos de la Administración del Estado en las que se contienen declaraciones finales de voluntad, realizadas en el ejercicio de una potestad públic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68360" y="981000"/>
            <a:ext cx="8388360" cy="48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SUSTENTATORIO O COMPLEMEN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todo escrito, correspondencia, memorándum, fotografía, video, y en general  todo soporte material que contenga información, cualquiera sea su forma  física o características y las copias de aquell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Documento de respald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son los agregados al acto administrativo que permiten verificar el contenido del mismo de manera íntegra y perfec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direct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,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que se vinculen necesariamente a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 y siempre que dicho acto se haya dictado, precisa e inequívocamente,  sobre las bases de esos documen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00"/>
                </a:solidFill>
                <a:uFillTx/>
                <a:latin typeface="Verdana"/>
                <a:ea typeface="Times New Roman"/>
              </a:rPr>
              <a:t>Complemento esencial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os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documentos indispensables para la elaboración y dictación del acto administrativ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en que concurren, de modo que son inseparables del mis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7:47:51Z</dcterms:created>
  <dc:creator>Mujica y Cia.</dc:creator>
  <dc:description/>
  <dc:language>en-US</dc:language>
  <cp:lastModifiedBy> Iris Salina</cp:lastModifiedBy>
  <dcterms:modified xsi:type="dcterms:W3CDTF">2005-11-04T19:00:05Z</dcterms:modified>
  <cp:revision>41</cp:revision>
  <dc:subject/>
  <dc:title>Presentación de PowerPoint</dc:title>
</cp:coreProperties>
</file>