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image6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A65-3F7A-4032-9247-45612AC6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DE9C-4542-483B-9591-B9D1E257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BACE-2A74-42BF-AB2B-35BAF7DD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852-F9F5-4965-B3E3-B34BB38B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F1F-169E-409A-9520-EC3B92A3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D64-07BD-43F5-B4A4-2BC8A67E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CC8-600B-49C1-92E9-951F5DA2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1C6-1B2F-4EB7-B5CF-ADE476C7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871-583E-4F4A-AEAB-41AEE1F7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FCB-3DD1-4D44-BF4A-762D91A1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529-51D8-4989-AA9B-7D2FCBB4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490-E065-4093-847B-0650B6A2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2083-8984-4161-8934-F25F61E6D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CION CIUDADANA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TRANSPA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LA GESTION PUBLICA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1447920"/>
            <a:ext cx="752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RGANOS ADMINISTRACIÓN DEL EST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sterios, intendencias, gobernaciones y los órganos y servicios públicos, incluyendo:  Contraloría General de la República, Banco Central, Fuerzas Armadas y las Fuerzas de Orden  y Seguridad Pública,  Gobiernos Regionales, las Municipalidades y las empresas públicas creadas por le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extiende a informes y antecedentes de empresas privadas que presten servicios de utilidad pública y a empresas a que se refiere Ley Sociedades Anónim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icinas de Información O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to Nº 680, de 1990, del Ministerio del Interior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énes:  Ministerios, Intendencias, Gobernaciones y servicios públicos creados para el cumplimiento de la función administrat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 qué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asistir al administrado en su derecho a presentar peticiones, sugerencias o reclamos ante la Administración del Esta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IONES DE LAS OI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r sobre  organización, competencia y funcionamiento de la institución y los requisitos para formular presentacion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stir al administrado en dificultades en la tramitación de sus asunt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ir y estudiar sugerencias que los administrados presenten, con el objeto de mejorar el funcionamiento del órg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ir los reclamos de los administrad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1584360"/>
            <a:ext cx="8028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PUBL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documentos publicados íntegramente en el Diario Oficial son públicos y deben estar en un índice en las Oficinas de Información, Reclamos y Sugerencias OIR (DS Nº 680, de 1990 Ministerio del Interio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da Jefe Superior  establecerá la forma y contenido  del índice. Datos mínimos: i) individualización del acto o documento, señalando naturaleza, identificación o numeración; ii)  fecha de su emisión; y iii) fecha y lugar de la publicación del acto o docum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1916280"/>
            <a:ext cx="7885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USALES DENEGAC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serva o secreto, establecida por ley o reglament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que la publicidad impida o entorpezca debido cumplimiento funciones del órgan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la oposición terceros a quienes se refiere o afecta la inform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divulgación o entrega afecte sensiblemente derechos o intereses de terceros, según calificación fundada del jefe superior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que la publicidad afecte seguridad Nación o  interés nac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197000"/>
            <a:ext cx="867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DE SECRETO O RESERVA BASADA EN PROTECCIÓN D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ESES PÚBLI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) los relativos a la defensa y seguridad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) los relativos a la política exterior o las relaciones internacional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los relativos a la política monetaria y divis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) aquellos cuya comunicación pueda perjudicar a la moneda y al crédito públic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) los relativos al mantenimiento del orden público y la prevención y represión de la criminalida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) aquellos cuya comunicación perjudique desarrollo de procedimientos jurisdiccionales o de actuaciones preparativas de aquellos que la  ley encomiende a organismos de la Administració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) aquellos cuya comunicación perjudique la investigación por los servicios públicos de delitos y infracciones administrativas, tributarias o aduaner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)  aquellos cuyo conocimiento pueda impedir u obstaculizar gravemente el ejercicio de la acción administrativa del órgan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) la correspondencia oficial debidamente calificada por la autoridad según lo  dispuesto en  el DS N° 291 de 1974 del Ministerio del In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1268280"/>
            <a:ext cx="831708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DE SECRETO O RESERVA BASADA EN LA PROTECCIÓN DE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ESES PRIVADOS DE LOS ADMINISTRADOS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) Los de carácter nominativo, es decir, que contengan una apreciación de juicio o valor sobre una persona determinada o claramente identif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) Aquellos cuya comunicación afecte la vida privada de una persona individualizada o identif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Los expedientes relativos a procedimientos sancionatorios o disciplinarios de cualquier naturaleza, solo respecto de terceros ajenos a dichos procedimi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) Los expedientes médicos o sani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) Los que contengan o se refieran a secretos industriales y comerciales, incluyendo procedimientos de fabricación, las informaciones económicas y financieras y las estrategias comerciales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907920"/>
            <a:ext cx="6913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80"/>
                </a:solidFill>
                <a:latin typeface="Century Gothic"/>
                <a:ea typeface="Times New Roman"/>
              </a:rPr>
              <a:t>      </a:t>
            </a:r>
            <a:r>
              <a:rPr b="0" lang="es-ES_tradnl" sz="1400" spc="-1" strike="noStrike" u="sng">
                <a:solidFill>
                  <a:srgbClr val="008080"/>
                </a:solidFill>
                <a:uFillTx/>
                <a:latin typeface="Century Gothic"/>
                <a:ea typeface="Times New Roman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QUEMA SOLICITUD DE  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32240"/>
            <a:ext cx="1398600" cy="10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ud de persona u 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49400" y="3394080"/>
            <a:ext cx="148284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uesta de organism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73520" y="3610080"/>
            <a:ext cx="6843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060640"/>
            <a:ext cx="15955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394080"/>
            <a:ext cx="1595520" cy="12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 la solicitud de información o no resp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4929120"/>
            <a:ext cx="1595520" cy="12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 a terceros potencialmente afec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0240" y="3394080"/>
            <a:ext cx="159552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lamo ante Juzgado de Le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60840" y="4929120"/>
            <a:ext cx="102564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días háb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4720" y="4929120"/>
            <a:ext cx="159552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4720" y="5808600"/>
            <a:ext cx="159552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 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20240" y="6248520"/>
            <a:ext cx="45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675640" y="3833280"/>
            <a:ext cx="0" cy="23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105400" y="383364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22600" y="383364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2240" y="38336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32240" y="4048200"/>
            <a:ext cx="45540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57880" y="383364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116240" y="2502000"/>
            <a:ext cx="68436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6480" y="53690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96120" y="3833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396120" y="5152680"/>
            <a:ext cx="22860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96120" y="5592600"/>
            <a:ext cx="228600" cy="6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41360"/>
            <a:ext cx="88200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95280"/>
            <a:ext cx="882000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ION DE AMPA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quirente tendrá derecho a recurrir al juez de letra  civil de turno   del domicilio del órgano de la Administ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juez notifica por cédula en oficina de partes del  órgano correspondiente y en el domicilio del tercero si lo hubie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toridad tiene 5 días para presentar descargos y adjuntar medios de prue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entencia se dictará dentro de tercero día de vencido el plazo para presentar descar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entencia definitiva es apelable en ambos efectos, dentro del plazo de 5 días desde la notificación. El fallo no es susceptible recurso de casación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1525680"/>
            <a:ext cx="86040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A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acoge reclamación, sentencia fija plazo prudencial para entreg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ribunal puede aplicar multa al jefe del servicio de 2 a 10 UT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no entrega oportuna de los documentos será sancionada con suspensión del jefe de servicio por  lapso de 5 a 15 días y multa de 2 a 10 UTM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jefe de servicio persiste se aplica doble de las sanciones.  El costo del material será siempre del requir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19162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   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POSITIVOS DE NUESTRO ACTUA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Se consagra  Principio de Transparencia y Publicida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La información puede ser requerida por cualquier person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No es necesario expresar motivo del requerimiento de la informació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derecho comprende el de recibir copi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Plazos bre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silencio administrativo positivo como regla gene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cursos judicia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spons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CO LEGAL ACCESO A LA INFORMAC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197000"/>
            <a:ext cx="86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NEG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misma ley que contempla el derecho de acceso a la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formación es la que presenta las barreras a ésta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causales de negación de la información queda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regadas a la autoridad administrativa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 conjunto de derechos de acceso no se encuentran  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ticulados en un cuerpo legal único y autónomo.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asunto queda entregado solamente a la justicia ordi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ORMA CO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ículo 8º,  Capítulo Primero sobre Bases de la Institucionalidad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jercicio de las funciones públicas obliga a sus titulares a dar estricto cumplimiento al principio de probidad en todas sus actu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 públicos los actos y resoluciones de los órganos del Estado, así como sus fundamentos y los procedimientos que utilicen. Sin embargo, sólo una ley de quórum calificado podrá establecer la reserva o secreto de aquéllos o de éstos, cuando la publicidad afectare el debido cumplimiento de las funciones de dichos órganos, los derechos de las personas, la seguridad de la Nación o el interés nacional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893080" cy="60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YECTO DE L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iende concepto de información pública a toda información en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er de la Administración y toda documentación financiada co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upuesto públic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cluye dentro de los obligados al Poder Legislativ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iende el plazo para entregar la información a 10 días hábil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stablece en la misma ley las causales para denegar inform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gula requisitos de una petición de acceso y obligación de remitir l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ud a la institución competen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elevan las sanciones a funcionarios acceso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restringen causales sesiones del Congreso con carácter de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AS NO INCLUIDOS PROYECTO DE L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incluye ámbito administrativo Poder Judi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osición de terceros no necesita ser fundamentad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ción de amparo sigue quedando entregado a los jueces civ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recoge creación de un órgano administrativo, autónomo e independiente, evitando la instancia judicial como  única instancia de revisión. Este órgano cumpliría con las funciones de promoción del derecho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Qué es necesario además  para mejorar esta situació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oluntad política para garantizar el acceso a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rementar el conocimiento de los funcionarios y la sociedad civil acerca del derecho de acceso a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jorar el diseño institucional de las instituciones para garantizar la entrega de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pacitar a jueces en formación en materia de acceso a l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ueva normativa para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lick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sultados </a:t>
            </a:r>
            <a:br>
              <a:rPr sz="20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udi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cceso a la informació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ública en Chile</a:t>
            </a:r>
            <a:br>
              <a:rPr sz="3200"/>
            </a:b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ayo 2005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08720" y="5151600"/>
            <a:ext cx="2950920" cy="1066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r las condiciones para ejercer el derecho de acceso a información pública, de acuerdo a los estándares nacionales e internacionales en la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ologí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ada por el Open Society Institute e implementada simultáneamente en 10 países de América, África y Euro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rgent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er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Bulga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Franc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España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edonia     Rumania           Sudá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26972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0 pedi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información púb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dos p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voluntari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 diferentes perfi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eriodistas, 2 ONG´s, 1 empresario, 1 estudiante universitario, 1 empleado map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dos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isteri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ituciones del Poder Jud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resas privadas prestador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emp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templados para evaluar las respuestas a los pedid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ntro de los 1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 11 y 2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de 2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respon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ipo d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olicitó información de: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u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fíci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nsib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solicitó información que pudiera afectar la seguridad pública o de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po de informació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difíc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casos en que la respuesta debe ser de alguna forma compilada o investi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sensib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sos en que las respuestas pudieran ser políticamente sensibles o que pudieran generar susceptibilidades en la cultura particular de un determinado paí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de rutina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fiere a información de disponibilidad auto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1483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ARCO JURÍDICO INTERNACIO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Universal del Derechos Humanos de 1948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o Internacional de Derechos Civiles y Políticos, 1966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vención Americana sobre Derechos Humano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o de San José de Costa Rica, 1969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346040"/>
            <a:ext cx="82072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6 Ministerios: 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Defensa, Hacienda, Justicia, MIDEPLAN, CONAMA, Secretaría General de Presidenc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 instituciones Poder Judicial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Corte Suprema y Juzgado Civil Nº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8 Municipios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Vitacura, Las Condes, Lo Barnechea, La Reina, Lo Prado, Lo Espejo, Ñuñoa, Pedro Aguirre Cer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 Empresas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Aguas Andinas y Canal Megavi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ituciones a las que se le solicitó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560" y="2662200"/>
          <a:ext cx="7569360" cy="2030400"/>
        </p:xfrm>
        <a:graphic>
          <a:graphicData uri="http://schemas.openxmlformats.org/drawingml/2006/table">
            <a:tbl>
              <a:tblPr/>
              <a:tblGrid>
                <a:gridCol w="7569360"/>
              </a:tblGrid>
              <a:tr h="20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os que se presentan a continuación son sólo una fotografía de un aspecto de las institucion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alizadas y, por lo tanto, no deben ser generalizados.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40360" y="5837400"/>
            <a:ext cx="2303640" cy="831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57200" y="1171440"/>
            <a:ext cx="26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mportan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lick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68360" y="1052640"/>
          <a:ext cx="807732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07732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3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1: Resultados Generale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BAE-0655-48CC-80C6-C42F83406D32}" type="slidenum">
              <a:t>32</a:t>
            </a:fld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680" y="1054080"/>
          <a:ext cx="913464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054080"/>
                    <a:ext cx="913464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2: Resultados por institución (#)</a:t>
            </a:r>
            <a:br>
              <a:rPr sz="3200"/>
            </a:b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RVICIOS PÚBLICOS Y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50920" y="1484280"/>
          <a:ext cx="864216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864216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3: Resultados por institución (#)</a:t>
            </a:r>
            <a:br>
              <a:rPr sz="32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554040" y="917640"/>
          <a:ext cx="78278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917640"/>
                    <a:ext cx="78278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4: Respuesta a la misma solicitud hecha por distintas persona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24000" y="1351080"/>
          <a:ext cx="864216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51080"/>
                    <a:ext cx="864216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5: Información denegada p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ipo de institución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28600" y="1125360"/>
          <a:ext cx="86868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25360"/>
                    <a:ext cx="86868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72720"/>
            <a:ext cx="914400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6: Información recibida p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ipo de respuesta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84360" y="1125360"/>
          <a:ext cx="754380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5438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7: Ranking de peticiones de información sin respuesta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17360"/>
            <a:ext cx="9144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gunos ejemplos de respuestas negativas recib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68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nosotros no damos información de forma oral, debe presentar su solicitud por escrit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..) En todo caso, su derecho a la información supone que Ud. tenga un interés comprometid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o pedido no cumple con los requisitos de a) que el documento no revista el carácter de reservado y b) que la información contenida en dicho antecedente solicitado afecte directamente al particular que lo solicita o se vincule con situaciones fácticas concretas en que le corresponde intervenir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557360"/>
            <a:ext cx="88200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AGRACION EN DERECHO INTERNACIONA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a persona tiene derecho a la libertad de pensamiento y de expre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e derecho comprende la libertad de buscar, recibir y difundir informaciones e ideas de toda índ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a sea oralmente, por escrito,  o por cualquier  otro proced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820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17% de los casos se accedió a la información solicitad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69% de los casos no se obtuvo respuest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hile está en el último lugar de los 10 países evalu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general los Municipios tienden a brindar información en mayor medida que los Ministerios, las Instituciones del Poder Judicial y las empresas privad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gral. se observa que numerosas instituciones que tienden a responder, lo hacen vencido el plazo de 1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instituciones de Justicia y las empresas de servicios públicos analizadas han tendido a no responder los pedidos de información pública presentados en est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servaciones fin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44000" y="1341000"/>
            <a:ext cx="8820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ha observado que la categoría de las preguntas (sensibles, difíciles o de rutina) no pareciera ser determinante a la hora de entregar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precia que los servicios públicos no están organizados para entrega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percibe un escaso conocimiento por parte de los funcionarios públicos del derecho de acceso a la información pública y de la normativa nacional e internacional en la materia y las obligaciones que éstas impo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servaciones finales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773360"/>
            <a:ext cx="83883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RECHO TRANSVERS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ción de la corrupción y arbitraried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ción de la participación a través del desarrollo de una ciudadanía informa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os de comunicación más efectivos y basados en hechos verdader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ción del control sobre las funciones públ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2421000"/>
            <a:ext cx="7667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¿QUÉ ES ACCESO A LA INFORMACIÓN DE CARÁCTER PÚBL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recho que tienen los ciudadanos de acceder a la información sobre hechos que tengan relevancia o interés público, permitiendo la formación de una opinión razonable y fundamenta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1600200"/>
            <a:ext cx="78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¿A QUE INFORMACION PODEMOS ACCED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on públicos los actos administrativos de los órganos de la Administración del Estado y los documentos que les sirvan de sustento o complemento directo  y esenci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y N° 19.653, modifica Ley Orgánica Constitucional de Bases Generales de la Administración del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1600200"/>
            <a:ext cx="65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CTOS ADMINISTRATIV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decisiones formales que emiten los órganos de la Administración del Estado en las que se contienen declaraciones finales de voluntad, realizadas en el ejercicio de una potestad públ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981000"/>
            <a:ext cx="83883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SUSTENTATORIO O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ocumen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odo escrito, correspondencia, memorándum, fotografía, video, y en general  todo soporte material que contenga información, cualquiera sea su forma  física o características y las copias de aquell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ocumento de respald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 los agregados al acto administrativo que permiten verificar el contenido del mismo de manera íntegra y perfec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mplemento direc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los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que se vinculen necesariamente al acto administra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que concurren y siempre que dicho acto se haya dictado, precisa e inequívocamente,  sobre las bases de esos docu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mplemento esencia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os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indispensables para la elaboración y dictación del acto administra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que concurren, de modo que son inseparables del m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7:47:51Z</dcterms:created>
  <dc:creator>Mujica y Cia.</dc:creator>
  <dc:description/>
  <dc:language>en-US</dc:language>
  <cp:lastModifiedBy> Iris Salina</cp:lastModifiedBy>
  <dcterms:modified xsi:type="dcterms:W3CDTF">2005-11-04T19:00:05Z</dcterms:modified>
  <cp:revision>41</cp:revision>
  <dc:subject/>
  <dc:title>Presentación de PowerPoint</dc:title>
</cp:coreProperties>
</file>