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3F4-6A30-4B2A-9419-F2087C2C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C56-DC7D-4FA4-A351-B52EA302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DB5-F4DE-46CA-B9D0-6930F31D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032-F73F-48AB-BDE9-241C4BB9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305-B28E-4877-A44C-1DBF5D9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1C4-C9E4-4528-A8CA-B8B1C844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64E-2747-476A-9361-9E2D3589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4B2-D9CF-4AB1-BDFC-05F1880F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D3E-015B-4B2B-B469-72B5A46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42C-6472-4C7C-A21E-461BCBD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D68-81FD-41F5-848B-F0299947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9E8-F8BB-4E18-9978-D7FCDAD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F1B-29B8-412D-8B3D-9560EBC7E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073-7DAA-4EAC-98DF-CBDE732C7240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 Iris Salina</cp:lastModifiedBy>
  <dcterms:modified xsi:type="dcterms:W3CDTF">2005-11-04T19:00:05Z</dcterms:modified>
  <cp:revision>41</cp:revision>
  <dc:subject/>
  <dc:title>Presentación de PowerPoint</dc:title>
</cp:coreProperties>
</file>