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F3E-ECDC-4A00-909C-33617AC9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A98-B086-4D81-9CAD-C07F6245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CD7-12C2-42B6-A679-CC9FA2E1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3E5-5064-4685-A8C0-E4AC9527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06C-A3FE-4887-A527-FC9F77EF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3E3-07FD-4D75-9695-B7D165FD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909-F921-4E1B-8A63-D8FA27C6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E59-067D-4882-83B1-90202DA8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DC4-56E9-4D3B-9265-F4CE85EF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DDE-B5EF-4131-B5F5-32F31C84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0D2-5139-4B19-8C67-3EF115D6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99B-9248-43B8-95EB-A663E91C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0C1A-58A4-430F-ABB6-923CFCC8C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jkatz</cp:lastModifiedBy>
  <cp:lastPrinted>2000-11-03T20:32:36Z</cp:lastPrinted>
  <dcterms:modified xsi:type="dcterms:W3CDTF">2005-10-21T12:59:00Z</dcterms:modified>
  <cp:revision>148</cp:revision>
  <dc:subject/>
  <dc:title>No Slide Title</dc:title>
</cp:coreProperties>
</file>