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510B-9520-4518-848F-FE08900A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EE0B-ABCB-488E-A0F9-3AC0EACF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EEF2-8DD5-4E48-999C-03E9A5F5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B8EC-086A-429F-8AB5-7BDC3ECF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58F9-0E94-4A02-9BEC-B0FA32E5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97BD-B97E-4D5F-85E6-8CF93FBE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0444-E850-4D1D-81B9-8F01A103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39B5-B637-421E-A355-D4472FA4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DD16-4640-474C-8AB0-58878297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AAAF-6D3B-4A33-A500-7D88EAD9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AFCA-EE04-4B98-862F-B5D00138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B700-9E7A-4B3B-A6E8-4DF1C0A2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66F7-97FD-4DED-859E-16AC9265F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41280"/>
            <a:ext cx="86104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impacto de las reformas estructurales y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lobalizacion sobre las econom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e America La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 la presente clase examinamos el impacto que las reformas estructurales de los 1990’s y el proceso de globalizacion de la economia mundial han tenido sobre la conforma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structura productiva de diversos paises latinoamerican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a productividad laboral, el empleo y el desarroll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apacidades tecnologicas domes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28800" y="1371600"/>
            <a:ext cx="0" cy="4648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5334120"/>
            <a:ext cx="5715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71800" y="2590560"/>
            <a:ext cx="0" cy="342900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191120" y="2666880"/>
            <a:ext cx="0" cy="335304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888840"/>
            <a:ext cx="4800600" cy="4991400"/>
          </a:xfrm>
          <a:custGeom>
            <a:avLst/>
            <a:gdLst/>
            <a:ahLst/>
            <a:rect l="l" t="t" r="r" b="b"/>
            <a:pathLst>
              <a:path w="3024" h="3144">
                <a:moveTo>
                  <a:pt x="0" y="1168"/>
                </a:moveTo>
                <a:cubicBezTo>
                  <a:pt x="32" y="1160"/>
                  <a:pt x="64" y="1152"/>
                  <a:pt x="96" y="1168"/>
                </a:cubicBezTo>
                <a:cubicBezTo>
                  <a:pt x="128" y="1184"/>
                  <a:pt x="160" y="1208"/>
                  <a:pt x="192" y="1264"/>
                </a:cubicBezTo>
                <a:cubicBezTo>
                  <a:pt x="224" y="1320"/>
                  <a:pt x="192" y="1232"/>
                  <a:pt x="288" y="1504"/>
                </a:cubicBezTo>
                <a:cubicBezTo>
                  <a:pt x="384" y="1776"/>
                  <a:pt x="592" y="2648"/>
                  <a:pt x="768" y="2896"/>
                </a:cubicBezTo>
                <a:cubicBezTo>
                  <a:pt x="944" y="3144"/>
                  <a:pt x="1168" y="3128"/>
                  <a:pt x="1344" y="2992"/>
                </a:cubicBezTo>
                <a:cubicBezTo>
                  <a:pt x="1520" y="2856"/>
                  <a:pt x="1696" y="2392"/>
                  <a:pt x="1824" y="2080"/>
                </a:cubicBezTo>
                <a:cubicBezTo>
                  <a:pt x="1952" y="1768"/>
                  <a:pt x="2032" y="1400"/>
                  <a:pt x="2112" y="1120"/>
                </a:cubicBezTo>
                <a:cubicBezTo>
                  <a:pt x="2192" y="840"/>
                  <a:pt x="2232" y="576"/>
                  <a:pt x="2304" y="400"/>
                </a:cubicBezTo>
                <a:cubicBezTo>
                  <a:pt x="2376" y="224"/>
                  <a:pt x="2456" y="128"/>
                  <a:pt x="2544" y="64"/>
                </a:cubicBezTo>
                <a:cubicBezTo>
                  <a:pt x="2632" y="0"/>
                  <a:pt x="2752" y="8"/>
                  <a:pt x="2832" y="16"/>
                </a:cubicBezTo>
                <a:cubicBezTo>
                  <a:pt x="2912" y="24"/>
                  <a:pt x="2992" y="96"/>
                  <a:pt x="3024" y="1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0960" y="11685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21480" y="2293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72640" y="592128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53080" y="59212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5080" y="5921280"/>
            <a:ext cx="14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42440" y="4775040"/>
            <a:ext cx="159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24440" y="9586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85800"/>
            <a:ext cx="7772400" cy="59436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752480" y="2666880"/>
            <a:ext cx="152640" cy="15264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715000" y="990000"/>
            <a:ext cx="152280" cy="15228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09960" y="-77760"/>
            <a:ext cx="30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ASES</a:t>
            </a:r>
            <a:r>
              <a:rPr b="1" lang="en-US" sz="3200" spc="-1" strike="noStrike">
                <a:solidFill>
                  <a:srgbClr val="ffff99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DEL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63800" y="36360"/>
            <a:ext cx="8978040" cy="6487200"/>
            <a:chOff x="163800" y="36360"/>
            <a:chExt cx="8978040" cy="6487200"/>
          </a:xfrm>
        </p:grpSpPr>
        <p:sp>
          <p:nvSpPr>
            <p:cNvPr id="112" name=""/>
            <p:cNvSpPr/>
            <p:nvPr/>
          </p:nvSpPr>
          <p:spPr>
            <a:xfrm flipV="1">
              <a:off x="76176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9160" y="36360"/>
              <a:ext cx="879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RECIMIENTO DE LA PRODUCTIVIDAD Y NATURALEZA DEL CAMBI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TECNOLÓGICO EN LAS FASES I Y II, Y III DEL AJUSTE INDUST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1760" y="6410880"/>
              <a:ext cx="327672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828440" y="4502160"/>
              <a:ext cx="0" cy="190872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760" y="3461040"/>
              <a:ext cx="19810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176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42840" y="3374640"/>
              <a:ext cx="0" cy="30362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176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18148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6410880"/>
              <a:ext cx="327636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248160" y="2940120"/>
              <a:ext cx="0" cy="34700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3027600"/>
              <a:ext cx="10666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148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148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81480" y="1865520"/>
              <a:ext cx="2133360" cy="4458240"/>
            </a:xfrm>
            <a:custGeom>
              <a:avLst/>
              <a:gdLst/>
              <a:ahLst/>
              <a:rect l="l" t="t" r="r" b="b"/>
              <a:pathLst>
                <a:path w="1344" h="2467">
                  <a:moveTo>
                    <a:pt x="0" y="2467"/>
                  </a:moveTo>
                  <a:cubicBezTo>
                    <a:pt x="112" y="1979"/>
                    <a:pt x="224" y="1491"/>
                    <a:pt x="384" y="1123"/>
                  </a:cubicBezTo>
                  <a:cubicBezTo>
                    <a:pt x="544" y="755"/>
                    <a:pt x="800" y="446"/>
                    <a:pt x="960" y="259"/>
                  </a:cubicBezTo>
                  <a:cubicBezTo>
                    <a:pt x="1120" y="72"/>
                    <a:pt x="1280" y="43"/>
                    <a:pt x="1344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66880" y="337464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2480" y="441576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1840" y="2940480"/>
              <a:ext cx="152640" cy="17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1840" y="4415760"/>
              <a:ext cx="15264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38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5108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7044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0600" y="4502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21320" y="3374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78840" y="2767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78840" y="4241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066680" y="121932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desincorporado” ahorrador de mano de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34120" y="1525680"/>
            <a:ext cx="19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incorporado” basado en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5800" y="1377720"/>
            <a:ext cx="3823200" cy="319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0" y="11604"/>
                </a:moveTo>
                <a:arcTo wR="10800" hR="10800" stAng="256289" swAng="5095102"/>
                <a:lnTo>
                  <a:pt x="10800" y="10800"/>
                </a:lnTo>
                <a:close/>
              </a:path>
              <a:path fill="none" w="21600" h="21600">
                <a:moveTo>
                  <a:pt x="21570" y="11604"/>
                </a:moveTo>
                <a:arcTo wR="10800" hR="10800" stAng="256289" swAng="5095102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8640" y="3112920"/>
            <a:ext cx="0" cy="1462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0880" y="1681560"/>
            <a:ext cx="24505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6" y="21600"/>
                </a:moveTo>
                <a:arcTo wR="10800" hR="10800" stAng="5404464" swAng="5139049"/>
                <a:lnTo>
                  <a:pt x="10800" y="10800"/>
                </a:lnTo>
                <a:close/>
              </a:path>
              <a:path fill="none" w="21600" h="21600">
                <a:moveTo>
                  <a:pt x="10786" y="21600"/>
                </a:moveTo>
                <a:arcTo wR="10800" hR="10800" stAng="5404464" swAng="5139049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1229760"/>
            <a:ext cx="3053880" cy="335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3" y="21575"/>
                </a:moveTo>
                <a:arcTo wR="10800" hR="10800" stAng="5634816" swAng="5331325"/>
                <a:lnTo>
                  <a:pt x="10800" y="10800"/>
                </a:lnTo>
                <a:close/>
              </a:path>
              <a:path fill="none" w="21600" h="21600">
                <a:moveTo>
                  <a:pt x="10063" y="21575"/>
                </a:moveTo>
                <a:arcTo wR="10800" hR="10800" stAng="5634816" swAng="533132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438280" y="3432240"/>
            <a:ext cx="1530360" cy="1140840"/>
            <a:chOff x="2438280" y="3432240"/>
            <a:chExt cx="1530360" cy="1140840"/>
          </a:xfrm>
        </p:grpSpPr>
        <p:sp>
          <p:nvSpPr>
            <p:cNvPr id="146" name=""/>
            <p:cNvSpPr/>
            <p:nvPr/>
          </p:nvSpPr>
          <p:spPr>
            <a:xfrm>
              <a:off x="2790720" y="4436640"/>
              <a:ext cx="117720" cy="1364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08440" y="4419360"/>
              <a:ext cx="11880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73360" y="4470120"/>
              <a:ext cx="117360" cy="1029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4520880"/>
              <a:ext cx="11772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14680" y="4520880"/>
              <a:ext cx="5868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67120" y="4366800"/>
              <a:ext cx="176040" cy="2062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84480" y="4314600"/>
              <a:ext cx="177840" cy="258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0400" y="4217760"/>
              <a:ext cx="297000" cy="3553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4157280"/>
              <a:ext cx="293760" cy="415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43160" y="4262040"/>
              <a:ext cx="236520" cy="311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79680" y="4106520"/>
              <a:ext cx="352440" cy="4665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8360" y="4054320"/>
              <a:ext cx="411480" cy="5187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97400" y="4003560"/>
              <a:ext cx="471240" cy="5695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56080" y="3951000"/>
              <a:ext cx="412560" cy="468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14760" y="3847680"/>
              <a:ext cx="353880" cy="414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75240" y="3795480"/>
              <a:ext cx="293400" cy="3106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32120" y="3690720"/>
              <a:ext cx="236520" cy="312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90800" y="3638160"/>
              <a:ext cx="177840" cy="2091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49840" y="3536640"/>
              <a:ext cx="118800" cy="2059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09960" y="3432240"/>
              <a:ext cx="5868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677960" y="446040"/>
            <a:ext cx="3353040" cy="414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6" y="11347"/>
                </a:moveTo>
                <a:arcTo wR="10800" hR="10800" stAng="174060" swAng="4824303"/>
                <a:lnTo>
                  <a:pt x="10800" y="10800"/>
                </a:lnTo>
                <a:close/>
              </a:path>
              <a:path fill="none" w="21600" h="21600">
                <a:moveTo>
                  <a:pt x="21586" y="11347"/>
                </a:moveTo>
                <a:arcTo wR="10800" hR="10800" stAng="174060" swAng="4824303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27560" y="45673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00120" y="4567320"/>
            <a:ext cx="59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5486400"/>
            <a:ext cx="876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:  Productividad sectorial media ante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0" lang="en-US" sz="2200" spc="-1" strike="noStrike" baseline="30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: Productividad sectorial media despué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066680"/>
            <a:ext cx="8763120" cy="5410440"/>
          </a:xfrm>
          <a:prstGeom prst="rect">
            <a:avLst/>
          </a:prstGeom>
          <a:noFill/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880" y="76320"/>
            <a:ext cx="8658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UERTE Y “NACIMIENTO” DE EMPRESAS Y PRODUCTIVIDAD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EDIA DE UNA RAMA PRODUC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29400" y="1413000"/>
            <a:ext cx="69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47840" y="21337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52920" y="2365200"/>
            <a:ext cx="0" cy="2208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03440"/>
            <a:ext cx="3276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2389320"/>
            <a:ext cx="2590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3947760" y="2368800"/>
            <a:ext cx="1327320" cy="19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58" y="13073"/>
                </a:moveTo>
                <a:arcTo wR="10800" hR="10800" stAng="729106" swAng="4472904"/>
                <a:lnTo>
                  <a:pt x="10800" y="10800"/>
                </a:lnTo>
                <a:close/>
              </a:path>
              <a:path fill="none" w="21600" h="21600">
                <a:moveTo>
                  <a:pt x="21358" y="13073"/>
                </a:moveTo>
                <a:arcTo wR="10800" hR="10800" stAng="729106" swAng="4472904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0800000">
            <a:off x="3314160" y="2332080"/>
            <a:ext cx="2058480" cy="250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32" y="21314"/>
                </a:moveTo>
                <a:arcTo wR="10800" hR="10800" stAng="6192608" swAng="3661117"/>
                <a:lnTo>
                  <a:pt x="10800" y="10800"/>
                </a:lnTo>
                <a:close/>
              </a:path>
              <a:path fill="none" w="21600" h="21600">
                <a:moveTo>
                  <a:pt x="8332" y="21314"/>
                </a:moveTo>
                <a:arcTo wR="10800" hR="10800" stAng="6192608" swAng="3661117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057400" y="1603080"/>
            <a:ext cx="0" cy="29718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1598760"/>
            <a:ext cx="0" cy="2974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4872600" y="1592280"/>
            <a:ext cx="928800" cy="307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672375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67237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5029200" y="1602000"/>
            <a:ext cx="564840" cy="185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9" y="9982"/>
                </a:moveTo>
                <a:arcTo wR="10800" hR="10800" stAng="-260474" swAng="5675800"/>
                <a:lnTo>
                  <a:pt x="10800" y="10800"/>
                </a:lnTo>
                <a:close/>
              </a:path>
              <a:path fill="none" w="21600" h="21600">
                <a:moveTo>
                  <a:pt x="21569" y="9982"/>
                </a:moveTo>
                <a:arcTo wR="10800" hR="10800" stAng="-260474" swAng="5675800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575240"/>
            <a:ext cx="57150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838080" y="1523880"/>
          <a:ext cx="6988320" cy="670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6988320" cy="67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10440" y="457200"/>
            <a:ext cx="685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ERTES” Y “NACIMIENTOS”DE EMPRESAS EN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USTRIA SIDERÚRGICA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960" y="136440"/>
            <a:ext cx="896148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CAMBIOS EN EL PESO RELATIVO DE LOS DISTINTOS SECTORES INDUSTRIALES AL INTERIOR DEL PRODUCTO MANUFACTURERO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360" y="2525760"/>
            <a:ext cx="905220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Número de plantas, empleo y productividad laboral en la industria argentina de aceite vegetal 1973-74 y 1993-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5486400"/>
            <a:ext cx="769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5410080"/>
            <a:ext cx="82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9ee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Menos plantas fabriles, mayor intensidad de capital y mayor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6200" y="2766960"/>
            <a:ext cx="89773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2400" y="244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PRODUCTIVIDAD LABORAL RELATIVA DE LA INDUSTRIA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LATINOAMERICANA VIS A VIS EL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SECTOR MANUFACTURERO NORTEAMERICANO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71640" y="1981080"/>
            <a:ext cx="730548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3880" y="122040"/>
            <a:ext cx="7772400" cy="89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PRODUCTIVIDAD LABORAL RELATIVA ARGENTINA - ESTADOS U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3840" y="1219320"/>
          <a:ext cx="8827920" cy="550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1219320"/>
                    <a:ext cx="8827920" cy="5506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8360" y="95400"/>
            <a:ext cx="883944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2400" y="533520"/>
          <a:ext cx="8912160" cy="61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533520"/>
                    <a:ext cx="891216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28600" y="762120"/>
          <a:ext cx="8809200" cy="57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8092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838080"/>
            <a:ext cx="8534160" cy="5214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TENIDO DE LA PRES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 I :  MARCO TEOR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  :  LA EVIDENCIA EMPÍ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I:  NUEVOS REGÍMENES SECT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ORGANIZACIÓN INDUST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V: POLÍTICAS DE DESARROLLO PRODUCTIVO Y      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432080" y="0"/>
          <a:ext cx="64166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0"/>
                    <a:ext cx="6416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12204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854360"/>
            <a:ext cx="5922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0840" y="4595760"/>
            <a:ext cx="58248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2360" y="1833480"/>
            <a:ext cx="7367760" cy="46404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492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219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885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5868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40280" y="1833480"/>
            <a:ext cx="3594240" cy="243216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1560" y="4264200"/>
            <a:ext cx="3800160" cy="22287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492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21960" y="470700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8856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41480" y="129528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08960" y="129528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65400" y="2408400"/>
            <a:ext cx="3268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41360" y="4676760"/>
            <a:ext cx="320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57400" y="2362320"/>
            <a:ext cx="4876920" cy="41148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46400" y="2771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2637000"/>
            <a:ext cx="838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10160" y="2514600"/>
            <a:ext cx="1982880" cy="183024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4343400"/>
            <a:ext cx="2097000" cy="16779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4419720"/>
            <a:ext cx="858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10440" y="477036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67840" y="47862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182880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05880" y="182880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60880" y="2666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840" y="4419720"/>
            <a:ext cx="6102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63040" y="2414520"/>
            <a:ext cx="56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58600" y="858960"/>
            <a:ext cx="741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S 100 FIRMAS INDUSTRIALES MAS GRANDES DE AMÉRICA LATINA Y 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93840" y="1092240"/>
            <a:ext cx="295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RIBE.1990-92, 1995  Y 199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13240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89480" y="13287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00440" y="1328760"/>
            <a:ext cx="20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ll dólares norteamerican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56320" y="132408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57600" y="1676520"/>
            <a:ext cx="75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0-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4520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8664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7400" y="164628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05160" y="164628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05160" y="164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0516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1020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1020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45160" y="164628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45160" y="164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4516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164628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164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8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91280" y="164628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91280" y="164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676520"/>
            <a:ext cx="180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05160" y="165276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05160" y="165276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45160" y="165276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4516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165276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8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52660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52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34680" y="1974960"/>
            <a:ext cx="161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úmero de fir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43400" y="197496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84840" y="197496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125920" y="1974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128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7400" y="1938240"/>
            <a:ext cx="35877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7400" y="193824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05160" y="1938240"/>
            <a:ext cx="504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05160" y="193824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0516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1020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020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45160" y="1938240"/>
            <a:ext cx="64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45160" y="193824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4516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5164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5164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86600" y="1938240"/>
            <a:ext cx="46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193824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8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91280" y="1938240"/>
            <a:ext cx="14353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1280" y="193824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52660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52660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52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205160" y="194328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0516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45160" y="194328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4516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86600" y="194328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8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52660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52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0360" y="226548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57880" y="226548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796080" y="226548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37160" y="2265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128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7400" y="222732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400" y="222732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05160" y="222732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05160" y="222732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0516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020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1020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45160" y="222732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645160" y="222732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4516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5164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86600" y="222732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86600" y="222732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8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91280" y="222732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91280" y="222732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2660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52660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52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05160" y="2233440"/>
            <a:ext cx="504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0516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45160" y="2233440"/>
            <a:ext cx="64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4516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86600" y="2233440"/>
            <a:ext cx="46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52660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52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3240" y="255096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57880" y="255096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96080" y="255096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37160" y="2550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128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205160" y="251784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0516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45160" y="251784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4516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86600" y="251784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08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52660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52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30720" y="283356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68760" y="2833560"/>
            <a:ext cx="12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908760" y="2833560"/>
            <a:ext cx="12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349840" y="2833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128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128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05160" y="280368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0516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645160" y="280368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4516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86600" y="280368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8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52660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52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8280" y="3124080"/>
            <a:ext cx="756720" cy="243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Ventas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88880" y="3124080"/>
            <a:ext cx="81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mill.U$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04280" y="3124080"/>
            <a:ext cx="66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49920" y="3124080"/>
            <a:ext cx="74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1 3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88120" y="3124080"/>
            <a:ext cx="74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65 7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29560" y="312408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82 0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128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128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7400" y="308628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7400" y="308628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05160" y="308628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05160" y="308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0516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1020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1020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45160" y="308628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45160" y="308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4516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5164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5164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86600" y="308628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86600" y="308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8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091280" y="308628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91280" y="308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52660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52660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52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128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05160" y="309240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20516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45160" y="309240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64516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309240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8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2660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52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30360" y="341640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60800" y="341640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2 5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400800" y="341640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5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842240" y="34164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2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128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7400" y="337824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7400" y="337824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05160" y="337824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205160" y="337824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0516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1020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1020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45160" y="337824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45160" y="337824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64516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65164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5164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86600" y="337824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086600" y="337824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091280" y="337824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91280" y="337824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52660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52660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52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128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05160" y="33847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0516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45160" y="33847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4516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86600" y="33847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08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52660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52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33240" y="370044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960800" y="3700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3 5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400800" y="370044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91 9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729560" y="370044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10 5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1128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05160" y="366876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0516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645160" y="366876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4516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086600" y="366876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8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52660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52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0720" y="398448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073480" y="3984480"/>
            <a:ext cx="51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 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513480" y="3984480"/>
            <a:ext cx="51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 2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54920" y="3984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2 2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128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128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205160" y="395460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0516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645160" y="395460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4516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086600" y="395460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08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52660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52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31080" y="4275000"/>
            <a:ext cx="344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articipación en las Ventas de las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243400" y="427500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84840" y="427500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125920" y="42750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1128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1128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17400" y="423720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7400" y="423720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05160" y="423720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05160" y="423720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0516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21020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1020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45160" y="423720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45160" y="423720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4516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65164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65164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86600" y="423720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86600" y="423720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8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091280" y="423720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91280" y="423720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52660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52660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52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128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1128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205160" y="424332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0516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645160" y="424332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64516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086600" y="424332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08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52660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52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34680" y="4567320"/>
            <a:ext cx="194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652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2796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069400" y="45673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8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1128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128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7400" y="452916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17400" y="452916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205160" y="452916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205160" y="452916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20516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1020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21020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645160" y="452916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645160" y="452916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64516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65164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5164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086600" y="452916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086600" y="452916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8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091280" y="452916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091280" y="452916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52660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52660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52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128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128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205160" y="453564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20516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645160" y="453564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64516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86600" y="453564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08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52660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52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33600" y="4851360"/>
            <a:ext cx="110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18652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2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62796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5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069400" y="485136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1128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1128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205160" y="481968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20516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645160" y="481968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64516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086600" y="481968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08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52660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52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41160" y="5135400"/>
            <a:ext cx="241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Industria automotriz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52960" y="5135400"/>
            <a:ext cx="54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5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94400" y="5135400"/>
            <a:ext cx="53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9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72400" y="5105520"/>
            <a:ext cx="83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30.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128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205160" y="51055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20516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45160" y="51055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64516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86600" y="51055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08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52660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52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3600" y="5419800"/>
            <a:ext cx="83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300640" y="5419800"/>
            <a:ext cx="29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7420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1802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128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128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400" y="567360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400" y="567360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205160" y="538812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0516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05160" y="567360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05160" y="567360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20516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1020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21020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645160" y="538812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4516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645160" y="567360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645160" y="567360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64516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65164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5164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86600" y="538812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08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086600" y="567360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086600" y="567360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08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091280" y="567360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91280" y="567360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52660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52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99640" y="591192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400040" y="5916600"/>
            <a:ext cx="1181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EPAL, DDP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575800" y="591660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134880" y="5916600"/>
            <a:ext cx="79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24720" y="591660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1752480" y="76320"/>
          <a:ext cx="5372280" cy="63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76320"/>
                    <a:ext cx="53722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1368360" y="774720"/>
          <a:ext cx="6407280" cy="6083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8360" y="774720"/>
                    <a:ext cx="6407280" cy="608328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4" name=""/>
          <p:cNvGraphicFramePr/>
          <p:nvPr/>
        </p:nvGraphicFramePr>
        <p:xfrm>
          <a:off x="944640" y="1235160"/>
          <a:ext cx="728496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1235160"/>
                    <a:ext cx="72849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"/>
          <p:cNvSpPr/>
          <p:nvPr/>
        </p:nvSpPr>
        <p:spPr>
          <a:xfrm>
            <a:off x="198360" y="146160"/>
            <a:ext cx="818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CHILE:  PRODUCTIVIDAD LABORAL DE FIR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PEQUEÑAS Y GRANDES, 1990-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RIZ DE COR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839880" y="1752480"/>
          <a:ext cx="7122960" cy="35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752480"/>
                    <a:ext cx="7122960" cy="35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907200" y="5500800"/>
            <a:ext cx="41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40 significativo al 9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1" name=""/>
          <p:cNvGraphicFramePr/>
          <p:nvPr/>
        </p:nvGraphicFramePr>
        <p:xfrm>
          <a:off x="1679400" y="404640"/>
          <a:ext cx="6069240" cy="843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404640"/>
                    <a:ext cx="6069240" cy="84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"/>
          <p:cNvSpPr/>
          <p:nvPr/>
        </p:nvSpPr>
        <p:spPr>
          <a:xfrm>
            <a:off x="904680" y="-61920"/>
            <a:ext cx="70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ÉXICO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460332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1770120" y="685800"/>
          <a:ext cx="5773680" cy="61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0120" y="685800"/>
                    <a:ext cx="577368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035720" y="152280"/>
            <a:ext cx="75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GENTINA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60008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1214280" y="2014560"/>
          <a:ext cx="7399440" cy="415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014560"/>
                    <a:ext cx="7399440" cy="41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1519200" y="243000"/>
            <a:ext cx="580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ASIL:  ESTRUCTURA DE EX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n porcentaj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0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modelos neoclasicos y evolutivos brindan 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distinta lectura del proceso de desarrollo y del impacto de las reformas estruc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782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quilibri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n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ado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la necesidad de u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gente coordinado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econom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tituyen dos lecturas muy diferentes del proceso de desarrollo de una sociedad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uropa y Asia el estado ha jugado un papel central como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gente coordinado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reformas estructurales y estas han sido incorporadas de maner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gradu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sto contradice al Consenso de Washington, en el sentido de que la globalización requiere un gobierno neutral, un estado mínimo y la estabilidad macro como precondición para el crecimiento´. (Amendola y Gaffard,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llos (Europa y Asia) se integraron a la economía mundial en sus propios términos´(Rodrik, 199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"/>
          <p:cNvGraphicFramePr/>
          <p:nvPr/>
        </p:nvGraphicFramePr>
        <p:xfrm>
          <a:off x="515880" y="387360"/>
          <a:ext cx="8356680" cy="102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880" y="387360"/>
                    <a:ext cx="835668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1066680" y="1446120"/>
          <a:ext cx="8534520" cy="5411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446120"/>
                    <a:ext cx="853452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6" name=""/>
          <p:cNvGraphicFramePr/>
          <p:nvPr/>
        </p:nvGraphicFramePr>
        <p:xfrm>
          <a:off x="1833480" y="530280"/>
          <a:ext cx="5205600" cy="45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530280"/>
                    <a:ext cx="52056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1214280" y="1523880"/>
          <a:ext cx="7296480" cy="4494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1523880"/>
                    <a:ext cx="729648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446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Saldo en balanza comercial para los grupos de ramas industriales I ,II ,III ,IV y V</a:t>
            </a:r>
            <a:br>
              <a:rPr sz="2800"/>
            </a:br>
            <a:r>
              <a:rPr b="1" i="1" lang="en-US" sz="2800" spc="-1" strike="noStrike">
                <a:solidFill>
                  <a:srgbClr val="d9eefd"/>
                </a:solidFill>
                <a:latin typeface="Arial"/>
              </a:rPr>
              <a:t>(En millones de dólares corri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-108000" y="2724120"/>
            <a:ext cx="9236160" cy="3009960"/>
            <a:chOff x="-108000" y="2724120"/>
            <a:chExt cx="9236160" cy="3009960"/>
          </a:xfrm>
        </p:grpSpPr>
        <p:pic>
          <p:nvPicPr>
            <p:cNvPr id="672" name="" descr=""/>
            <p:cNvPicPr/>
            <p:nvPr/>
          </p:nvPicPr>
          <p:blipFill>
            <a:blip r:embed="rId1"/>
            <a:stretch/>
          </p:blipFill>
          <p:spPr>
            <a:xfrm>
              <a:off x="-108000" y="2724120"/>
              <a:ext cx="923616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 txBox="1"/>
            <p:nvPr/>
          </p:nvSpPr>
          <p:spPr>
            <a:xfrm>
              <a:off x="-108000" y="2724120"/>
              <a:ext cx="9236160" cy="300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59200" y="142920"/>
            <a:ext cx="754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NUEVOS REGÍMENES SECTORI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ORGANIZACIÓN DE LA PRODUCC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4920" y="205740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ERTE” Y NACIMIENTO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JUVENECIMIENTO DEL STOCK D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ERNALIZACION DEL PROGRESO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-VERTICALIZACIÓN PRODUCTIVA Y NUE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MAS DE ARTICULACIÓN CON EL EX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 NUEVAS INSTITUCIONES Y DISCIPLINAS OM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e 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116000" y="3886200"/>
            <a:ext cx="6400800" cy="17524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ontenidos de una nueva agend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s publicas tras la apertura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-regulación de la econom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111600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5600" y="549000"/>
            <a:ext cx="77724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os contenidos de una macro para</a:t>
            </a: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l 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7772400" cy="4114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quilibrio de los ‘fundamentals’:  inflacion, deficit fiscal y saldo de cuenta corriente.Condicion necesaria pero no sufi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Productividad y ‘construccion’ de ventajas comparativas dinamicas basadas en 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mpleo, equidad y gobern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Co-evolución entre economía, tecnología e instituciones e inter-dependencia entre lo macro y lo microeconom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918720" y="738360"/>
            <a:ext cx="6590520" cy="10386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CONTENIDOS SECTORIALES DE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VA AGENDA DE POLÍTICAS PUBL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71640" y="2565360"/>
            <a:ext cx="85341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VATIZACIONES Y MARCOS REGUL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MENTO DE LA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SARROLLO PRODU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UCACION Y CREACION DE CAPITAL HUMA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IDAD Y GOBERNABILIDAD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-252360" y="45720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POLÍTICAS DE 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IVO Y TECN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1797120"/>
            <a:ext cx="9142560" cy="5063760"/>
          </a:xfrm>
          <a:prstGeom prst="rect">
            <a:avLst/>
          </a:prstGeom>
          <a:solidFill>
            <a:srgbClr val="00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A ‘CONSTRUCCION’ DE VENTAJAS COMPARATIVAS DINAMICAS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La busqueda de un patron de especializacion con mas valor agre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ol de las PYME, los ´clusters´ y  las ‘cadenas’ de val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El Estado como proveedor de bienes public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2.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El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 Sistema Innovativo nacional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egimen de incentivos. Subsidio a la oferta o a la demanda?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piedad intelectual. Vinculos Universidad/Empresa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gramas sectoriales. Recursos naturales, biotech y ICTs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as Empresas Trans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Sipis y ‘enraizmiednto’ local.  Tecnologia local de uso universal.  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poyo al mejoramiento de la competitivida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líticas ‘horizontales’ relacionadas con el mejoramiento de la infraestructura física e institucional sobre las que se apoya la actividad exportadora. Caminos, Puertos, Silos, Infraestructura de fri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struccion de ´activos colectivos´ - apoyo institucional y legal en marcas, temas de ‘denominacion geografica’, etc - .en el marco de nuevas reglas OMC y del Convenio de Biodivers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 Políticas industriales y tecnológicas sectoriales dirigidas a la creación de nuevos sectores exportad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 Políticas de apoyo a la creación de empresas de base tecnológica, volcadas a la exportac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ia una lectura altern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bemos tomar en cuen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dependendencias entre lo macro y lo mi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-evolución entre lo económico, lo tecnológico y lo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transformación de la estructura productiva durante los procesos de aju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strucción y creación de capacidades productivas y tecnológicas en el proceso de  reestructuracion de la econom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cambios en la diversidad de la estructura productiva como indice de desarrollo de la econom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uso de TIC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Marcos regulatorios y desarrollo de competencia en los mercados de bienes y servicios asociados al uso de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Apoyo al desarrollo de una infraestructura publica de conexion a TICs en Infocentros, escuelas, parroquias, etc.         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.Formación de recursos humanos en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.Papel de una estrategia de gobierno digital como mecanismo de incentivo al uso de TICs. Declaracion de impuestos, compras del estado, salud, educac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desarrollo del Sistema Innovativo Naci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.Incentivos fiscales, programas de riesgo compartido, licitaciones sectoriales y otras formas institucionales de apoyo a los esfuerzos de I&amp;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Nuevos vinculos Universidad-Empresas, incluyendo desarrollo de parques industriales, incubadoras tecnológicas y otras formas de apoyo a PyMEs innovado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Financiamiento para la creación de nuevas empresas de base tecnológ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.Creación de nuevos sectores agroindustriales de alto contenido tecnologico, aprovechando  biodiversidad y nuevos desarrollos en biotecnologia y genetica animal y vege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7480" y="190080"/>
            <a:ext cx="906768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tapas del desarrollo latinoamericano de posgu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1840" y="2276640"/>
            <a:ext cx="89121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sustitución de im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fase de turbulencia y desequilibrio macroeconó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l comienzo de la transición hacia economías más abiertas y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   desreguladas, con menor participación productiva del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480" y="1508040"/>
            <a:ext cx="9005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 distinguen tres fases claramente diferenc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2280" y="4013280"/>
            <a:ext cx="4754520" cy="2022480"/>
          </a:xfrm>
          <a:custGeom>
            <a:avLst/>
            <a:gdLst/>
            <a:ahLst/>
            <a:rect l="l" t="t" r="r" b="b"/>
            <a:pathLst>
              <a:path w="2995" h="1274">
                <a:moveTo>
                  <a:pt x="0" y="0"/>
                </a:moveTo>
                <a:lnTo>
                  <a:pt x="0" y="1273"/>
                </a:lnTo>
                <a:lnTo>
                  <a:pt x="2994" y="1273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54040" y="4730760"/>
            <a:ext cx="2038320" cy="44460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4734000"/>
            <a:ext cx="1517400" cy="67464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8640" y="4092480"/>
            <a:ext cx="2394000" cy="123516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9389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5840" y="6197760"/>
            <a:ext cx="75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00200" y="4156200"/>
            <a:ext cx="1689120" cy="7840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916440"/>
            <a:ext cx="494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38720" y="5376960"/>
            <a:ext cx="633240" cy="1141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32280" y="6216480"/>
            <a:ext cx="15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urbulencia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5181480"/>
            <a:ext cx="1981080" cy="60984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62600" y="5675400"/>
            <a:ext cx="1816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ase de la “Destrucción creativ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62280" y="4267080"/>
            <a:ext cx="4082760" cy="1175040"/>
          </a:xfrm>
          <a:custGeom>
            <a:avLst/>
            <a:gdLst/>
            <a:ahLst/>
            <a:rect l="l" t="t" r="r" b="b"/>
            <a:pathLst>
              <a:path w="2572" h="740">
                <a:moveTo>
                  <a:pt x="0" y="739"/>
                </a:moveTo>
                <a:lnTo>
                  <a:pt x="698" y="336"/>
                </a:lnTo>
                <a:lnTo>
                  <a:pt x="997" y="514"/>
                </a:lnTo>
                <a:lnTo>
                  <a:pt x="1275" y="336"/>
                </a:lnTo>
                <a:lnTo>
                  <a:pt x="1610" y="528"/>
                </a:lnTo>
                <a:lnTo>
                  <a:pt x="2571" y="0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88120" y="3963960"/>
            <a:ext cx="18795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Hacia un modelo más desregulado y abi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572000"/>
            <a:ext cx="1066680" cy="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075560" y="5938920"/>
            <a:ext cx="690840" cy="625680"/>
            <a:chOff x="4075560" y="5938920"/>
            <a:chExt cx="690840" cy="625680"/>
          </a:xfrm>
        </p:grpSpPr>
        <p:sp>
          <p:nvSpPr>
            <p:cNvPr id="66" name=""/>
            <p:cNvSpPr/>
            <p:nvPr/>
          </p:nvSpPr>
          <p:spPr>
            <a:xfrm>
              <a:off x="4419720" y="5938920"/>
              <a:ext cx="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75560" y="6197760"/>
              <a:ext cx="69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9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962520" y="4724280"/>
            <a:ext cx="1066680" cy="533520"/>
            <a:chOff x="3962520" y="4724280"/>
            <a:chExt cx="1066680" cy="533520"/>
          </a:xfrm>
        </p:grpSpPr>
        <p:sp>
          <p:nvSpPr>
            <p:cNvPr id="69" name=""/>
            <p:cNvSpPr/>
            <p:nvPr/>
          </p:nvSpPr>
          <p:spPr>
            <a:xfrm>
              <a:off x="4038480" y="4876920"/>
              <a:ext cx="8384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495288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14800" y="502920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67080" y="5105520"/>
              <a:ext cx="7621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62520" y="4800600"/>
              <a:ext cx="6858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19720" y="5181480"/>
              <a:ext cx="53316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72000" y="5257800"/>
              <a:ext cx="3049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67080" y="4724280"/>
              <a:ext cx="0" cy="3812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19720" y="472428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6920" y="4876920"/>
              <a:ext cx="0" cy="3808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4724280"/>
              <a:ext cx="0" cy="3049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38480" y="4724280"/>
              <a:ext cx="0" cy="1526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3676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17440" y="1292400"/>
          <a:ext cx="8555040" cy="53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1292400"/>
                    <a:ext cx="8555040" cy="53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68560" y="289080"/>
            <a:ext cx="88336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OLUCIÓN ECONÓMICA DE AMÉRICA LATINA: 1945-2000</a:t>
            </a:r>
            <a:br>
              <a:rPr sz="24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Tasas de crecimiento an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440" y="6453360"/>
            <a:ext cx="167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en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E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LA MAYORÍA DE LOSPAÍSES HA SIDO INCAPAZ DE RECUPERAR LOS RITMOS DE CRECIMIENTO ANTERIORES A LA CRISIS DE LA DE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" y="1600200"/>
          <a:ext cx="8832960" cy="55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600200"/>
                    <a:ext cx="883296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 flipV="1">
            <a:off x="1219320" y="4343040"/>
            <a:ext cx="1676160" cy="15238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049480" y="0"/>
          <a:ext cx="4940280" cy="70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9480" y="0"/>
                    <a:ext cx="494028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5T13:45:26Z</dcterms:created>
  <dc:creator>Patricia Roa</dc:creator>
  <dc:description/>
  <dc:language>en-US</dc:language>
  <cp:lastModifiedBy>jkatz</cp:lastModifiedBy>
  <cp:lastPrinted>2000-11-03T20:32:36Z</cp:lastPrinted>
  <dcterms:modified xsi:type="dcterms:W3CDTF">2005-10-21T12:59:00Z</dcterms:modified>
  <cp:revision>148</cp:revision>
  <dc:subject/>
  <dc:title>No Slide Title</dc:title>
</cp:coreProperties>
</file>