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2445-5230-4C2D-AA82-4A692329D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1023-9718-4BC1-9107-D8D8812C3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0963-7491-44E2-BD1E-2660A5055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3965-9E21-496A-A6A8-C1F4D3D34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F2C5-63F7-4735-9BF0-F83A0DCC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87E3-EBBE-4D52-93AA-2959E5F9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0C24-3A2C-42DF-A105-8BCE06C89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F77B-E1AA-43FC-AE7B-83C2CE6F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72050-0336-48D3-BAE0-F1579F3B3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9BEB-13F3-49EE-A462-3F366FEDF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9076A-DA45-442B-BB2D-D6E352BE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2F13-F487-4F7E-95BE-2B9638C7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4B7C-1F47-4026-9545-9DE257342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7C501-D1AB-4811-9863-D40364EC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8E31-E3A0-48B3-A7EC-25017EEF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BEFB-2223-4BC2-A3C5-322D879BD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E2A9-9418-4526-8DAB-05F4B9B81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9118-F150-42A9-8764-5DF860C34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A344-CEEA-4D9D-BC21-0ECAD22D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3951-D6CC-4601-A107-DB8BA7B2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341A-40AD-48BE-B322-342FEC1FB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5559-AF92-43F4-B8EC-2DBEFA32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874C-9271-40F3-B5AF-BE1A0557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A3A8-21E7-4D48-84C4-4FC59BC9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E88C7-609E-49D2-BDAF-63BFC18E47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82FD5-98F4-42F5-8DBA-A0011D1BA6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cepal.org/" TargetMode="External"/><Relationship Id="rId2" Type="http://schemas.openxmlformats.org/officeDocument/2006/relationships/hyperlink" Target="mailto:ivan.finot@cepal.org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1320480"/>
            <a:ext cx="7772400" cy="153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99"/>
                </a:solidFill>
                <a:latin typeface="Times New Roman"/>
              </a:rPr>
              <a:t>Descentralización en América Latina: una Propuesta para Conciliar Eficiencia con Equidad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3933720"/>
            <a:ext cx="7772400" cy="1360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ván Finot (NN.UU./CEPAL/ILP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niversidad de Chile - Facultad de Ingeniería - Magíster en Gestión y Políticas Públ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antiago de Chile, 7 de octubre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200" spc="-1" strike="noStrike">
                <a:solidFill>
                  <a:srgbClr val="ff9966"/>
                </a:solidFill>
                <a:latin typeface="Times New Roman"/>
              </a:rPr>
              <a:t>Eficiencia</a:t>
            </a:r>
            <a:br>
              <a:rPr sz="4000"/>
            </a:br>
            <a:r>
              <a:rPr b="0" lang="es-BO" sz="4000" spc="-1" strike="noStrike">
                <a:solidFill>
                  <a:srgbClr val="ffffff"/>
                </a:solidFill>
                <a:latin typeface="Times New Roman"/>
              </a:rPr>
              <a:t>    Mejor Adecuación a Preferencia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amuelson (1954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Mientras la provisión de un bien privado b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j 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= </a:t>
            </a:r>
            <a:r>
              <a:rPr b="0" lang="es-BO" sz="2800" spc="-1" strike="noStrike">
                <a:solidFill>
                  <a:srgbClr val="ffffff"/>
                </a:solidFill>
                <a:latin typeface="Symbol"/>
                <a:ea typeface="Symbol"/>
              </a:rPr>
              <a:t>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 b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1j 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+ b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2j 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+ …  + b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m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m: consumidores de b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 = f (U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ij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 = f (P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/Y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1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La provisión de todos los bienes públicos 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B = f (U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B1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 +U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B2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 + … U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Bn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954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n: todos los ciudada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Bi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 = f  (T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/Y</a:t>
            </a:r>
            <a:r>
              <a:rPr b="0" lang="es-BO" sz="28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400" spc="-1" strike="noStrike">
                <a:solidFill>
                  <a:srgbClr val="ffffff"/>
                </a:solidFill>
                <a:latin typeface="Times New Roman"/>
              </a:rPr>
              <a:t>Mejor Adecuación a Pre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0000" y="194580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Charles Tibout (1956): votar con los p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Vincent Ostrom, Charles Tibout, Robert Warren (1961)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Diferencia entre proveer y produci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Las decisiones sobre provisión serán más eficientes con un sistema policéntric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Wallace Oates (1972): Teorema de la Descentralización: cuando la demanda está diferenciada y sin tomar en cuenta externalidades y economías de escala, la provisión  descentralizada será más eficiente que la centralizada (versión libre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300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400" spc="-1" strike="noStrike">
                <a:solidFill>
                  <a:srgbClr val="ffffff"/>
                </a:solidFill>
                <a:latin typeface="Times New Roman"/>
              </a:rPr>
              <a:t>Implicacion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0000" y="1557360"/>
            <a:ext cx="77724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Supuestos no explícitos sobre revelación de preferencias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Los ciudadanos pueden comparar beneficios con costos = impuest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Derecho de autoimposició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Programas de gobierno explicitan cost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Los electos representan adecuadamente las preferencias de los elector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Supuesto explícito (Oates): la provisión será tanto más eficiente cuanto mejor correspondan las circuncripciones políticas con la diferenciación de la demand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600" spc="-1" strike="noStrike">
                <a:solidFill>
                  <a:srgbClr val="ffffff"/>
                </a:solidFill>
                <a:latin typeface="Times New Roman"/>
              </a:rPr>
              <a:t>Acercamiento al ciudadano y asociativismo territori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2560" y="422280"/>
            <a:ext cx="74120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Descentralización Polític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799308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26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Transferencia de decisiones políticas sobre asignaciones y financiamiento a </a:t>
            </a:r>
            <a:r>
              <a:rPr b="0" lang="es-ES_tradnl" sz="2600" spc="-1" strike="noStrike">
                <a:solidFill>
                  <a:srgbClr val="ff9966"/>
                </a:solidFill>
                <a:latin typeface="Times New Roman"/>
              </a:rPr>
              <a:t>procesos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democráticos subnacionales (jurídicamente, a gobierno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Lo fiscal: sólo un aspect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Ingresos: contribuciones ciudadanas a cada nivel de solución (errores de cuantificación!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Transferencias: ecualización de derech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Es conveniente descentralizar los procesos de decisión sobre provisión cuando la demanda está geográficamente diferenciada por aspectos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Físic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Cultur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Productiv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11000" y="337680"/>
            <a:ext cx="8280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Competencias Descentralizables Políticamente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1240" y="1844640"/>
            <a:ext cx="70866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manda geográficamente diferenci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Uso de suel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Organización territorial de la prestación de servici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Infraestructura básica y servicios públic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Definición de contenidos de servicios de educación (y salud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ase del desarrollo local/regional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sarrollo económico (competitivida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ejoramiento del hábit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Descentralización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Operativ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2068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roceso de asignación político-administrativa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Decisión (polític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00"/>
                </a:solidFill>
                <a:latin typeface="Times New Roman"/>
              </a:rPr>
              <a:t>Ejecución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(administrativ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ara responder mejor por algunas funciones que les competen, los gobiernos centrales transfieren parte de la </a:t>
            </a:r>
            <a:r>
              <a:rPr b="0" lang="es-ES" sz="2600" spc="-1" strike="noStrike">
                <a:solidFill>
                  <a:srgbClr val="ffff66"/>
                </a:solidFill>
                <a:latin typeface="Times New Roman"/>
              </a:rPr>
              <a:t>ejecución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 de sus decisiones sobre asignación, a administraciones locales a través de sus respectivos gobiernos. Ej. Subsidios soci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Dando lugar a una relación “</a:t>
            </a:r>
            <a:r>
              <a:rPr b="0" lang="es-ES" sz="2600" spc="-1" strike="noStrike">
                <a:solidFill>
                  <a:srgbClr val="ffff66"/>
                </a:solidFill>
                <a:latin typeface="Times New Roman"/>
              </a:rPr>
              <a:t>principal - agente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”: ventajas de información pero conflicto de interese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66"/>
                </a:solidFill>
                <a:latin typeface="Times New Roman"/>
              </a:rPr>
              <a:t>Descentralización Operativa</a:t>
            </a:r>
            <a:r>
              <a:rPr b="0" lang="es-ES" sz="26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descentralización de la ejecución de decisiones políticas centrales, </a:t>
            </a:r>
            <a:r>
              <a:rPr b="0" lang="es-ES" sz="2600" spc="-1" strike="noStrike" u="sng">
                <a:solidFill>
                  <a:srgbClr val="ffffff"/>
                </a:solidFill>
                <a:uFillTx/>
                <a:latin typeface="Times New Roman"/>
              </a:rPr>
              <a:t>a gobiernos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 “locales” ( = “descentralización administrativa a gobiernos” </a:t>
            </a:r>
            <a:r>
              <a:rPr b="0" lang="es-ES" sz="26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 delegació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5410080"/>
            <a:ext cx="817884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76" name=""/>
          <p:cNvCxnSpPr>
            <a:stCxn id="177" idx="2"/>
            <a:endCxn id="178" idx="1"/>
          </p:cNvCxnSpPr>
          <p:nvPr/>
        </p:nvCxnSpPr>
        <p:spPr>
          <a:xfrm>
            <a:off x="4686480" y="2362320"/>
            <a:ext cx="1638720" cy="35056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3352680" y="1828800"/>
            <a:ext cx="2667240" cy="53352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o centraliz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638680" y="4419720"/>
            <a:ext cx="2210040" cy="685800"/>
          </a:xfrm>
          <a:prstGeom prst="rect">
            <a:avLst/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centraliz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2362320"/>
            <a:ext cx="685800" cy="20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77880" y="2860560"/>
            <a:ext cx="266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ccff"/>
                </a:solidFill>
                <a:latin typeface="Times New Roman"/>
              </a:rPr>
              <a:t>Desc. Polí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ccff"/>
                </a:solidFill>
                <a:latin typeface="Times New Roman"/>
              </a:rPr>
              <a:t>Decisiones polí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12960" y="125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609480"/>
            <a:ext cx="648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ntique Olive"/>
              </a:rPr>
              <a:t>Descentralización Política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ntique Olive"/>
              </a:rPr>
              <a:t>Descentralización Oper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1280" y="2819520"/>
            <a:ext cx="205740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minist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5562720"/>
            <a:ext cx="2133720" cy="6094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ministr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c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76720" y="36576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66"/>
                </a:solidFill>
                <a:latin typeface="Times New Roman"/>
              </a:rPr>
              <a:t>Desc. Oper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ffff66"/>
                </a:solidFill>
                <a:latin typeface="Times New Roman"/>
              </a:rPr>
              <a:t>Decisiones administrati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9966"/>
                </a:solidFill>
                <a:latin typeface="Times New Roman"/>
              </a:rPr>
              <a:t>Equidad</a:t>
            </a:r>
            <a:br>
              <a:rPr sz="2800"/>
            </a:br>
            <a:r>
              <a:rPr b="0" lang="es-ES" sz="2800" spc="-1" strike="noStrike">
                <a:solidFill>
                  <a:srgbClr val="ff9966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ff9966"/>
                </a:solidFill>
                <a:latin typeface="Times New Roman"/>
              </a:rPr>
              <a:t>	</a:t>
            </a:r>
            <a:r>
              <a:rPr b="0" lang="es-ES" sz="4000" spc="-1" strike="noStrike">
                <a:solidFill>
                  <a:srgbClr val="00ffff"/>
                </a:solidFill>
                <a:latin typeface="Times New Roman"/>
              </a:rPr>
              <a:t>Transferencias</a:t>
            </a: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ransferencias: entregas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en dinero y/o en servicio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para reducir desigual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erritoriales: de gobierno a gobier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ociales: de gobiernos a personas (subsidios) y a organizaciones (subvencion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Territoriales (Oat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No condicionada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: para compensar diferencias en ingresos públicos (por habitant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Condicionadas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: para igualar nivel de provisión de algunos servicios (socia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53720" y="498240"/>
            <a:ext cx="7550280" cy="113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Tipos de Transferencias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619280" y="2852640"/>
          <a:ext cx="6389640" cy="3168720"/>
        </p:xfrm>
        <a:graphic>
          <a:graphicData uri="http://schemas.openxmlformats.org/drawingml/2006/table">
            <a:tbl>
              <a:tblPr/>
              <a:tblGrid>
                <a:gridCol w="1131840"/>
                <a:gridCol w="990720"/>
                <a:gridCol w="2209680"/>
                <a:gridCol w="2057400"/>
              </a:tblGrid>
              <a:tr h="52056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diciona-miento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 aporte local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gún uso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1187280" y="1670040"/>
            <a:ext cx="76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a condiciones de eficiencia: es conveniente  diferenciar entre dos tipos de condicionamien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498240"/>
            <a:ext cx="8077320" cy="113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Transferencias y Tipos de Descentralización                         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619280" y="1989000"/>
          <a:ext cx="6389640" cy="4364280"/>
        </p:xfrm>
        <a:graphic>
          <a:graphicData uri="http://schemas.openxmlformats.org/drawingml/2006/table">
            <a:tbl>
              <a:tblPr/>
              <a:tblGrid>
                <a:gridCol w="1131840"/>
                <a:gridCol w="990720"/>
                <a:gridCol w="2209680"/>
                <a:gridCol w="2057400"/>
              </a:tblGrid>
              <a:tr h="52056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diciona-miento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l aporte local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95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gún uso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. Política del Gasto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entralización Polític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9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. Política 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Operativ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. Operativa &gt; Política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400" spc="-1" strike="noStrike">
                <a:solidFill>
                  <a:srgbClr val="00ffff"/>
                </a:solidFill>
                <a:latin typeface="Times New Roman"/>
              </a:rPr>
              <a:t>El Problem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0000" y="1557000"/>
            <a:ext cx="777240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La autonomía de las localidades es indispensable para favorecer identidad </a:t>
            </a:r>
            <a:r>
              <a:rPr b="0" lang="es-BO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 diferenciación productiva </a:t>
            </a:r>
            <a:r>
              <a:rPr b="0" lang="es-BO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 competitiv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Pero en los procesos de descentralización de la región </a:t>
            </a:r>
            <a:r>
              <a:rPr b="0" lang="es-BO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 se tiende a favorecer la autonomía 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Centralismos intermedios en países federales (excepto Brasil) y aun unitarios (Chile, Ecuador, Paragua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Gobiernos municipales ejecutores de políticas sociales nacion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Riesgos que refuerzan el centralism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Insostenibilidad financi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Aumentar en vez de disminuir la inequ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¿Cómo hacer viable la autonomía local con sostenibilidad y equidad social y territorial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11000" y="498600"/>
            <a:ext cx="8280360" cy="120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ff99"/>
                </a:solidFill>
                <a:latin typeface="Times New Roman"/>
              </a:rPr>
              <a:t>Descentralización Económic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12880" y="1989000"/>
            <a:ext cx="79358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ransferencia de la decisión sobre cómo producir, </a:t>
            </a:r>
            <a:r>
              <a:rPr b="0" lang="es-ES_trad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desde procesos político-administrativos a la competencia económic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75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Times New Roman"/>
              </a:rPr>
              <a:t>Forma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Externalización: contratación de obras y servici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Concesión: privatización tempor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66"/>
                </a:solidFill>
                <a:latin typeface="Times New Roman"/>
              </a:rPr>
              <a:t>Apertura (“desregulación”): exposición de producción pública a la competencia de establecimientos no públicos. Ej. en Colombia, telecomunicaciones, salud; en Chile, educació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447920" indent="-53352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66"/>
                </a:solidFill>
                <a:latin typeface="Times New Roman"/>
              </a:rPr>
              <a:t>Implica: descentralización hasta establecimien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16000" y="498600"/>
            <a:ext cx="7416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Condiciones de Eficiencia y Equidad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42920" y="2035080"/>
            <a:ext cx="7920000" cy="40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la descentralización económic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cc99ff"/>
              </a:buClr>
              <a:buSzPct val="60000"/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finición pública de la deman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cc99ff"/>
              </a:buClr>
              <a:buSzPct val="60000"/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currencia individual en la ofer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dición para la 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eficienci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mpetencia: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regulación, transparencia, control efectivo (incluido de calida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aso especial: monopolios naturales (red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dición para 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equidad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: subvenciones y subsid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648320" y="1371600"/>
            <a:ext cx="1600200" cy="350532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838080"/>
            <a:ext cx="236196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obierno Cent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638680" y="3429000"/>
            <a:ext cx="1981440" cy="68580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obie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124080" y="5791320"/>
            <a:ext cx="3200400" cy="609480"/>
          </a:xfrm>
          <a:prstGeom prst="rect">
            <a:avLst/>
          </a:prstGeom>
          <a:solidFill>
            <a:srgbClr val="cc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tores Exter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638680" y="1371600"/>
            <a:ext cx="914400" cy="2057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63960" y="1422000"/>
            <a:ext cx="5040" cy="4367880"/>
          </a:xfrm>
          <a:prstGeom prst="line">
            <a:avLst/>
          </a:prstGeom>
          <a:ln w="12600">
            <a:solidFill>
              <a:srgbClr val="99ff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6172200" y="4114800"/>
            <a:ext cx="914400" cy="1676520"/>
          </a:xfrm>
          <a:prstGeom prst="line">
            <a:avLst/>
          </a:prstGeom>
          <a:ln w="12600">
            <a:solidFill>
              <a:srgbClr val="99ff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80040" y="1870200"/>
            <a:ext cx="19256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Desc. Política</a:t>
            </a:r>
            <a:r>
              <a:rPr b="1" i="1" lang="es-ES_tradnl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Decisiones polít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95280" y="4191120"/>
            <a:ext cx="25146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33"/>
                </a:solidFill>
                <a:latin typeface="Times New Roman"/>
              </a:rPr>
              <a:t>Desc. Económica</a:t>
            </a:r>
            <a:r>
              <a:rPr b="1" i="1" lang="es-ES_tradnl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Decisiones sobre produ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12960" y="26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22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65280" y="204840"/>
            <a:ext cx="45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ntique Olive"/>
              </a:rPr>
              <a:t>Formas de Descentr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1828800"/>
            <a:ext cx="205740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minist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4572000"/>
            <a:ext cx="2133720" cy="60948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minist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6200" y="2666880"/>
            <a:ext cx="18288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99"/>
                </a:solidFill>
                <a:latin typeface="Times New Roman"/>
              </a:rPr>
              <a:t>Desc. Operativa</a:t>
            </a:r>
            <a:r>
              <a:rPr b="1" i="1" lang="es-ES_tradnl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1" i="1" lang="es-ES_tradnl" sz="2000" spc="-1" strike="noStrike">
                <a:solidFill>
                  <a:srgbClr val="ffffff"/>
                </a:solidFill>
                <a:latin typeface="Times New Roman"/>
              </a:rPr>
              <a:t>Decisiones administrativ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47920" y="188640"/>
            <a:ext cx="67960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Descentralización en América Latin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30200" y="2133360"/>
            <a:ext cx="7129440" cy="3671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scentralización de la provis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Gas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Ingresos propi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Transferenc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ndiciones de eficiencia y equ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escentralización de la producción (</a:t>
            </a:r>
            <a:r>
              <a:rPr b="0" lang="es-ES" sz="3200" spc="-1" strike="noStrike">
                <a:solidFill>
                  <a:srgbClr val="ff9966"/>
                </a:solidFill>
                <a:latin typeface="Symbol"/>
                <a:ea typeface="Symbol"/>
              </a:rPr>
              <a:t>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43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Times New Roman"/>
              </a:rPr>
              <a:t>Descentralización de la Provisión</a:t>
            </a:r>
            <a:br>
              <a:rPr sz="4000"/>
            </a:br>
            <a:r>
              <a:rPr b="0" lang="es-BO" sz="40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BO" sz="4000" spc="-1" strike="noStrike">
                <a:solidFill>
                  <a:srgbClr val="00ffff"/>
                </a:solidFill>
                <a:latin typeface="Times New Roman"/>
              </a:rPr>
              <a:t>Distribución de Competencia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047600" y="1484280"/>
          <a:ext cx="7772400" cy="5103720"/>
        </p:xfrm>
        <a:graphic>
          <a:graphicData uri="http://schemas.openxmlformats.org/drawingml/2006/table">
            <a:tbl>
              <a:tblPr/>
              <a:tblGrid>
                <a:gridCol w="1111320"/>
                <a:gridCol w="1109520"/>
                <a:gridCol w="1111320"/>
                <a:gridCol w="1108080"/>
                <a:gridCol w="1111320"/>
                <a:gridCol w="1109520"/>
                <a:gridCol w="1111320"/>
              </a:tblGrid>
              <a:tr h="63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Comp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Argen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Brasi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Méx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Boliv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Ch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Colomb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 u="sng">
                          <a:solidFill>
                            <a:srgbClr val="ffff66"/>
                          </a:solidFill>
                          <a:uFillTx/>
                          <a:latin typeface="Times New Roman"/>
                        </a:rPr>
                        <a:t>Infraest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vin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(Deptos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Munic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Munic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 u="sng">
                          <a:solidFill>
                            <a:srgbClr val="ffff66"/>
                          </a:solidFill>
                          <a:uFillTx/>
                          <a:latin typeface="Times New Roman"/>
                        </a:rPr>
                        <a:t>Educ.: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Infraestr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vin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(Deptos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 u="sng">
                          <a:solidFill>
                            <a:srgbClr val="ffff66"/>
                          </a:solidFill>
                          <a:uFillTx/>
                          <a:latin typeface="Times New Roman"/>
                        </a:rPr>
                        <a:t>Salud P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Infraestr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vin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(Deptos.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3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 u="sng">
                          <a:solidFill>
                            <a:srgbClr val="ffff66"/>
                          </a:solidFill>
                          <a:uFillTx/>
                          <a:latin typeface="Times New Roman"/>
                        </a:rPr>
                        <a:t>Salud Secun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ovin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Munic.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stado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00ffff"/>
                          </a:solidFill>
                          <a:latin typeface="Times New Roman"/>
                        </a:rPr>
                        <a:t>Muni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76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Participación en el Gasto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00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38280" y="64008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* Excepto Brasil: 1991-1998, y México: 1991-2000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3824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0512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1066680" y="1690560"/>
          <a:ext cx="7467840" cy="454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690560"/>
                    <a:ext cx="746784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200" spc="-1" strike="noStrike">
                <a:solidFill>
                  <a:srgbClr val="00ffff"/>
                </a:solidFill>
                <a:latin typeface="Times New Roman"/>
              </a:rPr>
              <a:t>Ingresos Propios</a:t>
            </a:r>
            <a:br>
              <a:rPr sz="3600"/>
            </a:br>
            <a:r>
              <a:rPr b="0" lang="es-BO" sz="36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Bases de los Principales Impuestos </a:t>
            </a: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Subnacionales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468360" y="1946160"/>
          <a:ext cx="8474040" cy="3984840"/>
        </p:xfrm>
        <a:graphic>
          <a:graphicData uri="http://schemas.openxmlformats.org/drawingml/2006/table">
            <a:tbl>
              <a:tblPr/>
              <a:tblGrid>
                <a:gridCol w="1224000"/>
                <a:gridCol w="1144440"/>
                <a:gridCol w="1222560"/>
                <a:gridCol w="1218960"/>
                <a:gridCol w="1222560"/>
                <a:gridCol w="1218960"/>
                <a:gridCol w="1222560"/>
              </a:tblGrid>
              <a:tr h="759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Ni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Argent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Brasi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Méx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Boliv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Chi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Colomb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57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Intermed.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gresos Brutos de las Empresa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Produc. Hidroc. *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Venta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Vehículo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gresos Personal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Produc. Hidroc. *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Produc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ner. *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Produc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iner. *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cor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asolin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Produc. Hidroc. *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4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cccc"/>
                          </a:solidFill>
                          <a:latin typeface="Times New Roman"/>
                        </a:rPr>
                        <a:t>Municipal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muebl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muebl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muebl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muebl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Inmueble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ículo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ículo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ículo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Vehículos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"/>
          <p:cNvSpPr/>
          <p:nvPr/>
        </p:nvSpPr>
        <p:spPr>
          <a:xfrm>
            <a:off x="1692360" y="6237360"/>
            <a:ext cx="68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ffff"/>
                </a:solidFill>
                <a:latin typeface="Times New Roman"/>
              </a:rPr>
              <a:t>* Regalías no son impues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75960"/>
            <a:ext cx="8820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Participación en los Ingresos Fiscal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393920" y="6545160"/>
            <a:ext cx="272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14600" y="61722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* Excepto Brasil: 1991-1998, y México: 1991-2000.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990720" y="1582560"/>
          <a:ext cx="7696080" cy="445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582560"/>
                    <a:ext cx="7696080" cy="44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Observaciones sobre Ingreso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700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scasa capacidad de generación de ingres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imitaciones a la autoimposi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Exención de impues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Limitaciones para alícuot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Concentración de la riquez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No contabilización de contribuciones voluntar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7040" y="304560"/>
            <a:ext cx="710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Contribuciones no Contabilizada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6560" y="1531440"/>
            <a:ext cx="8115480" cy="477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portes ciudadanos voluntarios a la generación de bienes públicos a través de sus organizaciones, en “tiempo”, trabajo, especie, din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este caso se cumple la condición de eficiencia: se decide gastos sobre la base de apor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stos aportes llegan a ser muy importantes pero no suelen ser contabilizado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xcepto en fondos de desarrollo y presupuestos participativos, pero no son tomados en cuenta en la contabilidad fis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76320" y="772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nfoqu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50560" y="2379600"/>
            <a:ext cx="664236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nálisis teór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El problema de la asign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Descentralización de la provisión: eficiencia y equ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Descentralización de la producción de bienes provistos pública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scentralización en América Lat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ineamientos para Conciliar Eficiencia con Equ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763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200" spc="-1" strike="noStrike">
                <a:solidFill>
                  <a:srgbClr val="00ffff"/>
                </a:solidFill>
                <a:latin typeface="Times New Roman"/>
              </a:rPr>
              <a:t>Sistemas de Transferencias Territoriales</a:t>
            </a:r>
            <a:br>
              <a:rPr sz="3200"/>
            </a:br>
            <a:r>
              <a:rPr b="0" lang="es-BO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BO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BO" sz="3200" spc="-1" strike="noStrike">
                <a:solidFill>
                  <a:srgbClr val="00ffff"/>
                </a:solidFill>
                <a:latin typeface="Times New Roman"/>
              </a:rPr>
              <a:t>	</a:t>
            </a:r>
            <a:r>
              <a:rPr b="0" lang="es-BO" sz="3600" spc="-1" strike="noStrike">
                <a:solidFill>
                  <a:srgbClr val="ffffff"/>
                </a:solidFill>
                <a:latin typeface="Times New Roman"/>
              </a:rPr>
              <a:t>Financiamiento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70000" y="1628640"/>
            <a:ext cx="77724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Transferencias territori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66"/>
                </a:solidFill>
                <a:latin typeface="Times New Roman"/>
              </a:rPr>
              <a:t>Básicas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: en principio de libre disponi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Destin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Básicas: aproximadamente un 20% sobre </a:t>
            </a:r>
            <a:r>
              <a:rPr b="0" lang="es-BO" sz="2800" spc="-1" strike="noStrike" u="sng">
                <a:solidFill>
                  <a:srgbClr val="ffffff"/>
                </a:solidFill>
                <a:uFillTx/>
                <a:latin typeface="Times New Roman"/>
              </a:rPr>
              <a:t>todos</a:t>
            </a: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 los impuestos nacionales 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(Ver Anexos 1 y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Excepciones importantes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Brasil (estados y municipios): sólo sobre impuestos a la renta y a la producción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Chile: sólo sobre impuestos municipales + monto adi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ffff"/>
                </a:solidFill>
                <a:latin typeface="Times New Roman"/>
              </a:rPr>
              <a:t>Colombia: sobre PIB de largo plaz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1066680" y="3789360"/>
            <a:ext cx="3353040" cy="2306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1884240"/>
            <a:ext cx="3353040" cy="19051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884240"/>
            <a:ext cx="2971800" cy="190512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4419720" y="1676520"/>
            <a:ext cx="0" cy="502920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2298600"/>
            <a:ext cx="990720" cy="3988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19320" y="3809880"/>
            <a:ext cx="3200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90640" y="3789360"/>
            <a:ext cx="6705720" cy="0"/>
          </a:xfrm>
          <a:prstGeom prst="line">
            <a:avLst/>
          </a:prstGeom>
          <a:ln cap="sq" w="28440">
            <a:solidFill>
              <a:srgbClr val="ffff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467480" y="3352680"/>
            <a:ext cx="16002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imes New Roman"/>
              </a:rPr>
              <a:t>Vinculación con esfuerzo loc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1219320"/>
            <a:ext cx="1600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ffffff"/>
                </a:solidFill>
                <a:latin typeface="Times New Roman"/>
              </a:rPr>
              <a:t>Autonomía de ga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56120" y="1898640"/>
            <a:ext cx="1524240" cy="581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Méx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Ramo 28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932360" y="5162400"/>
            <a:ext cx="2209680" cy="70380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Fondos de Cofinanci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00200" y="3019320"/>
            <a:ext cx="9907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ras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95680" y="15238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335268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197160" y="4952880"/>
            <a:ext cx="1298520" cy="3988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3657600"/>
            <a:ext cx="1143000" cy="3988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19320" y="5838840"/>
            <a:ext cx="3200400" cy="94716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000000"/>
                </a:solidFill>
                <a:latin typeface="Times New Roman"/>
              </a:rPr>
              <a:t>Financiamiento Directo de Servicios Sociales: </a:t>
            </a:r>
            <a:r>
              <a:rPr b="1" i="1" lang="es-ES" sz="1600" spc="-1" strike="noStrike">
                <a:solidFill>
                  <a:srgbClr val="000000"/>
                </a:solidFill>
                <a:latin typeface="Times New Roman"/>
              </a:rPr>
              <a:t>Colombia, Chile, (Brasil, México)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36800" y="2443320"/>
            <a:ext cx="144792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20880" y="137160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245360" y="137160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5960" y="609588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280280" y="6095880"/>
            <a:ext cx="333000" cy="45972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3933720"/>
            <a:ext cx="11430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62920" y="374796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419720" y="6172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00360" y="253224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706840" y="5352480"/>
            <a:ext cx="278280" cy="38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6964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ffffff"/>
                </a:solidFill>
                <a:latin typeface="Times New Roman"/>
              </a:rPr>
              <a:t>Sistemas de Transferencias</a:t>
            </a:r>
            <a:br>
              <a:rPr sz="2000"/>
            </a:br>
            <a:r>
              <a:rPr b="0" lang="es-BO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BO" sz="3200" spc="-1" strike="noStrike">
                <a:solidFill>
                  <a:srgbClr val="ffffff"/>
                </a:solidFill>
                <a:latin typeface="Times New Roman"/>
              </a:rPr>
              <a:t>Síntesis y Tendencia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48000" y="5442120"/>
            <a:ext cx="1219320" cy="3376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200400" y="4365720"/>
            <a:ext cx="1371600" cy="3988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olomb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1952640"/>
            <a:ext cx="1218960" cy="3376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19640" y="4869000"/>
            <a:ext cx="1143000" cy="398880"/>
          </a:xfrm>
          <a:prstGeom prst="rect">
            <a:avLst/>
          </a:prstGeom>
          <a:solidFill>
            <a:srgbClr val="cc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oliv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954920" y="5686560"/>
            <a:ext cx="10810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Times New Roman"/>
              </a:rPr>
              <a:t>Bás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812000" y="6165720"/>
            <a:ext cx="1332000" cy="398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BO" sz="2000" spc="-1" strike="noStrike">
                <a:solidFill>
                  <a:srgbClr val="000000"/>
                </a:solidFill>
                <a:latin typeface="Times New Roman"/>
              </a:rPr>
              <a:t>Asignad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737240" y="4436640"/>
            <a:ext cx="215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14000" y="4037400"/>
            <a:ext cx="8280" cy="29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843280" y="1916280"/>
            <a:ext cx="1447560" cy="39888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Argen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56000" y="2133720"/>
            <a:ext cx="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812000" y="5589720"/>
            <a:ext cx="1332000" cy="1079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2362320"/>
            <a:ext cx="228600" cy="4572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¿Mejor Adecuación a Preferencias?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9080" y="1341360"/>
            <a:ext cx="7704000" cy="5184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52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Escaso acercamiento a niveles más próximos al ciudadano (submunicipales) o proliferación de administraciones municipales con ausencia de estímulos (eficaces) para la asoci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52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os sistemas de financiamiento no inducen gasto vinculado con aportes, posible sólo en (pocas) circunscripciones “ricas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70000"/>
              </a:lnSpc>
              <a:spcBef>
                <a:spcPts val="52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La mayoría de los gobiernos municipales son agentes de gobiernos centrales &gt; cabezas de autonomías (excepción relativa: Brasil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70000"/>
              </a:lnSpc>
              <a:spcBef>
                <a:spcPts val="524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Representación de preferencias: desigual (no democrátic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70000"/>
              </a:lnSpc>
              <a:spcBef>
                <a:spcPts val="52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icipación política: el sistema electoral municipal no permite adecuada representación de preferencias ciudadan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70000"/>
              </a:lnSpc>
              <a:spcBef>
                <a:spcPts val="52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icipación social: sectores privilegia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16000" y="315720"/>
            <a:ext cx="7632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Para Conciliar Eficiencia con Equida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122200" y="2204640"/>
            <a:ext cx="5545080" cy="360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Diferenciaciones básic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istemas de transferenci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rofundización y adecu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articipación y autonom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Resultados espera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Diferenciaciones Básic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17440" y="1371240"/>
            <a:ext cx="77025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la demanda de bienes públicos descentralizables, diferenciar entre servicios de infraestructura básica y servicios socia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7c80"/>
                </a:solidFill>
                <a:latin typeface="Times New Roman"/>
              </a:rPr>
              <a:t>Infraestructura básica y servicios públic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Qué y cuánto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: Demanda diferencia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Servicios de educación y salud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Qué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aspectos cualitativos):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demanda diferenciada</a:t>
            </a: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ffffff"/>
                </a:solidFill>
                <a:latin typeface="Times New Roman"/>
              </a:rPr>
              <a:t>Cuánto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(aspectos cuantitativos: niveles): </a:t>
            </a:r>
            <a:r>
              <a:rPr b="0" lang="es-ES_tradnl" sz="2800" spc="-1" strike="noStrike">
                <a:solidFill>
                  <a:srgbClr val="ffff66"/>
                </a:solidFill>
                <a:latin typeface="Times New Roman"/>
              </a:rPr>
              <a:t>demanda igual! (Derechos socia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ferenciación establecida en México y ahora, nítidamente, en Colombia (2001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676520" y="228600"/>
            <a:ext cx="670536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Sistemas de Transferenci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23800" y="1066680"/>
            <a:ext cx="85122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Tender a transformar los actuales sistemas de transferencias en dos sistemas</a:t>
            </a:r>
            <a:r>
              <a:rPr b="0" lang="es-ES_tradnl" sz="2600" spc="-1" strike="noStrike">
                <a:solidFill>
                  <a:srgbClr val="ffff00"/>
                </a:solidFill>
                <a:latin typeface="Times New Roman"/>
              </a:rPr>
              <a:t> subsidiarios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1) Sistema de ecualización de derechos sociales: respecto a ingresos familiares y objetivos nacionales, </a:t>
            </a:r>
            <a:r>
              <a:rPr b="0" lang="es-ES_tradnl" sz="2600" spc="-1" strike="noStrike">
                <a:solidFill>
                  <a:srgbClr val="00ffff"/>
                </a:solidFill>
                <a:latin typeface="Times New Roman"/>
              </a:rPr>
              <a:t>integrado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 y operado por gobiernos subnacionales (Colombia, Chile parcialmente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2) Sistema de ecualización del derecho a proveerse bienes locales 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s-ES_tradnl" sz="2600" spc="-1" strike="noStrike">
                <a:solidFill>
                  <a:srgbClr val="ffffff"/>
                </a:solidFill>
                <a:latin typeface="Times New Roman"/>
              </a:rPr>
              <a:t>sobre experiencia de México y Europa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ransferencias de libre disponibilidad proporcionales a los aportes locales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relativos</a:t>
            </a:r>
            <a:r>
              <a:rPr b="0" lang="es-ES_tradnl" sz="2400" spc="-1" strike="noStrike">
                <a:solidFill>
                  <a:srgbClr val="cc0099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respecto a ingresos geográficos o niveles de pobrez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Incluir contribuciones no contabilizadas (cuantificadas por Fondos de Desarrollo),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hora en legislación de Guatema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3538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Profundización y Adecuaci</a:t>
            </a:r>
            <a:r>
              <a:rPr b="0" lang="es-BO" sz="4000" spc="-1" strike="noStrike">
                <a:solidFill>
                  <a:srgbClr val="ffffff"/>
                </a:solidFill>
                <a:latin typeface="Times New Roman"/>
              </a:rPr>
              <a:t>ó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29800" y="1368360"/>
            <a:ext cx="827892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En países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unitarios y federale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nformar procesos de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decisión autónoma en niveles submuncipale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: elección de representantes y ejecutivos, transferencia de potestades y recursos (Ej. Ecuado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centivar -a través de transferencias territoriales– la formación de consorcios municipales (públicos en Brasil) 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en función de configuración de demandas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(análisis regional!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ransferir potestades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y transferencias de tipo I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a estos consorcios regionales, 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públicos pero temporales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, para concertación del Desarrollo Local/Regional sobre la base 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lanes de uso del suelo y organización de servicios (incluidos social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ovisión de infraestructura básica y servicios públ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finición de contenidos de educación y capaci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680" y="152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Participación y Autonomía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12520" y="1111320"/>
            <a:ext cx="8367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icipación política y mayor autonomía fisc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66"/>
                </a:solidFill>
                <a:latin typeface="Times New Roman"/>
              </a:rPr>
              <a:t>Sistema territorial</a:t>
            </a: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 para elección de representantes en el nivel local, con obligación de informarse e informar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otestades de autoimposición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ara modificar alícuotas (para impuestos sobre inmuebles, externalización de avalúo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4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egalización y contabilización de cuasi-impuest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resupuestación participativa y consulta obligatoria para endeudamiento a partir de límit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Participación social: incentivarla pero subordinarla a participación política reformada (punto anterio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Sistemas de información: asequible, de base y de gest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66"/>
                </a:solidFill>
                <a:latin typeface="Times New Roman"/>
              </a:rPr>
              <a:t>Resultados Esperado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2280" y="1523520"/>
            <a:ext cx="751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Viabilización del desarrollo local/regional: mayor 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competitividad económica nacio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ayor equidad social y territorial: 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igualdad de oportun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Desarrollo de 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ciudadaní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ayor </a:t>
            </a:r>
            <a:r>
              <a:rPr b="0" lang="es-ES" sz="2800" spc="-1" strike="noStrike">
                <a:solidFill>
                  <a:srgbClr val="ffff66"/>
                </a:solidFill>
                <a:latin typeface="Times New Roman"/>
              </a:rPr>
              <a:t>eficiencia fiscal y administrativa, reducción de la corrup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Pero se afectarían intereses políticos actuales (élites locales, partidos): viabilidad  depende de debate y consenso para reforma estructu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ff"/>
                </a:solidFill>
                <a:latin typeface="Times New Roman"/>
              </a:rPr>
              <a:t>Lecturas Recomendada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71280" y="1523880"/>
            <a:ext cx="78483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obre descentralización político-fisc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Oates, Wallace (1972).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Fiscal federalism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(Trad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obre descentralización económic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Bennett, Robert (1990).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Decentralization, governments and markets: towards a post-welfare agend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(Oxfor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artner, Gonzalo (1999). 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Gobernar el mercado, las nuevas fronteras del Estado en el siglo XXI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(LOM – Santiago de Chil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l autor: en 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epal.o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2001:</a:t>
            </a:r>
            <a:r>
              <a:rPr b="0" i="1" lang="es-ES" sz="2400" spc="-1" strike="noStrike">
                <a:solidFill>
                  <a:srgbClr val="ffffff"/>
                </a:solidFill>
                <a:latin typeface="Times New Roman"/>
              </a:rPr>
              <a:t> Descentralización en América Latina: teoría y práctic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. Serie Gestión Pública 12. CE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2005: “Descentralización, transferencias territoriales y desarrollo local” </a:t>
            </a:r>
            <a:r>
              <a:rPr b="0" i="1" lang="es-ES" sz="2400" spc="-1" strike="noStrike">
                <a:solidFill>
                  <a:srgbClr val="ffff66"/>
                </a:solidFill>
                <a:latin typeface="Times New Roman"/>
              </a:rPr>
              <a:t>Revista de la CEPAL 86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 (Agost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9966"/>
                </a:solidFill>
                <a:latin typeface="Times New Roman"/>
              </a:rPr>
              <a:t>Comentarios bienvenidos en </a:t>
            </a: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ivan.finot@cepal.org</a:t>
            </a:r>
            <a:r>
              <a:rPr b="0" lang="es-ES" sz="2400" spc="-1" strike="noStrike">
                <a:solidFill>
                  <a:srgbClr val="ff9966"/>
                </a:solidFill>
                <a:latin typeface="Times New Roman"/>
              </a:rPr>
              <a:t> 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720" y="33336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4400" spc="-1" strike="noStrike">
                <a:solidFill>
                  <a:srgbClr val="ff9966"/>
                </a:solidFill>
                <a:latin typeface="Times New Roman"/>
              </a:rPr>
              <a:t>El Problema de la Asignació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52360" y="1339920"/>
            <a:ext cx="7452000" cy="55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La provisión de bienes públicos representa entre un 20 y un 50% del PIB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Las decisiones sob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33480" indent="-47628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Qué, cuánto y 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con qué parte del ingreso ciudadano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proveer bienes públ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33480" indent="-47628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ómo producir: 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qué producir directamente y qué comprar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aprobación de presupuestos A través de procesos político-administra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lnSpc>
                <a:spcPct val="7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on adoptadas a través de procesos político-administra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33480" indent="-47628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Revelación de prefer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18720">
              <a:lnSpc>
                <a:spcPct val="7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Votación: programas (sin referencia a costo!) y representa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33480" indent="-476280">
              <a:lnSpc>
                <a:spcPct val="7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cisiones finales:</a:t>
            </a:r>
            <a:r>
              <a:rPr b="0" lang="es-ES" sz="2400" spc="-1" strike="noStrike">
                <a:solidFill>
                  <a:srgbClr val="ff9966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l aprobar presupue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18720">
              <a:lnSpc>
                <a:spcPct val="6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 través de representa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18720">
              <a:lnSpc>
                <a:spcPct val="6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de una sola ve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18720">
              <a:lnSpc>
                <a:spcPct val="6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ara todos los bienes públ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47600" indent="-18720">
              <a:lnSpc>
                <a:spcPct val="6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l menos por un a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943760" cy="99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400" spc="-1" strike="noStrike">
                <a:solidFill>
                  <a:srgbClr val="ffffff"/>
                </a:solidFill>
                <a:latin typeface="Times New Roman"/>
              </a:rPr>
              <a:t>Dos Tipos de Asignació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70000" y="162828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De las tres funciones económicas fundamentales (estabilidad, redistribución, asignación) sólo es recomendable descentralizar la de asignación (Oates, Musgrav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Pero al aprobar presupuestos se define sobre dos tipos de asign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Asignación 1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BO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ovisión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: qué, cuánto </a:t>
            </a: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y con qué parte del ingreso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 ciudadano prove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66"/>
                </a:solidFill>
                <a:latin typeface="Times New Roman"/>
              </a:rPr>
              <a:t>Asignación 2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BO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oducción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: con qué combinación de factores e insumos producir lo que se va a proveer (incide en “con qué parte del ingreso proveer”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Problemas de Eficiencia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20720" y="1412640"/>
            <a:ext cx="8099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ff"/>
                </a:solidFill>
                <a:latin typeface="Times New Roman"/>
              </a:rPr>
              <a:t>Ineficiencia asignativ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: Diferencia entre lo que se provee y las preferencias ciudadanas (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eneficio/costo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). Caus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Las preferencias individuales son diferentes (y se trata de múltiples bienes y por períodos de tiempo!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redominio de la mayoría (a pesar de representación plural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Políticos y administrativos tienen preferencias propi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Al no haber exclusión, “polizontes”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ff99"/>
                </a:solidFill>
                <a:latin typeface="Times New Roman"/>
              </a:rPr>
              <a:t>Ineficiencia técnic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. Diferencia entre costo efectivo y costo mínimo en asignación 2 político-administrativ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64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Times New Roman"/>
              </a:rPr>
              <a:t>Causa: ausencia de estímulo económico para minimizar cost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15920" y="380880"/>
            <a:ext cx="75945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Problemas Adicional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8720" y="1628280"/>
            <a:ext cx="813600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rrup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60000"/>
              </a:lnSpc>
              <a:spcBef>
                <a:spcPts val="1562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</a:rPr>
              <a:t>Administrativa: coimas </a:t>
            </a:r>
            <a:r>
              <a:rPr b="0" lang="es-ES_tradnl" sz="25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</a:rPr>
              <a:t> mayor ineficiencia técnic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562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ffffff"/>
                </a:solidFill>
                <a:latin typeface="Times New Roman"/>
              </a:rPr>
              <a:t>Política: “comisiones” clientelismo </a:t>
            </a:r>
            <a:r>
              <a:rPr b="0" lang="es-ES_tradnl" sz="25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s-ES_tradnl" sz="2500" spc="-1" strike="noStrike">
                <a:solidFill>
                  <a:srgbClr val="ffffff"/>
                </a:solidFill>
                <a:latin typeface="Times New Roman"/>
              </a:rPr>
              <a:t> caso extremo de  ineficiencia asignativ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entralismo: incluso sin corrupción,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cuanto más centralizadas las decisiones sobre  provi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imes New Roman"/>
              </a:rPr>
              <a:t>Más agregada la demanda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imes New Roman"/>
              </a:rPr>
              <a:t>Más complejos los procesos de asignación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imes New Roman"/>
              </a:rPr>
              <a:t>Mayor costo administrativo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24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Times New Roman"/>
              </a:rPr>
              <a:t>Más difíciles de controlar, más riesgo de corrupción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280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La Descentralización como Solució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1280" y="1294920"/>
            <a:ext cx="8532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6720" indent="-396720">
              <a:lnSpc>
                <a:spcPct val="80000"/>
              </a:lnSpc>
              <a:spcBef>
                <a:spcPts val="326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 u="sng">
                <a:solidFill>
                  <a:srgbClr val="ffffff"/>
                </a:solidFill>
                <a:uFillTx/>
                <a:latin typeface="Times New Roman"/>
              </a:rPr>
              <a:t>Frente a ineficiencia asignativa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6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_tradnl" sz="2600" spc="-1" strike="noStrike">
                <a:solidFill>
                  <a:srgbClr val="ff9966"/>
                </a:solidFill>
                <a:latin typeface="Times New Roman"/>
              </a:rPr>
              <a:t>Descentralización Política</a:t>
            </a:r>
            <a:r>
              <a:rPr b="1" lang="es-ES_tradnl" sz="26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transferencia de decisiones políticas sobre provisión (y producción) a </a:t>
            </a:r>
            <a:r>
              <a:rPr b="1" lang="es-ES_tradnl" sz="2600" spc="-1" strike="noStrike">
                <a:solidFill>
                  <a:srgbClr val="ff9966"/>
                </a:solidFill>
                <a:latin typeface="Times New Roman"/>
              </a:rPr>
              <a:t>procesos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 democráticos subnacion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808200" indent="-297000">
              <a:lnSpc>
                <a:spcPct val="80000"/>
              </a:lnSpc>
              <a:spcBef>
                <a:spcPts val="3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ejor adecuación de la provisión a 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demandas diferenciad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99"/>
                </a:solidFill>
                <a:latin typeface="Times New Roman"/>
              </a:rPr>
              <a:t>territorialm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8200" indent="-297000">
              <a:lnSpc>
                <a:spcPct val="80000"/>
              </a:lnSpc>
              <a:spcBef>
                <a:spcPts val="3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rente a polizontes: mayor disposición a pa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08200" indent="-297000">
              <a:lnSpc>
                <a:spcPct val="80000"/>
              </a:lnSpc>
              <a:spcBef>
                <a:spcPts val="3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ff"/>
                </a:solidFill>
                <a:latin typeface="Times New Roman"/>
              </a:rPr>
              <a:t>Frente a corrupción: mayor control so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96720" indent="-396720">
              <a:lnSpc>
                <a:spcPct val="80000"/>
              </a:lnSpc>
              <a:spcBef>
                <a:spcPts val="326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 u="sng">
                <a:solidFill>
                  <a:srgbClr val="ffffff"/>
                </a:solidFill>
                <a:uFillTx/>
                <a:latin typeface="Times New Roman"/>
              </a:rPr>
              <a:t>Frente a ineficiencia productiva</a:t>
            </a:r>
            <a:r>
              <a:rPr b="0" lang="es-ES_tradnl" sz="2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9672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cc33"/>
                </a:solidFill>
                <a:latin typeface="Times New Roman"/>
              </a:rPr>
              <a:t>	</a:t>
            </a:r>
            <a:r>
              <a:rPr b="1" lang="es-ES_tradnl" sz="2600" spc="-1" strike="noStrike">
                <a:solidFill>
                  <a:srgbClr val="66ff33"/>
                </a:solidFill>
                <a:latin typeface="Times New Roman"/>
              </a:rPr>
              <a:t>Descentralización Económica: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 transferencia de decisiones </a:t>
            </a:r>
            <a:r>
              <a:rPr b="1" lang="es-ES_tradnl" sz="2600" spc="-1" strike="noStrike">
                <a:solidFill>
                  <a:srgbClr val="66ff33"/>
                </a:solidFill>
                <a:latin typeface="Times New Roman"/>
              </a:rPr>
              <a:t>sobre cómo producir</a:t>
            </a:r>
            <a:r>
              <a:rPr b="1" lang="es-ES_tradnl" sz="2600" spc="-1" strike="noStrike">
                <a:solidFill>
                  <a:srgbClr val="ffffff"/>
                </a:solidFill>
                <a:latin typeface="Times New Roman"/>
              </a:rPr>
              <a:t> desde procesos político – administrativos hacia mecanismos de mercad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808200" indent="-297000">
              <a:lnSpc>
                <a:spcPct val="80000"/>
              </a:lnSpc>
              <a:spcBef>
                <a:spcPts val="3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enores costos si se puede garantizar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81160" indent="-2286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et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81160" indent="-2286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qu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1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457200"/>
            <a:ext cx="85327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9966"/>
                </a:solidFill>
                <a:latin typeface="Times New Roman"/>
              </a:rPr>
              <a:t>Descentralización Política</a:t>
            </a:r>
            <a:br>
              <a:rPr sz="3200"/>
            </a:b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Condiciones de Eficiencia y Equida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63640" y="2063520"/>
            <a:ext cx="6553440" cy="3886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diciones de eficie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Mejor adecuación a preferencias geográficamente diferenciad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Beneficios superiores a economías de escala por centraliz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Condiciones de equidad: sistemas de ecualización territorial y social (transferencias: territoriales y socia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2" dur="2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20:28:21Z</dcterms:created>
  <dc:creator>I.Finot</dc:creator>
  <dc:description/>
  <dc:language>en-US</dc:language>
  <cp:lastModifiedBy>JMFINOT</cp:lastModifiedBy>
  <dcterms:modified xsi:type="dcterms:W3CDTF">2005-10-07T15:16:12Z</dcterms:modified>
  <cp:revision>97</cp:revision>
  <dc:subject/>
  <dc:title>Descentralización Fiscal y Financiamiento del Desarrollo Local/Regional</dc:title>
</cp:coreProperties>
</file>