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F312-FCEA-41F1-9622-5621218C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12B0-9B27-443B-828C-82869A8C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5ED9-CF51-4B84-A62F-1AB82779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5B1C-39BB-437D-BD9F-62088F6A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EFD8-450A-40D8-9266-DCF2B769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A26D-25C0-4707-962E-B27D8F35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3D22-74F2-43C3-9395-6C1F9C4C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083D-E311-4029-954B-0AE3E408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52D9-CE82-44AB-AC73-CF9F7E08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62A7-8163-40CC-AD14-050EE9B5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8D55-5CDD-4BB1-9ABE-144BCD18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30B-4470-4D18-A00F-19A37CC2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1203-531F-4D4A-B81D-DB50E784C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ormas Económicas en América La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ardo Ffrench-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533412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-09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ormas Económicas en América La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ardo Ffrench-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33412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-09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5638680"/>
            <a:ext cx="8229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Crecimiento de 2,6% en 1990-2004, mejor que en los 80,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ero muy inferior a los 70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En 1998-2003 hubo un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exenio perdido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 Recuperación en 2004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Necesidad de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Reformar las reforma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de primera gener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5880"/>
            <a:ext cx="8229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Inestabilidad de la economía real causada por flujos de capitales volát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érica Latina: ciclos de median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229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5791320"/>
            <a:ext cx="8229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inestabilidad real implica una baja tasa de utilización de la capacidad productiva, explicando la baja formación de ca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5866920"/>
            <a:ext cx="82296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 de cambio real altamente correlacionado con los movimientos de capi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8:01:34Z</dcterms:created>
  <dc:creator>rheresi</dc:creator>
  <dc:description/>
  <dc:language>en-US</dc:language>
  <cp:lastModifiedBy>rheresi</cp:lastModifiedBy>
  <dcterms:modified xsi:type="dcterms:W3CDTF">2005-09-23T14:53:57Z</dcterms:modified>
  <cp:revision>8</cp:revision>
  <dc:subject/>
  <dc:title>Crecimiento de 2,6% en 1990-2004, mejor que en los 80, pero muy inferior a los 70.    </dc:title>
</cp:coreProperties>
</file>