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F25-D7E0-49CF-8D28-6EA5988E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88B-1272-4958-B932-1AB9CF2A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6FF-6FA6-4CAD-B456-DD25D19E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EDA-2E00-43BF-B526-AAF00B3C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9E5-C22C-4627-800E-650A4EAF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F81-52FE-4405-A00F-C4FA505D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5721-D8FD-477B-88AC-E8AF8F18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049-A119-4A2D-A2C0-A8843C2C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7EF-C038-480E-A5AB-2FAAE893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8F6-630E-4E8F-A74F-DA72A308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FEA-172F-4C5D-A7C0-C0C9867D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DAE-7573-4DFD-9EFE-EF488ED9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27A4-A1E9-443F-AB20-8FBE3E400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638680"/>
            <a:ext cx="8229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Crecimiento de 2,6% en 1990-2004, mejor que en los 80,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ero muy inferior a los 70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En 1998-2003 hubo un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exenio perdid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 Recuperación en 2004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Necesidad de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Reformar las reforma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de primera gener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229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Inestabilidad de la economía real causada por flujos de capitales volá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érica Latina: ciclos de median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791320"/>
            <a:ext cx="8229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inestabilidad real implica una baja tasa de utilización de la capacidad productiva, explicando la baja formación de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229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cambio real altamente correlacionado con los movimientos de capi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01:34Z</dcterms:created>
  <dc:creator>rheresi</dc:creator>
  <dc:description/>
  <dc:language>en-US</dc:language>
  <cp:lastModifiedBy>rheresi</cp:lastModifiedBy>
  <dcterms:modified xsi:type="dcterms:W3CDTF">2005-09-23T14:53:57Z</dcterms:modified>
  <cp:revision>8</cp:revision>
  <dc:subject/>
  <dc:title>Crecimiento de 2,6% en 1990-2004, mejor que en los 80, pero muy inferior a los 70.    </dc:title>
</cp:coreProperties>
</file>